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D3726-2056-4502-B05A-1EBAF8A99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F8766-8A67-41E4-BD25-8FB0E09F1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55EF5-3D49-4082-9309-013F425C4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8899F-FD55-4E39-A790-D7C0D6672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96A25-0C46-4EC4-ABFC-BBB7FAECB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C82F8-C1AA-40EC-994C-98F8E168E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5D1B8-6B7A-4216-9831-97630C040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7E48C-92C5-44CC-AE0B-4C902A7E0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30A19-CA4F-45A1-B559-15BE9BC46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1354-5F84-436A-ACFE-FC3CD2B58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A92B-ABEE-4C5D-98D8-AC6FDF4D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211A6-AD1D-4778-89B1-16B6A76E4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A21A-5560-485A-8CA2-4FD51939D3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TOKSOPLASMO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Dr. Setyoko, SpP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ru. dapat terjadi pneumonitis intersisialis pada pasien neonatus dan pasien imunokomprom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Jantung. Kista dan kumpulan parasit dalam jaringan otot jantung dapat terlihat pada pasien AIDS yang meninggal akibat toksoplasmo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Infeksi toksoplasmosis akut akan menimbulkan rangkaian respons imun yang protektif dalam tubuh pejamu n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Gejala dan tanda</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da individu dengan sistem kekebalan yang utuh, infeksi ini biasanya asimtoatik dan sembuh sendiri.hal ini menyulitkan bila terjadi pada ibu dengan kehamilan. Infeksi kongenital pada anak dapat menyebabkan komplikasi neurologis:hidrosefalus, mikrosefalus, retardasi mental, dan retinokoroiditis. Pada infeksi prenatal berat bdapat terjadi kegagalan multi organ dan kematian jan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Respons imun normal</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Pada toksoplasmosis akut, yang paling sering ditemukan adalah limfadenopati servikal. Bisa tunggal maupun multipel, tidak nyeri dengan kekenyalan bervariasi. Juga dapat dijumpai pada tempat yang lain, bahkan kadang generalis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jumlah kecil penderita yang simptomatik mengalami: mialgia, sakit leher, nyeri abdomen, ruam makulopapuler, meningoensefalitis dan konfus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20-40% pasien dengan limfadenopati akan mengalami gejala nyeri kepala, malaise, kelelahan dan dem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Laboratorium : limfositosis ringan, LED meningkat, transaminase hati meningkat. Pemeriksaan PCR LCS mungkin membant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Respons imun lemah</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sien AIDS dan yang mendapat terapi imunosupresi merupakan kelompok yang berisiko paling tinggi terkenatoksoplasmosis ak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oksoplasmosis merupakan infeksi oportunistik yang yang penting pada SSP pada pasien AI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anifestasi klinis dapat berupa; ensefalopati,meningoensefalitis, dan lesi yang berupa massa. Keluhan berupa: perubahan status mental,demam,kejang, nyeri kepala dan gejala neurologis fokal yang mencakup defisit motorik,kelumpuhan saraf kranial,kelainan gerak,dismetria, kehilangan lapangan penglihatan dan afas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Diagnosis : </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Jaringan dan cairan tubuh. Isolasi parasit dari darah atau cairaan tubuh setelahdilakukan subinokulasi cairan tubuh kedalam cavumperitoneal mencit. Isolasi biopsi jaringan tubuh. Pemeriksaan histologis kelenjar limf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rolog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Terapi </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irimetamin dan trimetopri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lindamis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lortetrasikl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zitromis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idroksinaftokuin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sam folinat (leukovor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rimetoprim-sulfametoksasol, dapson, makrolid: spiramisin,roksitromisin,klaritromis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
          <p:cNvSpPr txBox="1"/>
          <p:nvPr/>
        </p:nvSpPr>
        <p:spPr>
          <a:xfrm>
            <a:off x="1258920" y="3146400"/>
            <a:ext cx="6192720" cy="1074600"/>
          </a:xfrm>
          <a:prstGeom prst="rect">
            <a:avLst/>
          </a:prstGeom>
        </p:spPr>
        <p:txBody>
          <a:bodyPr wrap="none" lIns="90000" rIns="90000" tIns="46800" bIns="46800" anchor="t" anchorCtr="1">
            <a:prstTxWarp prst="textPlain">
              <a:avLst>
                <a:gd name="adj" fmla="val 48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assalaamu'alaiku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Definisi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nyakit yang disebabkan oleh infeksi parasit obligat intraseluler </a:t>
            </a:r>
            <a:r>
              <a:rPr b="0" i="1" lang="id-ID" sz="2400" spc="-1" strike="noStrike">
                <a:solidFill>
                  <a:srgbClr val="000000"/>
                </a:solidFill>
                <a:latin typeface="Arial"/>
              </a:rPr>
              <a:t>toxoplasma gondii</a:t>
            </a:r>
            <a:r>
              <a:rPr b="0" lang="id-I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Infeksi toksoplasma yang akut dan didapat sesudah bayi dilahirkan biasanya asimptomatik.  Hal ini harus dibedakan dari Infeksi toksoplasma kronis yang menunjukkan adanya persistensi kista dalam jaringan yang berisi parasit pada  individu yang secara klinis asimptomati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oksoplasmosis pada pejamu imunokompeten, biasanya akan sembuh sendiri,dalam waktu singkat, dan menyebabkan toksoplasmosis kron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oksoplasmosis baik akut maupun kronis merupakan keadaan dimana parasit menjadi penyebab terjadinya gejala dan tanda klinis yaitu ensefalitis,miokarditis, dan pneumonitis. Gejala yang lain yaitu: korioretinitis, strabismus, epilepsidan retardasi psikomot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Etiologi : T gondii</a:t>
            </a:r>
            <a:endParaRPr b="0" lang="en-US" sz="3200" spc="-1" strike="noStrike">
              <a:solidFill>
                <a:srgbClr val="000000"/>
              </a:solidFill>
              <a:latin typeface="Arial"/>
            </a:endParaRPr>
          </a:p>
        </p:txBody>
      </p:sp>
      <p:sp>
        <p:nvSpPr>
          <p:cNvPr id="4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Non feline. Bentuk takizoit aseksual terjadi dalam tubuh pejamu perantara seperti manusia, mencit, domba, babi. Parasit dapat tumbuh dalam semua sel kecuali sel darah merah. Begitu melekat dengan sel, takizoit akan berpenetrasi dan melakukan pembelahan, sampai jumlah tertentu sel akan ruptur dan takizoit menyebar ke sel sekitarnya. Sebagaian besar takizoit akan dieleminir oleh sistem pertahanan tubuh humoral maupun cell mediated. 7-10 hari setelah infeksi, terbentuk kista dalam jaringan yang berisi bradizoit, terutama dalam SSP dan sel otot pejamu sepanjang hidup. Bila daging tersebut termakan, maka kista akan pecah dalam usus bradizoit akan bertransformasi menjadi takizoit dan membelah dengan cepat.</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eline. Siklus kehidupan yang penting parasit ini adalah dalam tubuh kucing sebagai pejamu definitif atau hewan mangsanya. Siklus hidup seksual ditentukan oleh pembentukan ookista dalam tubuh pejamu feline. Siklus dimulai dengan termakannya kista yang mengandung bradizoit sampai terbentuk mikro dan makrogamet. Bila mikro bertemu makrogamet, terbentuklah zigot. Zigot ini kemudian disekresikan dalam bentuk ookista tanpa sporulasi. 2-3 hari terkena udara sekitar, ookista yang noninfeksius ini mengalami sporulasi untuk menghasilkan progeni sporozoit, yang bisa termakan oleh pejamu non felin dan berkembang dalam tubuhny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Penularan </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Oral, terjadi karena ookista dari tanah tercemar yang tertelan atau bradizoit dari daging yang tidak dimasak dengan ben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Transplasental. Tidak terjadi pada ibu yang sudah terinfeksi 6 bulan atau lebih sebelum terjadi pembuah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Patogenesis </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telah termakan kista jaringan yang mengandung bradizoit atau ookista yang mengandung sporozoit, parasit dilepas dari kista tersebut. Di dalam enterosit, parasit mengalami transformaasi menjadi takizoit yang infasif, dan menyebabkan ruptur sel pejamu untuk selanjutnya menginvasi sel sekitarnya, menyebabkan kematian sel dan nekrosis fokal yang dikelilingi oleh respons inflamas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akizoit mengalami sekuestrasi oleh berbagai mekanisme imun, termasuk induksi antibodi yang bersifat parasitisidal, aktivasi sel makrofag, produksi interferon gama, dan stimulasi sel T sitotoksik dari fenotip CD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Patologi </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akizoit kadang dapat dilihat dengan pewarnaan histopatologi, atau dengan pewarnaan imunofluoresensi yang menunjukkan adanya mikroorganisme atau antigenemia. Namun tidak demikian dengan kista yang mengandung bradizo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elenjar limfe. Biopsi kelenjar limfe memperlihatkan gambaran khas hiperplasi folikuler dan kumpulan ireguler sel-sel makrofag     d engan sitoplasma eosinofilik. Meskipun takizoit tak tampak, keberadaanya dapat dideteksi dengan menggunakan PCR yang sensitif dan spesifik untuk menegakkan diagnosis infeksi jaringan kelenjar limfe oleh takizo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Okuler. Infiltrasi monosit, limfosit dan sel plasma dapat menimbulkan lesi unifokal atau multifokal. Selain retinokoroiditis, komplikasi pada mata mencakup: iridosiklitis, katarak dan glauko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SP. Pada meningoensefalitis fokal maupun difus,tampak nekrosis dan mikroglia. Pada ensefalitis nekrotikan yang tanpa AIDS ditandai lesi kecil, difus dengan perivaskuler cuffing. Pada penderita AIDS, leukosit pmn ditemukan disamping monosit, limfosit dan sel plas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17:23:09Z</dcterms:created>
  <dc:creator>Alma BBF l0v3^s</dc:creator>
  <dc:description/>
  <dc:language>en-US</dc:language>
  <cp:lastModifiedBy>Alma BBF l0v3^s</cp:lastModifiedBy>
  <dcterms:modified xsi:type="dcterms:W3CDTF">2001-12-31T20:03:56Z</dcterms:modified>
  <cp:revision>5</cp:revision>
  <dc:subject/>
  <dc:title>TOKSOPLASMOSIS</dc:title>
</cp:coreProperties>
</file>