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hammer.wav" ContentType="audio/x-wav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image5.png" ContentType="image/png"/>
  <Override PartName="/ppt/media/applause.wav" ContentType="audio/x-wav"/>
  <Override PartName="/ppt/media/image43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breeze.wav" ContentType="audio/x-wav"/>
  <Override PartName="/ppt/media/image10.png" ContentType="image/png"/>
  <Override PartName="/ppt/media/image1.jpeg" ContentType="image/jpeg"/>
  <Override PartName="/ppt/media/image35.jpeg" ContentType="image/jpeg"/>
  <Override PartName="/ppt/media/image23.png" ContentType="image/png"/>
  <Override PartName="/ppt/media/image27.png" ContentType="image/png"/>
  <Override PartName="/ppt/media/image47.jpeg" ContentType="image/jpeg"/>
  <Override PartName="/ppt/media/image28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2.png" ContentType="image/png"/>
  <Override PartName="/ppt/media/image7.png" ContentType="image/png"/>
  <Override PartName="/ppt/media/image41.jpeg" ContentType="image/jpeg"/>
  <Override PartName="/ppt/media/image45.jpeg" ContentType="image/jpeg"/>
  <Override PartName="/ppt/media/wind.wav" ContentType="audio/x-wav"/>
  <Override PartName="/ppt/media/image48.jpeg" ContentType="image/jpeg"/>
  <Override PartName="/ppt/media/image26.png" ContentType="image/png"/>
  <Override PartName="/ppt/media/image30.png" ContentType="image/png"/>
  <Override PartName="/ppt/media/image37.jpeg" ContentType="image/jpeg"/>
  <Override PartName="/ppt/media/voltage.wav" ContentType="audio/x-wav"/>
  <Override PartName="/ppt/media/image39.jpeg" ContentType="image/jpeg"/>
  <Override PartName="/ppt/media/image8.png" ContentType="image/png"/>
  <Override PartName="/ppt/media/suction.wav" ContentType="audio/x-wav"/>
  <Override PartName="/ppt/media/image25.png" ContentType="image/png"/>
  <Override PartName="/ppt/media/image42.jpeg" ContentType="image/jpeg"/>
  <Override PartName="/ppt/media/image46.jpeg" ContentType="image/jpeg"/>
  <Override PartName="/ppt/media/arrow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612D-48E8-4DC0-8583-DE9407900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D682-5AB2-4900-8DF5-670E98C2D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493A-6A74-492F-AF16-C7221C016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CF49-7EE5-4600-91D9-708CE0061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F08C-B36A-4ADB-9FE0-FFEAAC2F7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5147-3B32-460B-AA80-0C50F9BA9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BEE8-979D-40E7-9E7A-14F65796C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4979-227D-4B63-B273-62FFC4CD8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FCD5-1CB9-4F34-91E2-76C6706FD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B034-C6D3-4E17-8DCC-6F071253D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E18C-986D-4F3B-AB0E-3702750E9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035A-1277-4B26-A04C-B5BC0FE2D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5ED7-8F1B-497E-803A-6702E312C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B9CE-D818-48B3-874E-95CCA95B2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B88B-960E-4319-B452-4D2B04900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04BE-EF69-427E-A1F5-8E62EEBB4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0D54-363F-4BAF-9673-B12C1B6FA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BA36-E9C9-4B48-9A00-BA8256850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B307-2EEA-4985-B228-3E364A348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E3D4-3EEE-4813-8747-F23BE6528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B3AE-9168-4C8C-A812-46BD8FF58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1E35-D0B5-4BBE-AACA-D0C091CCB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E053-305D-4C8F-A0B5-0329284AE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82D7-F1E1-4BAB-91D6-FA1BE84CC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0E7C-0890-46A9-9E9B-303953808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9FFC-E38D-4D27-A647-A9DF5C45A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E40E-63B3-4162-86A8-065664A65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5504-B671-4898-86C9-484BDE48B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F9D3-8E21-4964-B16D-8D7ED7286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269F-79FC-4FA9-8DAA-EE5FFD72E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C715-9E57-49B1-8A08-5E2265D84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7251-7B02-41E0-8DFE-7EB011624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025E-2864-4FF2-AAB3-962696C5D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812B-8003-4073-8809-6D41600E6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65E5-0E31-493D-9EC0-ECDAE0A7F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2703-55F4-42EA-88F5-369565572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6031-D1FB-4EAB-BCEE-BAF288968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3A42-1C1A-4D2D-B1D8-A605EAEC4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CA6E-F076-4650-908C-00EC29AA3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4F56-8D2D-4B6F-B538-045E03D6C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3E43-6109-452D-87EC-849574C67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6AB4-BF3E-4F8B-A838-5C21E15E5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935E-4F4C-4DBF-B3B5-C78017EDE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5EDD-A74D-4CE2-A686-70EEF9823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EB4A-EAC1-4529-B911-E7FD6E022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608B-BC88-47EA-9568-E6E1679E1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1F2D-A275-4898-B1D1-DDA4AD069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5B3D-C356-4D21-A10A-623BAE78F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B97F-1F5D-4ABD-AECE-AC3EF5BA6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7ECC-1F3F-4D51-8F62-5C0818A10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C332-9A97-4F19-9742-E4646F914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C512-94DD-43B3-A56C-04366D46E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1FD5-361E-418E-A165-2FD9A63A2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E0E3-A58E-4A23-A762-A8A518581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2731-6D53-49A0-BF84-A7BE8E6C8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CCF4-10B1-4774-B933-ED1CA99ED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68AB-1A0E-46F5-81F1-31377E549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9E17-2C07-4D05-A38E-EF575A04C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55CA-3145-494F-A168-B95985690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92A0-3044-49BF-8D68-6B05CF1CC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4807-7E55-4096-9BB9-C4A0F2B73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2323-24C5-4F59-BBAF-E5E3FD058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2E33-2E87-4D3C-9FAD-6F51F198D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0B0B-8839-4D55-8EA6-30CECE5F1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5F17-F28B-4D07-911B-5BFFE30BF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F7E4-9EA7-48D1-B605-140C7F103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186-30E4-439B-B702-855AE56F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3E5D-8F48-48F5-BE94-FE71D717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D32B-CE13-46C5-AF63-6C34F9EF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3999-7954-49E5-897F-CD736874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6D6-7827-4D1A-BD7E-5A130207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753-381F-4138-9351-A1F1F741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4A8-C41C-4784-AB02-61401BA1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6EA-302F-499D-9358-05000775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4C5-73A8-4025-8549-7912FD7D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5BAF-1DE9-490E-BB73-6E82EABE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E7E-4525-4FAF-AE02-D6A4E764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3F92-09C5-4E8C-BCD3-15433B33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1930-E032-474A-9E9A-BF0A466E9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Awal%20Presentasi%20Depan_ind.ppt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Awal%20Presentasi%20Depan_ind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hyperlink" Target="file:///Awal%20Presentasi%20Depan_ind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Awal%20Presentasi%20Depan_ind.ppt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Awal%20Presentasi%20Depan_ind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Awal%20Presentasi%20Depan_ind.ppt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Awal%20Presentasi%20Depan_ind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Awal%20Presentasi%20Depan_ind.ppt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391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Melakukan instalasi sistem operasi berbasis graphical user interface (GUI) dan </a:t>
            </a:r>
            <a:r>
              <a:rPr b="1" i="1" lang="sv-SE" sz="3200" spc="-1" strike="noStrike">
                <a:solidFill>
                  <a:srgbClr val="ffffff"/>
                </a:solidFill>
                <a:latin typeface="Arial"/>
              </a:rPr>
              <a:t>command line interface</a:t>
            </a: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 (C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52280" y="50292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Arial"/>
              </a:rPr>
              <a:t>Men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jelaskan langkah instalasi sistem operasi</a:t>
            </a:r>
            <a:r>
              <a:rPr b="1" lang="id-ID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berbasis GUI </a:t>
            </a:r>
            <a:r>
              <a:rPr b="1" i="1" lang="sv-SE" sz="2400" spc="-1" strike="noStrike">
                <a:solidFill>
                  <a:srgbClr val="ffffff"/>
                </a:solidFill>
                <a:latin typeface="Arial"/>
              </a:rPr>
              <a:t>(Graphical User Interf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>
            <a:hlinkClick r:id="" action="ppaction://hlinkshowjump?jump=firstslide"/>
          </p:cNvPr>
          <p:cNvSpPr/>
          <p:nvPr/>
        </p:nvSpPr>
        <p:spPr>
          <a:xfrm>
            <a:off x="8325000" y="6410160"/>
            <a:ext cx="360360" cy="33372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23322" h="21600">
                <a:moveTo>
                  <a:pt x="0" y="0"/>
                </a:moveTo>
                <a:lnTo>
                  <a:pt x="23322" y="0"/>
                </a:lnTo>
                <a:lnTo>
                  <a:pt x="23322" y="21600"/>
                </a:lnTo>
                <a:lnTo>
                  <a:pt x="0" y="21600"/>
                </a:lnTo>
                <a:close/>
              </a:path>
              <a:path fill="lightenLess" w="23322" h="21600">
                <a:moveTo>
                  <a:pt x="0" y="0"/>
                </a:moveTo>
                <a:lnTo>
                  <a:pt x="23322" y="0"/>
                </a:lnTo>
                <a:lnTo>
                  <a:pt x="21922" y="1400"/>
                </a:lnTo>
                <a:lnTo>
                  <a:pt x="1400" y="1400"/>
                </a:lnTo>
                <a:close/>
              </a:path>
              <a:path fill="darken" w="23322" h="21600">
                <a:moveTo>
                  <a:pt x="23322" y="0"/>
                </a:moveTo>
                <a:lnTo>
                  <a:pt x="23322" y="21600"/>
                </a:lnTo>
                <a:lnTo>
                  <a:pt x="21922" y="20200"/>
                </a:lnTo>
                <a:lnTo>
                  <a:pt x="21922" y="1400"/>
                </a:lnTo>
                <a:close/>
              </a:path>
              <a:path fill="darkenLess" w="23322" h="21600">
                <a:moveTo>
                  <a:pt x="23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22" y="20200"/>
                </a:lnTo>
                <a:close/>
              </a:path>
              <a:path fill="lighten" w="23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22" h="21600">
                <a:moveTo>
                  <a:pt x="11661" y="3837"/>
                </a:moveTo>
                <a:lnTo>
                  <a:pt x="14238" y="6448"/>
                </a:lnTo>
                <a:lnTo>
                  <a:pt x="14238" y="4707"/>
                </a:lnTo>
                <a:lnTo>
                  <a:pt x="16013" y="4707"/>
                </a:lnTo>
                <a:lnTo>
                  <a:pt x="16013" y="8224"/>
                </a:lnTo>
                <a:lnTo>
                  <a:pt x="18624" y="10800"/>
                </a:lnTo>
                <a:lnTo>
                  <a:pt x="16970" y="10800"/>
                </a:lnTo>
                <a:lnTo>
                  <a:pt x="16970" y="17989"/>
                </a:lnTo>
                <a:lnTo>
                  <a:pt x="6352" y="17989"/>
                </a:lnTo>
                <a:lnTo>
                  <a:pt x="6352" y="10800"/>
                </a:lnTo>
                <a:lnTo>
                  <a:pt x="4698" y="10800"/>
                </a:lnTo>
                <a:close/>
              </a:path>
              <a:path fill="darkenLess" w="23322" h="21600">
                <a:moveTo>
                  <a:pt x="14238" y="6448"/>
                </a:moveTo>
                <a:lnTo>
                  <a:pt x="14238" y="4707"/>
                </a:lnTo>
                <a:lnTo>
                  <a:pt x="16013" y="4707"/>
                </a:lnTo>
                <a:lnTo>
                  <a:pt x="16013" y="8224"/>
                </a:lnTo>
                <a:close/>
              </a:path>
              <a:path fill="darkenLess" w="23322" h="21600">
                <a:moveTo>
                  <a:pt x="10739" y="14299"/>
                </a:moveTo>
                <a:lnTo>
                  <a:pt x="12584" y="14299"/>
                </a:lnTo>
                <a:lnTo>
                  <a:pt x="12584" y="17989"/>
                </a:lnTo>
                <a:lnTo>
                  <a:pt x="16970" y="17989"/>
                </a:lnTo>
                <a:lnTo>
                  <a:pt x="16970" y="10800"/>
                </a:lnTo>
                <a:lnTo>
                  <a:pt x="6352" y="10800"/>
                </a:lnTo>
                <a:lnTo>
                  <a:pt x="6352" y="17989"/>
                </a:lnTo>
                <a:lnTo>
                  <a:pt x="1073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>
            <a:hlinkClick r:id="" action="ppaction://hlinkshowjump?jump=nextslide"/>
          </p:cNvPr>
          <p:cNvSpPr/>
          <p:nvPr/>
        </p:nvSpPr>
        <p:spPr>
          <a:xfrm>
            <a:off x="8710560" y="642312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>
            <a:hlinkClick r:id="rId2"/>
          </p:cNvPr>
          <p:cNvSpPr/>
          <p:nvPr/>
        </p:nvSpPr>
        <p:spPr>
          <a:xfrm>
            <a:off x="179280" y="6021360"/>
            <a:ext cx="1042920" cy="26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DE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TUJU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Siswa dapat 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Melaksanakan instalasi sistem operasi berbasis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sesuai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Installation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99"/>
                </a:solidFill>
                <a:latin typeface="Arial"/>
              </a:rPr>
              <a:t>POKOK BAHA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Melaksanakan instalasi sistem operasi berbasis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sesuai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Installation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>
            <a:hlinkClick r:id="rId1"/>
          </p:cNvPr>
          <p:cNvSpPr/>
          <p:nvPr/>
        </p:nvSpPr>
        <p:spPr>
          <a:xfrm>
            <a:off x="179280" y="6021360"/>
            <a:ext cx="1042920" cy="26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DE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8856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alasi Windows X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Masuk menu BIOS, pilih menu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kemudian pilih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ot Device Prior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boot1"/>
          <p:cNvPicPr/>
          <p:nvPr/>
        </p:nvPicPr>
        <p:blipFill>
          <a:blip r:embed="rId1"/>
          <a:stretch/>
        </p:blipFill>
        <p:spPr>
          <a:xfrm>
            <a:off x="1295280" y="2286000"/>
            <a:ext cx="6302520" cy="3959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Rubah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da posisi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st Boot Dev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ntuk dapat boot dari CD-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boot2"/>
          <p:cNvPicPr/>
          <p:nvPr/>
        </p:nvPicPr>
        <p:blipFill>
          <a:blip r:embed="rId1"/>
          <a:stretch/>
        </p:blipFill>
        <p:spPr>
          <a:xfrm>
            <a:off x="1219320" y="2286000"/>
            <a:ext cx="6333840" cy="39592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23320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Restart komputer, lalu masukkan CD master Windows XP, bila muncul kata-ka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ss anykey to boot from CD . . 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kan tombol sembar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Lanjut pad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censing Agre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ek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ntuk melanjutk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nsxp2"/>
          <p:cNvPicPr/>
          <p:nvPr/>
        </p:nvPicPr>
        <p:blipFill>
          <a:blip r:embed="rId1"/>
          <a:stretch/>
        </p:blipFill>
        <p:spPr>
          <a:xfrm>
            <a:off x="1600200" y="2286000"/>
            <a:ext cx="5506920" cy="39574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409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Untuk membuat partisi baru, tekan tombol C pada   keyboard dan tek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uk menginst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insxp3"/>
          <p:cNvPicPr/>
          <p:nvPr/>
        </p:nvPicPr>
        <p:blipFill>
          <a:blip r:embed="rId1"/>
          <a:stretch/>
        </p:blipFill>
        <p:spPr>
          <a:xfrm>
            <a:off x="1447920" y="2362320"/>
            <a:ext cx="6333840" cy="39592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Masukkan seberapa besar partisi yang hendak anda buat dalam satuan megabyte (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insxp4"/>
          <p:cNvPicPr/>
          <p:nvPr/>
        </p:nvPicPr>
        <p:blipFill>
          <a:blip r:embed="rId1"/>
          <a:stretch/>
        </p:blipFill>
        <p:spPr>
          <a:xfrm>
            <a:off x="1828800" y="2362320"/>
            <a:ext cx="5343480" cy="39574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20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1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2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3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 Kemudian tek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ntuk memulai proses instalasi (tek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uk delete partisi yang anda bu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insxp5"/>
          <p:cNvPicPr/>
          <p:nvPr/>
        </p:nvPicPr>
        <p:blipFill>
          <a:blip r:embed="rId1"/>
          <a:stretch/>
        </p:blipFill>
        <p:spPr>
          <a:xfrm>
            <a:off x="1600200" y="2362320"/>
            <a:ext cx="6365880" cy="39592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7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9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0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Pilih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TFS file system (Quick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au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T file sistem (Quick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lu tek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insxp6"/>
          <p:cNvPicPr/>
          <p:nvPr/>
        </p:nvPicPr>
        <p:blipFill>
          <a:blip r:embed="rId1"/>
          <a:stretch/>
        </p:blipFill>
        <p:spPr>
          <a:xfrm>
            <a:off x="2133720" y="2362320"/>
            <a:ext cx="5027400" cy="39592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 Maka akan tampil seperti gambar berik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insxp9"/>
          <p:cNvPicPr/>
          <p:nvPr/>
        </p:nvPicPr>
        <p:blipFill>
          <a:blip r:embed="rId1"/>
          <a:stretch/>
        </p:blipFill>
        <p:spPr>
          <a:xfrm>
            <a:off x="1752480" y="2133720"/>
            <a:ext cx="5149800" cy="39592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1"/>
          <p:cNvSpPr/>
          <p:nvPr/>
        </p:nvSpPr>
        <p:spPr>
          <a:xfrm>
            <a:off x="2345400" y="371520"/>
            <a:ext cx="50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PETA KEDUDUKAN KOMPETEN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2">
            <a:hlinkClick r:id="" action="ppaction://hlinkshowjump?jump=firstslide"/>
          </p:cNvPr>
          <p:cNvSpPr/>
          <p:nvPr/>
        </p:nvSpPr>
        <p:spPr>
          <a:xfrm>
            <a:off x="83376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3">
            <a:hlinkClick r:id="" action="ppaction://hlinkshowjump?jump=nextslide"/>
          </p:cNvPr>
          <p:cNvSpPr/>
          <p:nvPr/>
        </p:nvSpPr>
        <p:spPr>
          <a:xfrm>
            <a:off x="872316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66"/>
          <p:cNvGrpSpPr/>
          <p:nvPr/>
        </p:nvGrpSpPr>
        <p:grpSpPr>
          <a:xfrm>
            <a:off x="503280" y="1523880"/>
            <a:ext cx="8640720" cy="4824360"/>
            <a:chOff x="503280" y="1523880"/>
            <a:chExt cx="8640720" cy="4824360"/>
          </a:xfrm>
        </p:grpSpPr>
        <p:sp>
          <p:nvSpPr>
            <p:cNvPr id="59" name="Line 67"/>
            <p:cNvSpPr/>
            <p:nvPr/>
          </p:nvSpPr>
          <p:spPr>
            <a:xfrm>
              <a:off x="7920000" y="2244600"/>
              <a:ext cx="0" cy="352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8"/>
            <p:cNvSpPr/>
            <p:nvPr/>
          </p:nvSpPr>
          <p:spPr>
            <a:xfrm>
              <a:off x="5761080" y="2100240"/>
              <a:ext cx="0" cy="230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9"/>
            <p:cNvSpPr/>
            <p:nvPr/>
          </p:nvSpPr>
          <p:spPr>
            <a:xfrm>
              <a:off x="3529080" y="2316240"/>
              <a:ext cx="0" cy="388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70"/>
            <p:cNvSpPr/>
            <p:nvPr/>
          </p:nvSpPr>
          <p:spPr>
            <a:xfrm>
              <a:off x="1368360" y="2316240"/>
              <a:ext cx="0" cy="129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71"/>
            <p:cNvSpPr/>
            <p:nvPr/>
          </p:nvSpPr>
          <p:spPr>
            <a:xfrm>
              <a:off x="4464000" y="1668240"/>
              <a:ext cx="287280" cy="287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72"/>
            <p:cNvSpPr/>
            <p:nvPr/>
          </p:nvSpPr>
          <p:spPr>
            <a:xfrm>
              <a:off x="6696000" y="1668240"/>
              <a:ext cx="289080" cy="287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73"/>
            <p:cNvGrpSpPr/>
            <p:nvPr/>
          </p:nvGrpSpPr>
          <p:grpSpPr>
            <a:xfrm>
              <a:off x="503280" y="1523880"/>
              <a:ext cx="8640720" cy="4824360"/>
              <a:chOff x="503280" y="1523880"/>
              <a:chExt cx="8640720" cy="4824360"/>
            </a:xfrm>
          </p:grpSpPr>
          <p:sp>
            <p:nvSpPr>
              <p:cNvPr id="66" name="Text Box 74"/>
              <p:cNvSpPr/>
              <p:nvPr/>
            </p:nvSpPr>
            <p:spPr>
              <a:xfrm>
                <a:off x="4930560" y="2473200"/>
                <a:ext cx="1608480" cy="420840"/>
              </a:xfrm>
              <a:prstGeom prst="rect">
                <a:avLst/>
              </a:prstGeom>
              <a:solidFill>
                <a:srgbClr val="808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ndiagnosis permasalahan pengoperasian PC yang tersambung jaringangnosi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75"/>
              <p:cNvSpPr/>
              <p:nvPr/>
            </p:nvSpPr>
            <p:spPr>
              <a:xfrm>
                <a:off x="4930560" y="3049560"/>
                <a:ext cx="1608480" cy="426960"/>
              </a:xfrm>
              <a:prstGeom prst="rect">
                <a:avLst/>
              </a:prstGeom>
              <a:solidFill>
                <a:srgbClr val="808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akukan perbaikan dan/</a:t>
                </a:r>
                <a:r>
                  <a:rPr b="0" lang="id-ID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sv-SE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tau </a:t>
                </a:r>
                <a:r>
                  <a:rPr b="0" i="1" lang="sv-SE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etting</a:t>
                </a:r>
                <a:r>
                  <a:rPr b="0" lang="sv-SE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ulang koneksi jaring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76"/>
              <p:cNvSpPr/>
              <p:nvPr/>
            </p:nvSpPr>
            <p:spPr>
              <a:xfrm>
                <a:off x="4940280" y="3603600"/>
                <a:ext cx="1608120" cy="428400"/>
              </a:xfrm>
              <a:prstGeom prst="rect">
                <a:avLst/>
              </a:prstGeom>
              <a:solidFill>
                <a:srgbClr val="808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akukan instalasi sistem operasi jaringan berbasis GUI </a:t>
                </a:r>
                <a:r>
                  <a:rPr b="0" i="1" lang="fi-FI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Graphical User Interface) dan Tex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77"/>
              <p:cNvSpPr/>
              <p:nvPr/>
            </p:nvSpPr>
            <p:spPr>
              <a:xfrm>
                <a:off x="7142040" y="1904760"/>
                <a:ext cx="1608120" cy="428760"/>
              </a:xfrm>
              <a:prstGeom prst="rect">
                <a:avLst/>
              </a:prstGeom>
              <a:solidFill>
                <a:srgbClr val="6666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akukan instalasi perangkat jaringan berbasis luas </a:t>
                </a:r>
                <a:r>
                  <a:rPr b="0" i="1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Wide Area Network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78"/>
              <p:cNvSpPr/>
              <p:nvPr/>
            </p:nvSpPr>
            <p:spPr>
              <a:xfrm>
                <a:off x="7149960" y="2460600"/>
                <a:ext cx="1608120" cy="428400"/>
              </a:xfrm>
              <a:prstGeom prst="rect">
                <a:avLst/>
              </a:prstGeom>
              <a:solidFill>
                <a:srgbClr val="6666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ndiagnosis permasalahan perangkat yang tersambung jaringan berbasis luas </a:t>
                </a:r>
                <a:r>
                  <a:rPr b="0" i="1" lang="en-GB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Wide Area Network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79"/>
              <p:cNvSpPr/>
              <p:nvPr/>
            </p:nvSpPr>
            <p:spPr>
              <a:xfrm>
                <a:off x="7149960" y="3036960"/>
                <a:ext cx="1608120" cy="428400"/>
              </a:xfrm>
              <a:prstGeom prst="rect">
                <a:avLst/>
              </a:prstGeom>
              <a:solidFill>
                <a:srgbClr val="6666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mbuat desain sistem keamanan jaringa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80"/>
              <p:cNvSpPr/>
              <p:nvPr/>
            </p:nvSpPr>
            <p:spPr>
              <a:xfrm>
                <a:off x="2735280" y="3038400"/>
                <a:ext cx="1608120" cy="428760"/>
              </a:xfrm>
              <a:prstGeom prst="rect">
                <a:avLst/>
              </a:prstGeom>
              <a:solidFill>
                <a:srgbClr val="0000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ndiagnosis permasalahan pengoperasian PC dan </a:t>
                </a:r>
                <a:r>
                  <a:rPr b="0" i="1" lang="es-ES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erifer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81"/>
              <p:cNvSpPr/>
              <p:nvPr/>
            </p:nvSpPr>
            <p:spPr>
              <a:xfrm>
                <a:off x="2747880" y="3597120"/>
                <a:ext cx="1608120" cy="428760"/>
              </a:xfrm>
              <a:prstGeom prst="rect">
                <a:avLst/>
              </a:prstGeom>
              <a:solidFill>
                <a:srgbClr val="0000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akukan perbaikan dan/</a:t>
                </a:r>
                <a:r>
                  <a:rPr b="0" lang="id-ID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sv-SE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tau </a:t>
                </a:r>
                <a:r>
                  <a:rPr b="0" i="1" lang="sv-SE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etting</a:t>
                </a:r>
                <a:r>
                  <a:rPr b="0" lang="sv-SE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ulang sistem P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82"/>
              <p:cNvSpPr/>
              <p:nvPr/>
            </p:nvSpPr>
            <p:spPr>
              <a:xfrm>
                <a:off x="2760480" y="4165560"/>
                <a:ext cx="1608120" cy="428400"/>
              </a:xfrm>
              <a:prstGeom prst="rect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lakukan perbaikan </a:t>
                </a:r>
                <a:r>
                  <a:rPr b="0" i="1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ifer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83"/>
              <p:cNvSpPr/>
              <p:nvPr/>
            </p:nvSpPr>
            <p:spPr>
              <a:xfrm>
                <a:off x="2762280" y="5759280"/>
                <a:ext cx="1608120" cy="426960"/>
              </a:xfrm>
              <a:prstGeom prst="rect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lakukan instalasi </a:t>
                </a:r>
                <a:r>
                  <a:rPr b="0" i="1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ftwa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84"/>
              <p:cNvSpPr/>
              <p:nvPr/>
            </p:nvSpPr>
            <p:spPr>
              <a:xfrm>
                <a:off x="2762280" y="4687920"/>
                <a:ext cx="1608120" cy="428400"/>
              </a:xfrm>
              <a:prstGeom prst="rect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lakukan perawatan P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85"/>
              <p:cNvSpPr/>
              <p:nvPr/>
            </p:nvSpPr>
            <p:spPr>
              <a:xfrm>
                <a:off x="2762280" y="5222880"/>
                <a:ext cx="1608120" cy="428400"/>
              </a:xfrm>
              <a:prstGeom prst="rect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lakukan instalasi sistem operasi berbasis graphical user interface (GUI) dan </a:t>
                </a:r>
                <a:r>
                  <a:rPr b="0" i="1" lang="sv-SE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mand line interface</a:t>
                </a:r>
                <a:r>
                  <a:rPr b="0" lang="sv-SE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(CLI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86"/>
              <p:cNvSpPr/>
              <p:nvPr/>
            </p:nvSpPr>
            <p:spPr>
              <a:xfrm>
                <a:off x="4930560" y="1904760"/>
                <a:ext cx="1608480" cy="428760"/>
              </a:xfrm>
              <a:prstGeom prst="rect">
                <a:avLst/>
              </a:prstGeom>
              <a:solidFill>
                <a:srgbClr val="808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akukan instalasi perangkat jaringan lokal </a:t>
                </a:r>
                <a:r>
                  <a:rPr b="0" i="1" lang="sv-SE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Local Area Network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87"/>
              <p:cNvSpPr/>
              <p:nvPr/>
            </p:nvSpPr>
            <p:spPr>
              <a:xfrm>
                <a:off x="2722680" y="1898640"/>
                <a:ext cx="1608120" cy="428400"/>
              </a:xfrm>
              <a:prstGeom prst="rect">
                <a:avLst/>
              </a:prstGeom>
              <a:solidFill>
                <a:srgbClr val="0000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nerapkan teknik elektronika analog dan digital dasa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88"/>
              <p:cNvSpPr/>
              <p:nvPr/>
            </p:nvSpPr>
            <p:spPr>
              <a:xfrm>
                <a:off x="2735280" y="2475000"/>
                <a:ext cx="1608120" cy="426960"/>
              </a:xfrm>
              <a:prstGeom prst="rect">
                <a:avLst/>
              </a:prstGeom>
              <a:solidFill>
                <a:srgbClr val="0000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nerapkan fungsi peripheral dan instalasi P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89"/>
              <p:cNvSpPr/>
              <p:nvPr/>
            </p:nvSpPr>
            <p:spPr>
              <a:xfrm>
                <a:off x="7149960" y="3611520"/>
                <a:ext cx="1608120" cy="428760"/>
              </a:xfrm>
              <a:prstGeom prst="rect">
                <a:avLst/>
              </a:prstGeom>
              <a:solidFill>
                <a:srgbClr val="6666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akukan perbaikan dan/</a:t>
                </a:r>
                <a:r>
                  <a:rPr b="0" lang="id-ID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sv-SE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tau setting ulang koneksi jaringan berbasis luas </a:t>
                </a:r>
                <a:r>
                  <a:rPr b="0" i="1" lang="sv-SE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Wide Area Network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90"/>
              <p:cNvSpPr/>
              <p:nvPr/>
            </p:nvSpPr>
            <p:spPr>
              <a:xfrm>
                <a:off x="7149960" y="4187880"/>
                <a:ext cx="1608120" cy="4284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ngadministrasi </a:t>
                </a:r>
                <a:r>
                  <a:rPr b="0" i="1" lang="en-GB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erver</a:t>
                </a:r>
                <a:r>
                  <a:rPr b="0" lang="en-GB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dalam jaringa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91"/>
              <p:cNvSpPr/>
              <p:nvPr/>
            </p:nvSpPr>
            <p:spPr>
              <a:xfrm>
                <a:off x="7149960" y="4763880"/>
                <a:ext cx="1608120" cy="4287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rancang bangun dan menganalisa </a:t>
                </a:r>
                <a:r>
                  <a:rPr b="0" i="1" lang="en-GB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ide Area Network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92"/>
              <p:cNvSpPr/>
              <p:nvPr/>
            </p:nvSpPr>
            <p:spPr>
              <a:xfrm>
                <a:off x="7149960" y="5340240"/>
                <a:ext cx="1608120" cy="42696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rancang </a:t>
                </a:r>
                <a:r>
                  <a:rPr b="0" i="1" lang="en-GB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eb</a:t>
                </a:r>
                <a:r>
                  <a:rPr b="0" lang="en-GB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data base untuk </a:t>
                </a:r>
                <a:r>
                  <a:rPr b="0" i="1" lang="en-GB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tent serv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93"/>
              <p:cNvSpPr/>
              <p:nvPr/>
            </p:nvSpPr>
            <p:spPr>
              <a:xfrm>
                <a:off x="8424720" y="5916600"/>
                <a:ext cx="719280" cy="409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ulu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94"/>
              <p:cNvSpPr/>
              <p:nvPr/>
            </p:nvSpPr>
            <p:spPr>
              <a:xfrm>
                <a:off x="6840360" y="1955880"/>
                <a:ext cx="0" cy="430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95"/>
              <p:cNvSpPr/>
              <p:nvPr/>
            </p:nvSpPr>
            <p:spPr>
              <a:xfrm>
                <a:off x="576360" y="2460600"/>
                <a:ext cx="1608120" cy="428400"/>
              </a:xfrm>
              <a:prstGeom prst="rect">
                <a:avLst/>
              </a:prstGeom>
              <a:solidFill>
                <a:srgbClr val="ff0066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ffffff"/>
                    </a:solidFill>
                    <a:latin typeface="Arial"/>
                  </a:rPr>
                  <a:t>Melakukan instalasi sistem operasi das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96"/>
              <p:cNvSpPr/>
              <p:nvPr/>
            </p:nvSpPr>
            <p:spPr>
              <a:xfrm>
                <a:off x="576360" y="3036960"/>
                <a:ext cx="1608120" cy="428400"/>
              </a:xfrm>
              <a:prstGeom prst="rect">
                <a:avLst/>
              </a:prstGeom>
              <a:solidFill>
                <a:srgbClr val="ff0066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ffffff"/>
                    </a:solidFill>
                    <a:latin typeface="Arial"/>
                  </a:rPr>
                  <a:t>Menerapkan K 3 L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 Box 97"/>
              <p:cNvSpPr/>
              <p:nvPr/>
            </p:nvSpPr>
            <p:spPr>
              <a:xfrm>
                <a:off x="576360" y="1892160"/>
                <a:ext cx="1608120" cy="428760"/>
              </a:xfrm>
              <a:prstGeom prst="rect">
                <a:avLst/>
              </a:prstGeom>
              <a:solidFill>
                <a:srgbClr val="ff0066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880" rIns="20880" tIns="2088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rakit Personal Komput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98"/>
              <p:cNvSpPr/>
              <p:nvPr/>
            </p:nvSpPr>
            <p:spPr>
              <a:xfrm>
                <a:off x="6696000" y="2028600"/>
                <a:ext cx="0" cy="2376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99"/>
              <p:cNvSpPr/>
              <p:nvPr/>
            </p:nvSpPr>
            <p:spPr>
              <a:xfrm>
                <a:off x="2303280" y="2028600"/>
                <a:ext cx="0" cy="187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00"/>
              <p:cNvSpPr/>
              <p:nvPr/>
            </p:nvSpPr>
            <p:spPr>
              <a:xfrm>
                <a:off x="4464000" y="2028600"/>
                <a:ext cx="0" cy="431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01"/>
              <p:cNvSpPr/>
              <p:nvPr/>
            </p:nvSpPr>
            <p:spPr>
              <a:xfrm>
                <a:off x="2448000" y="1884240"/>
                <a:ext cx="0" cy="430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02"/>
              <p:cNvSpPr/>
              <p:nvPr/>
            </p:nvSpPr>
            <p:spPr>
              <a:xfrm>
                <a:off x="4608360" y="1896840"/>
                <a:ext cx="0" cy="431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103"/>
              <p:cNvSpPr/>
              <p:nvPr/>
            </p:nvSpPr>
            <p:spPr>
              <a:xfrm>
                <a:off x="503280" y="1523880"/>
                <a:ext cx="187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400" spc="-1" strike="noStrike">
                    <a:solidFill>
                      <a:srgbClr val="ffff00"/>
                    </a:solidFill>
                    <a:latin typeface="Arial"/>
                  </a:rPr>
                  <a:t>Dasar Kejurua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104"/>
              <p:cNvSpPr/>
              <p:nvPr/>
            </p:nvSpPr>
            <p:spPr>
              <a:xfrm>
                <a:off x="2643120" y="1523880"/>
                <a:ext cx="187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400" spc="-1" strike="noStrike">
                    <a:solidFill>
                      <a:srgbClr val="ffff00"/>
                    </a:solidFill>
                    <a:latin typeface="Arial"/>
                  </a:rPr>
                  <a:t>Level I ( Kelas X 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105"/>
              <p:cNvSpPr/>
              <p:nvPr/>
            </p:nvSpPr>
            <p:spPr>
              <a:xfrm>
                <a:off x="4857840" y="1528560"/>
                <a:ext cx="187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400" spc="-1" strike="noStrike">
                    <a:solidFill>
                      <a:srgbClr val="ffff00"/>
                    </a:solidFill>
                    <a:latin typeface="Arial"/>
                  </a:rPr>
                  <a:t>Level II ( Kelas XI 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106"/>
              <p:cNvSpPr/>
              <p:nvPr/>
            </p:nvSpPr>
            <p:spPr>
              <a:xfrm>
                <a:off x="7053120" y="1523880"/>
                <a:ext cx="187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400" spc="-1" strike="noStrike">
                    <a:solidFill>
                      <a:srgbClr val="ffff00"/>
                    </a:solidFill>
                    <a:latin typeface="Arial"/>
                  </a:rPr>
                  <a:t>Level III ( Kelas XII 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07"/>
              <p:cNvSpPr/>
              <p:nvPr/>
            </p:nvSpPr>
            <p:spPr>
              <a:xfrm>
                <a:off x="1368360" y="3468600"/>
                <a:ext cx="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108"/>
              <p:cNvSpPr/>
              <p:nvPr/>
            </p:nvSpPr>
            <p:spPr>
              <a:xfrm>
                <a:off x="1368360" y="3900240"/>
                <a:ext cx="934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9"/>
              <p:cNvSpPr/>
              <p:nvPr/>
            </p:nvSpPr>
            <p:spPr>
              <a:xfrm>
                <a:off x="2303280" y="2028600"/>
                <a:ext cx="36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10"/>
              <p:cNvSpPr/>
              <p:nvPr/>
            </p:nvSpPr>
            <p:spPr>
              <a:xfrm>
                <a:off x="3529080" y="6348240"/>
                <a:ext cx="934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11"/>
              <p:cNvSpPr/>
              <p:nvPr/>
            </p:nvSpPr>
            <p:spPr>
              <a:xfrm>
                <a:off x="4464000" y="2028600"/>
                <a:ext cx="36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12"/>
              <p:cNvSpPr/>
              <p:nvPr/>
            </p:nvSpPr>
            <p:spPr>
              <a:xfrm>
                <a:off x="5761080" y="4044960"/>
                <a:ext cx="0" cy="36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13"/>
              <p:cNvSpPr/>
              <p:nvPr/>
            </p:nvSpPr>
            <p:spPr>
              <a:xfrm>
                <a:off x="5761080" y="4405320"/>
                <a:ext cx="934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14"/>
              <p:cNvSpPr/>
              <p:nvPr/>
            </p:nvSpPr>
            <p:spPr>
              <a:xfrm>
                <a:off x="6696000" y="2028600"/>
                <a:ext cx="36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15"/>
              <p:cNvSpPr/>
              <p:nvPr/>
            </p:nvSpPr>
            <p:spPr>
              <a:xfrm>
                <a:off x="7920000" y="5773680"/>
                <a:ext cx="0" cy="36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16"/>
              <p:cNvSpPr/>
              <p:nvPr/>
            </p:nvSpPr>
            <p:spPr>
              <a:xfrm>
                <a:off x="7920000" y="6132600"/>
                <a:ext cx="504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17"/>
              <p:cNvSpPr/>
              <p:nvPr/>
            </p:nvSpPr>
            <p:spPr>
              <a:xfrm>
                <a:off x="3529080" y="6205320"/>
                <a:ext cx="0" cy="142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Oval 118"/>
            <p:cNvSpPr/>
            <p:nvPr/>
          </p:nvSpPr>
          <p:spPr>
            <a:xfrm>
              <a:off x="2290680" y="1681200"/>
              <a:ext cx="289080" cy="287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119">
            <a:hlinkClick r:id="rId1" action="ppaction://hlinksldjump"/>
          </p:cNvPr>
          <p:cNvSpPr/>
          <p:nvPr/>
        </p:nvSpPr>
        <p:spPr>
          <a:xfrm>
            <a:off x="2768760" y="5181480"/>
            <a:ext cx="1608120" cy="482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880" rIns="20880" tIns="2088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663300"/>
                </a:solidFill>
                <a:latin typeface="Arial"/>
              </a:rPr>
              <a:t>Melakukan instalasi sistem operasi berbasis graphical user interface (GUI) dan </a:t>
            </a:r>
            <a:r>
              <a:rPr b="0" i="1" lang="sv-SE" sz="800" spc="-1" strike="noStrike">
                <a:solidFill>
                  <a:srgbClr val="663300"/>
                </a:solidFill>
                <a:latin typeface="Arial"/>
              </a:rPr>
              <a:t>command line interface</a:t>
            </a:r>
            <a:r>
              <a:rPr b="0" lang="sv-SE" sz="800" spc="-1" strike="noStrike">
                <a:solidFill>
                  <a:srgbClr val="663300"/>
                </a:solidFill>
                <a:latin typeface="Arial"/>
              </a:rPr>
              <a:t> (CL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0"/>
          <p:cNvSpPr/>
          <p:nvPr/>
        </p:nvSpPr>
        <p:spPr>
          <a:xfrm rot="1703400">
            <a:off x="1331640" y="4660920"/>
            <a:ext cx="1224000" cy="719280"/>
          </a:xfrm>
          <a:prstGeom prst="rightArrow">
            <a:avLst>
              <a:gd name="adj1" fmla="val 50000"/>
              <a:gd name="adj2" fmla="val 425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800000"/>
                </a:solidFill>
                <a:latin typeface="Calibri"/>
              </a:rPr>
              <a:t>Klik Dis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1" descr=""/>
          <p:cNvPicPr/>
          <p:nvPr/>
        </p:nvPicPr>
        <p:blipFill>
          <a:blip r:embed="rId2"/>
          <a:stretch/>
        </p:blipFill>
        <p:spPr>
          <a:xfrm>
            <a:off x="4546440" y="32893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22">
            <a:hlinkClick r:id="rId3"/>
          </p:cNvPr>
          <p:cNvSpPr/>
          <p:nvPr/>
        </p:nvSpPr>
        <p:spPr>
          <a:xfrm>
            <a:off x="179280" y="6021360"/>
            <a:ext cx="1042920" cy="26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DE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99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 Setelah muncul layar seperti dibawah ini kemudian kli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insxp11"/>
          <p:cNvPicPr/>
          <p:nvPr/>
        </p:nvPicPr>
        <p:blipFill>
          <a:blip r:embed="rId1"/>
          <a:stretch/>
        </p:blipFill>
        <p:spPr>
          <a:xfrm>
            <a:off x="1676520" y="2362320"/>
            <a:ext cx="5530680" cy="39574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. Isikan Nama dan Organisasi anda pada kolom  yang   muncul, kemudian kli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insxp12"/>
          <p:cNvPicPr/>
          <p:nvPr/>
        </p:nvPicPr>
        <p:blipFill>
          <a:blip r:embed="rId1"/>
          <a:stretch/>
        </p:blipFill>
        <p:spPr>
          <a:xfrm>
            <a:off x="1905120" y="2362320"/>
            <a:ext cx="5530680" cy="39574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. Masukk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ial Numb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i type windows anda.    Kemudian kli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insxp13"/>
          <p:cNvPicPr/>
          <p:nvPr/>
        </p:nvPicPr>
        <p:blipFill>
          <a:blip r:embed="rId1"/>
          <a:stretch/>
        </p:blipFill>
        <p:spPr>
          <a:xfrm>
            <a:off x="1752480" y="2286000"/>
            <a:ext cx="5531040" cy="39574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486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. Isikan Nama Komputer dan Password (administr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uk mengaksesnya. Lalu kli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insxp14"/>
          <p:cNvPicPr/>
          <p:nvPr/>
        </p:nvPicPr>
        <p:blipFill>
          <a:blip r:embed="rId1"/>
          <a:stretch/>
        </p:blipFill>
        <p:spPr>
          <a:xfrm>
            <a:off x="2000160" y="2362320"/>
            <a:ext cx="5531040" cy="39574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7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8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9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77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5" dur="77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7" dur="77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9" dur="77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4727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et Time Z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da posisi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GMT+07:00) Bangk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noi, Jakar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Kli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insxp15"/>
          <p:cNvPicPr/>
          <p:nvPr/>
        </p:nvPicPr>
        <p:blipFill>
          <a:blip r:embed="rId1"/>
          <a:stretch/>
        </p:blipFill>
        <p:spPr>
          <a:xfrm>
            <a:off x="1752480" y="2349360"/>
            <a:ext cx="5531040" cy="39578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80880" y="23619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ypical set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da option ini settingan jaringan  akan dibuat default Windows 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ustom set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uk mensetting jaringan anda secara man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lih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ypical set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uk yang lebih familiar. Kli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146052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. Bila anda sudah berada pada tampilan desktop seperti dibawah ini berarti instalasi berjalan lanca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" descr="insxp18"/>
          <p:cNvPicPr/>
          <p:nvPr/>
        </p:nvPicPr>
        <p:blipFill>
          <a:blip r:embed="rId1"/>
          <a:stretch/>
        </p:blipFill>
        <p:spPr>
          <a:xfrm>
            <a:off x="2209680" y="2349360"/>
            <a:ext cx="5257800" cy="39610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6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7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8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9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es Formati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laskan Langkah dalam 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melaksanakan instalasi sistem operasi berbasis GUI sesuai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Installation Manual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ffffff"/>
                </a:solidFill>
                <a:latin typeface="Arial"/>
                <a:ea typeface="MS Mincho"/>
              </a:rPr>
              <a:t>Bagaimanakah keamanan Window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MS Mincho"/>
              </a:rPr>
              <a:t>XP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  <a:ea typeface="MS Mincho"/>
              </a:rPr>
              <a:t> jika dibandingkan dengan windows 9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MS Mincho"/>
              </a:rPr>
              <a:t>x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5">
            <a:hlinkClick r:id="" action="ppaction://hlinkshowjump?jump=previousslide"/>
          </p:cNvPr>
          <p:cNvSpPr/>
          <p:nvPr/>
        </p:nvSpPr>
        <p:spPr>
          <a:xfrm>
            <a:off x="7964640" y="643572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6">
            <a:hlinkClick r:id="" action="ppaction://hlinkshowjump?jump=firstslide"/>
          </p:cNvPr>
          <p:cNvSpPr/>
          <p:nvPr/>
        </p:nvSpPr>
        <p:spPr>
          <a:xfrm>
            <a:off x="8350200" y="643572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7">
            <a:hlinkClick r:id="" action="ppaction://hlinkshowjump?jump=nextslide"/>
          </p:cNvPr>
          <p:cNvSpPr/>
          <p:nvPr/>
        </p:nvSpPr>
        <p:spPr>
          <a:xfrm>
            <a:off x="8736120" y="644832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1752480" y="304920"/>
            <a:ext cx="73915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Melakukan instalasi sistem operasi berbasis graphical user interface (GUI) dan </a:t>
            </a:r>
            <a:r>
              <a:rPr b="1" i="1" lang="sv-SE" sz="3200" spc="-1" strike="noStrike">
                <a:solidFill>
                  <a:srgbClr val="ffffff"/>
                </a:solidFill>
                <a:latin typeface="Arial"/>
              </a:rPr>
              <a:t>command line interface</a:t>
            </a: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 (C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228600" y="5105520"/>
            <a:ext cx="549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enjelaskan langkah instalasi sistem operasi berbasis </a:t>
            </a:r>
            <a:r>
              <a:rPr b="1" i="1" lang="sv-SE" sz="2400" spc="-1" strike="noStrike">
                <a:solidFill>
                  <a:srgbClr val="ffffff"/>
                </a:solidFill>
                <a:latin typeface="Arial"/>
              </a:rPr>
              <a:t>command line interface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 (C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3">
            <a:hlinkClick r:id="rId2"/>
          </p:cNvPr>
          <p:cNvSpPr/>
          <p:nvPr/>
        </p:nvSpPr>
        <p:spPr>
          <a:xfrm>
            <a:off x="152280" y="6248520"/>
            <a:ext cx="1043280" cy="26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DE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TUJU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Siswa dapat Menjelaskan 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langkah instalasi sistem oper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berbasis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command line interface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 (C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99"/>
                </a:solidFill>
                <a:latin typeface="Arial"/>
              </a:rPr>
              <a:t>POKOK BAHA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Menjelaskan langkah instalasi sistem operasi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berbasis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command 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interface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 (C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">
            <a:hlinkClick r:id="rId1"/>
          </p:cNvPr>
          <p:cNvSpPr/>
          <p:nvPr/>
        </p:nvSpPr>
        <p:spPr>
          <a:xfrm>
            <a:off x="179280" y="6021360"/>
            <a:ext cx="1042920" cy="26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DE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77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77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0" dur="77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77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77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77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77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77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77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77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77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5" dur="77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7" dur="77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77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77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6" dur="77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77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77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3" dur="77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5" dur="77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TUJU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Siswa dapat Menjelaskan langkah instalasi sistem operasi ber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GUI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(Graphical User Interf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99"/>
                </a:solidFill>
                <a:latin typeface="Arial"/>
              </a:rPr>
              <a:t>POKOK BAHA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Menjelaskan langkah instalasi sistem operasi ber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GUI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(Graphical User Interf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ffff"/>
                </a:solidFill>
                <a:latin typeface="Arial"/>
              </a:rPr>
              <a:t>Instalasi FreeBS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Booting lewat cdrom -&gt; </a:t>
            </a:r>
            <a:r>
              <a:rPr b="0" i="1" lang="id-ID" sz="2400" spc="-1" strike="noStrike">
                <a:solidFill>
                  <a:srgbClr val="ffffff"/>
                </a:solidFill>
                <a:latin typeface="Arial"/>
              </a:rPr>
              <a:t>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57960" cy="395928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8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2. T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ampil sysinstall – pilih </a:t>
            </a:r>
            <a:r>
              <a:rPr b="0" i="1" lang="id-ID" sz="2400" spc="-1" strike="noStrike">
                <a:solidFill>
                  <a:srgbClr val="ffffff"/>
                </a:solidFill>
                <a:latin typeface="Arial"/>
              </a:rPr>
              <a:t>‘Standard’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 -&gt; </a:t>
            </a:r>
            <a:r>
              <a:rPr b="0" i="1" lang="id-ID" sz="2400" spc="-1" strike="noStrike">
                <a:solidFill>
                  <a:srgbClr val="ffffff"/>
                </a:solidFill>
                <a:latin typeface="Arial"/>
              </a:rPr>
              <a:t>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1523880" y="2211480"/>
            <a:ext cx="6016680" cy="395928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57200" y="1494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3.  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OK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– akan tampil program  fdisk untuk menyiapkan  partisi freeBS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 P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ilih  kemudian tekan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C’ Create s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572160" cy="39610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M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enentukan besar partisi freeBSD, langsung saja tekan </a:t>
            </a:r>
            <a:r>
              <a:rPr b="0" i="1" lang="id-ID" sz="2400" spc="-1" strike="noStrike">
                <a:solidFill>
                  <a:srgbClr val="ffffff"/>
                </a:solidFill>
                <a:latin typeface="Arial"/>
              </a:rPr>
              <a:t>enter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id-ID" sz="24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811920" cy="39592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5. T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elah terbentuk partisi freeBSD – tekan </a:t>
            </a:r>
            <a:r>
              <a:rPr b="0" i="1" lang="id-ID" sz="2400" spc="-1" strike="noStrike">
                <a:solidFill>
                  <a:srgbClr val="ffffff"/>
                </a:solidFill>
                <a:latin typeface="Arial"/>
              </a:rPr>
              <a:t>‘Q’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 fin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056280" cy="395928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6. 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Jika hanya ada freeBSD pilih </a:t>
            </a:r>
            <a:r>
              <a:rPr b="0" i="1" lang="id-ID" sz="2400" spc="-1" strike="noStrike">
                <a:solidFill>
                  <a:srgbClr val="ffffff"/>
                </a:solidFill>
                <a:latin typeface="Arial"/>
              </a:rPr>
              <a:t>‘Standard’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13440" cy="395748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7.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Tekan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A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untuk membuat partisi secara automatis. Untuk membuat partisi sendiri tekan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C’ Create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, jika sudah selesai tekan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Q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fin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53400" cy="395748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8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04920" y="1494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8.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Memilih media installasi. Pilih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1 CD/DVD’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– 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1219320" y="2075040"/>
            <a:ext cx="6478560" cy="39574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17222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Mulai proses instalasi tunggu sampai selesai kemudian –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OK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7238880" cy="28764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10.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Konfigurasi ethernet. Pilih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YES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untuk melakukan konfigurasi ji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tidak pilih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NO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391520" cy="132732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rebuchet MS"/>
              </a:rPr>
              <a:t>Sistem  Operasi (Operating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Yaitu program yang dibuat untuk mengendalikan dan mengkoordinasikan seluruh kegiatan dari sistem k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11.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No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untuk tidak mengaktifkan IPv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524640" cy="39592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12. P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ilih </a:t>
            </a:r>
            <a:r>
              <a:rPr b="0" i="1" lang="id-ID" sz="2400" spc="-1" strike="noStrike">
                <a:solidFill>
                  <a:srgbClr val="ffffff"/>
                </a:solidFill>
                <a:latin typeface="Arial"/>
              </a:rPr>
              <a:t>‘No’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 jika ingin konfigurasi man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913440" cy="39592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9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417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13.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Konfigurasi   manual.   Jika  sudah  selasai  – 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.  Kemudian  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Yes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 untuk mengaktifk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1371600" y="2266920"/>
            <a:ext cx="6618240" cy="395928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6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14. P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ilih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Yes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untuk membuat user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6858000" cy="128880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0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9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15. P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ilih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Us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7315200" cy="215748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16. I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si semua data kemudian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OK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. Agar dapat menjalankan perintah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su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Member groups : isi dengan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wheel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785000" cy="39592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17.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No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kemudian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‘Yes’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system reboot installasi seles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696080" cy="266724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es Formati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laskan Langkah-langkah 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instalasi FreeBSD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  <a:ea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ffffff"/>
                </a:solidFill>
                <a:latin typeface="Arial"/>
                <a:ea typeface="MS Mincho"/>
              </a:rPr>
              <a:t>Bagaimanakah keaman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MS Mincho"/>
              </a:rPr>
              <a:t>FreeBSD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  <a:ea typeface="MS Mincho"/>
              </a:rPr>
              <a:t> jika dibandingkan dengan window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9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9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9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4">
            <a:hlinkClick r:id="" action="ppaction://hlinkshowjump?jump=previousslide"/>
          </p:cNvPr>
          <p:cNvSpPr/>
          <p:nvPr/>
        </p:nvSpPr>
        <p:spPr>
          <a:xfrm>
            <a:off x="7964640" y="643572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5">
            <a:hlinkClick r:id="" action="ppaction://hlinkshowjump?jump=firstslide"/>
          </p:cNvPr>
          <p:cNvSpPr/>
          <p:nvPr/>
        </p:nvSpPr>
        <p:spPr>
          <a:xfrm>
            <a:off x="8350200" y="643572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6">
            <a:hlinkClick r:id="" action="ppaction://hlinkshowjump?jump=nextslide"/>
          </p:cNvPr>
          <p:cNvSpPr/>
          <p:nvPr/>
        </p:nvSpPr>
        <p:spPr>
          <a:xfrm>
            <a:off x="8736120" y="644832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1752480" y="304920"/>
            <a:ext cx="73915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Melakukan instalasi sistem operasi berbasis graphical user interface (GUI) dan </a:t>
            </a:r>
            <a:r>
              <a:rPr b="1" i="1" lang="sv-SE" sz="3200" spc="-1" strike="noStrike">
                <a:solidFill>
                  <a:srgbClr val="ffffff"/>
                </a:solidFill>
                <a:latin typeface="Arial"/>
              </a:rPr>
              <a:t>command line interface</a:t>
            </a: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 (C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228600" y="5181480"/>
            <a:ext cx="608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elaksanakan instalasi sistem operasi berbasis </a:t>
            </a:r>
            <a:r>
              <a:rPr b="1" i="1" lang="sv-SE" sz="24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 sesuai </a:t>
            </a:r>
            <a:r>
              <a:rPr b="1" i="1" lang="sv-SE" sz="2400" spc="-1" strike="noStrike">
                <a:solidFill>
                  <a:srgbClr val="ffffff"/>
                </a:solidFill>
                <a:latin typeface="Arial"/>
              </a:rPr>
              <a:t>Installation Man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2">
            <a:hlinkClick r:id="rId2"/>
          </p:cNvPr>
          <p:cNvSpPr/>
          <p:nvPr/>
        </p:nvSpPr>
        <p:spPr>
          <a:xfrm>
            <a:off x="152280" y="6172200"/>
            <a:ext cx="1043280" cy="26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DE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9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500"/>
                            </p:stCondLst>
                            <p:childTnLst>
                              <p:par>
                                <p:cTn id="9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3500"/>
                            </p:stCondLst>
                            <p:childTnLst>
                              <p:par>
                                <p:cTn id="9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TUJU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Siswa dapat 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Melaksanakan instalasi sistem operasi berbasis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text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sesuai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Installation Manual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99"/>
                </a:solidFill>
                <a:latin typeface="Arial"/>
              </a:rPr>
              <a:t>POKOK BAHA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Melaksanakan instalasi sistem operasi berbasis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sesuai </a:t>
            </a: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Installation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8">
            <a:hlinkClick r:id="rId1"/>
          </p:cNvPr>
          <p:cNvSpPr/>
          <p:nvPr/>
        </p:nvSpPr>
        <p:spPr>
          <a:xfrm>
            <a:off x="179280" y="6021360"/>
            <a:ext cx="1042920" cy="26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DE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9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152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gan Sistem Oper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981080" y="2362320"/>
            <a:ext cx="1447920" cy="380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echnical"/>
                <a:ea typeface="Cordia New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746800" y="320040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echnical"/>
                <a:ea typeface="Cordia New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59"/>
          <p:cNvGrpSpPr/>
          <p:nvPr/>
        </p:nvGrpSpPr>
        <p:grpSpPr>
          <a:xfrm>
            <a:off x="1142640" y="2819520"/>
            <a:ext cx="6858360" cy="3568320"/>
            <a:chOff x="1142640" y="2819520"/>
            <a:chExt cx="6858360" cy="3568320"/>
          </a:xfrm>
        </p:grpSpPr>
        <p:grpSp>
          <p:nvGrpSpPr>
            <p:cNvPr id="129" name="Group 5"/>
            <p:cNvGrpSpPr/>
            <p:nvPr/>
          </p:nvGrpSpPr>
          <p:grpSpPr>
            <a:xfrm>
              <a:off x="1142640" y="3962520"/>
              <a:ext cx="6858000" cy="2425320"/>
              <a:chOff x="1142640" y="3962520"/>
              <a:chExt cx="6858000" cy="2425320"/>
            </a:xfrm>
          </p:grpSpPr>
          <p:sp>
            <p:nvSpPr>
              <p:cNvPr id="130" name="Rectangle 6"/>
              <p:cNvSpPr/>
              <p:nvPr/>
            </p:nvSpPr>
            <p:spPr>
              <a:xfrm>
                <a:off x="1465560" y="4358880"/>
                <a:ext cx="848160" cy="899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7"/>
              <p:cNvSpPr/>
              <p:nvPr/>
            </p:nvSpPr>
            <p:spPr>
              <a:xfrm>
                <a:off x="4242600" y="4734360"/>
                <a:ext cx="1001880" cy="4496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8"/>
              <p:cNvSpPr/>
              <p:nvPr/>
            </p:nvSpPr>
            <p:spPr>
              <a:xfrm>
                <a:off x="5554080" y="4734360"/>
                <a:ext cx="1001880" cy="4496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9"/>
              <p:cNvSpPr/>
              <p:nvPr/>
            </p:nvSpPr>
            <p:spPr>
              <a:xfrm>
                <a:off x="6865200" y="4734360"/>
                <a:ext cx="1001880" cy="4496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0"/>
              <p:cNvSpPr/>
              <p:nvPr/>
            </p:nvSpPr>
            <p:spPr>
              <a:xfrm>
                <a:off x="4074480" y="5994000"/>
                <a:ext cx="13428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th-TH" sz="2000" spc="-1" strike="noStrike">
                    <a:solidFill>
                      <a:srgbClr val="ffff99"/>
                    </a:solidFill>
                    <a:latin typeface="Arial"/>
                    <a:ea typeface="Cordia New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1"/>
              <p:cNvSpPr/>
              <p:nvPr/>
            </p:nvSpPr>
            <p:spPr>
              <a:xfrm>
                <a:off x="1142640" y="4038120"/>
                <a:ext cx="6660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ffff99"/>
                    </a:solidFill>
                    <a:latin typeface="Arial"/>
                    <a:ea typeface="Cordia New"/>
                  </a:rPr>
                  <a:t>CPU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12"/>
              <p:cNvSpPr/>
              <p:nvPr/>
            </p:nvSpPr>
            <p:spPr>
              <a:xfrm>
                <a:off x="5146560" y="4262040"/>
                <a:ext cx="12740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ffff99"/>
                    </a:solidFill>
                    <a:latin typeface="Arial"/>
                    <a:ea typeface="Cordia New"/>
                  </a:rPr>
                  <a:t>I/O Devi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13"/>
              <p:cNvSpPr/>
              <p:nvPr/>
            </p:nvSpPr>
            <p:spPr>
              <a:xfrm>
                <a:off x="2854800" y="4059000"/>
                <a:ext cx="770760" cy="1199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4"/>
              <p:cNvSpPr/>
              <p:nvPr/>
            </p:nvSpPr>
            <p:spPr>
              <a:xfrm flipV="1">
                <a:off x="1812600" y="5559480"/>
                <a:ext cx="5708520" cy="648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15"/>
              <p:cNvSpPr/>
              <p:nvPr/>
            </p:nvSpPr>
            <p:spPr>
              <a:xfrm flipV="1">
                <a:off x="1851120" y="5221440"/>
                <a:ext cx="0" cy="37404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16"/>
              <p:cNvSpPr/>
              <p:nvPr/>
            </p:nvSpPr>
            <p:spPr>
              <a:xfrm flipV="1">
                <a:off x="3240360" y="5221440"/>
                <a:ext cx="0" cy="37404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17"/>
              <p:cNvSpPr/>
              <p:nvPr/>
            </p:nvSpPr>
            <p:spPr>
              <a:xfrm flipV="1">
                <a:off x="4705560" y="5146200"/>
                <a:ext cx="0" cy="4500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8"/>
              <p:cNvSpPr/>
              <p:nvPr/>
            </p:nvSpPr>
            <p:spPr>
              <a:xfrm flipV="1">
                <a:off x="6093360" y="5146200"/>
                <a:ext cx="0" cy="4500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19"/>
              <p:cNvSpPr/>
              <p:nvPr/>
            </p:nvSpPr>
            <p:spPr>
              <a:xfrm flipV="1">
                <a:off x="7558560" y="5146200"/>
                <a:ext cx="0" cy="4500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20"/>
              <p:cNvSpPr/>
              <p:nvPr/>
            </p:nvSpPr>
            <p:spPr>
              <a:xfrm>
                <a:off x="3690720" y="4111560"/>
                <a:ext cx="6433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ffff99"/>
                    </a:solidFill>
                    <a:latin typeface="Arial"/>
                    <a:ea typeface="Cordia New"/>
                  </a:rPr>
                  <a:t>RA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21"/>
              <p:cNvSpPr/>
              <p:nvPr/>
            </p:nvSpPr>
            <p:spPr>
              <a:xfrm>
                <a:off x="3570840" y="5611680"/>
                <a:ext cx="60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ffff99"/>
                    </a:solidFill>
                    <a:latin typeface="Arial"/>
                    <a:ea typeface="Cordia New"/>
                  </a:rPr>
                  <a:t>BU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22"/>
              <p:cNvSpPr/>
              <p:nvPr/>
            </p:nvSpPr>
            <p:spPr>
              <a:xfrm>
                <a:off x="1146960" y="3962520"/>
                <a:ext cx="6853680" cy="20314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Rectangle 23"/>
            <p:cNvSpPr/>
            <p:nvPr/>
          </p:nvSpPr>
          <p:spPr>
            <a:xfrm>
              <a:off x="1143000" y="2971800"/>
              <a:ext cx="68580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>
              <a:off x="1143000" y="3733920"/>
              <a:ext cx="175248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3657600" y="3733920"/>
              <a:ext cx="434340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7"/>
            <p:cNvSpPr/>
            <p:nvPr/>
          </p:nvSpPr>
          <p:spPr>
            <a:xfrm>
              <a:off x="1371600" y="2819520"/>
              <a:ext cx="30456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8"/>
            <p:cNvSpPr/>
            <p:nvPr/>
          </p:nvSpPr>
          <p:spPr>
            <a:xfrm>
              <a:off x="4267080" y="2819520"/>
              <a:ext cx="30492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9"/>
            <p:cNvSpPr/>
            <p:nvPr/>
          </p:nvSpPr>
          <p:spPr>
            <a:xfrm>
              <a:off x="4724280" y="2819520"/>
              <a:ext cx="30492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0"/>
            <p:cNvSpPr/>
            <p:nvPr/>
          </p:nvSpPr>
          <p:spPr>
            <a:xfrm>
              <a:off x="5181480" y="2819520"/>
              <a:ext cx="30492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1"/>
            <p:cNvSpPr/>
            <p:nvPr/>
          </p:nvSpPr>
          <p:spPr>
            <a:xfrm>
              <a:off x="5638680" y="2819520"/>
              <a:ext cx="30492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2"/>
            <p:cNvSpPr/>
            <p:nvPr/>
          </p:nvSpPr>
          <p:spPr>
            <a:xfrm>
              <a:off x="6095880" y="2819520"/>
              <a:ext cx="30492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3"/>
            <p:cNvSpPr/>
            <p:nvPr/>
          </p:nvSpPr>
          <p:spPr>
            <a:xfrm>
              <a:off x="6553080" y="2819520"/>
              <a:ext cx="30492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4"/>
            <p:cNvSpPr/>
            <p:nvPr/>
          </p:nvSpPr>
          <p:spPr>
            <a:xfrm>
              <a:off x="7010280" y="2819520"/>
              <a:ext cx="30492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5"/>
            <p:cNvSpPr/>
            <p:nvPr/>
          </p:nvSpPr>
          <p:spPr>
            <a:xfrm>
              <a:off x="7467480" y="2819520"/>
              <a:ext cx="30492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6"/>
            <p:cNvSpPr/>
            <p:nvPr/>
          </p:nvSpPr>
          <p:spPr>
            <a:xfrm>
              <a:off x="1828800" y="2819520"/>
              <a:ext cx="30456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37"/>
            <p:cNvSpPr/>
            <p:nvPr/>
          </p:nvSpPr>
          <p:spPr>
            <a:xfrm>
              <a:off x="2286000" y="2819520"/>
              <a:ext cx="30456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8"/>
            <p:cNvSpPr/>
            <p:nvPr/>
          </p:nvSpPr>
          <p:spPr>
            <a:xfrm>
              <a:off x="3276360" y="2819520"/>
              <a:ext cx="30492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9"/>
            <p:cNvSpPr/>
            <p:nvPr/>
          </p:nvSpPr>
          <p:spPr>
            <a:xfrm>
              <a:off x="3809880" y="2819520"/>
              <a:ext cx="30492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0"/>
            <p:cNvSpPr/>
            <p:nvPr/>
          </p:nvSpPr>
          <p:spPr>
            <a:xfrm>
              <a:off x="2743200" y="2819520"/>
              <a:ext cx="30456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41"/>
          <p:cNvSpPr/>
          <p:nvPr/>
        </p:nvSpPr>
        <p:spPr>
          <a:xfrm>
            <a:off x="3498120" y="152388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99"/>
                </a:solidFill>
                <a:latin typeface="Technical"/>
                <a:ea typeface="Cordia New"/>
              </a:rPr>
              <a:t>System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2"/>
          <p:cNvSpPr/>
          <p:nvPr/>
        </p:nvSpPr>
        <p:spPr>
          <a:xfrm flipH="1">
            <a:off x="2819520" y="1905120"/>
            <a:ext cx="129528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3"/>
          <p:cNvSpPr/>
          <p:nvPr/>
        </p:nvSpPr>
        <p:spPr>
          <a:xfrm>
            <a:off x="4495680" y="1905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4"/>
          <p:cNvSpPr/>
          <p:nvPr/>
        </p:nvSpPr>
        <p:spPr>
          <a:xfrm>
            <a:off x="4724280" y="1905120"/>
            <a:ext cx="1600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5"/>
          <p:cNvSpPr/>
          <p:nvPr/>
        </p:nvSpPr>
        <p:spPr>
          <a:xfrm>
            <a:off x="3962520" y="2133720"/>
            <a:ext cx="990360" cy="457200"/>
          </a:xfrm>
          <a:prstGeom prst="ellipse">
            <a:avLst/>
          </a:prstGeom>
          <a:gradFill rotWithShape="0">
            <a:gsLst>
              <a:gs pos="0">
                <a:srgbClr val="ff7c80"/>
              </a:gs>
              <a:gs pos="100000">
                <a:srgbClr val="ff9ea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echnical"/>
                <a:ea typeface="Cordia New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4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5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6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638680" y="2362320"/>
            <a:ext cx="1447920" cy="380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echnical"/>
                <a:ea typeface="Cordia New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5032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alasi Linux Ubu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17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M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asukkan CD  Master Linu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U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buntu, maka akan muncul menu tampil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" descr=""/>
          <p:cNvPicPr/>
          <p:nvPr/>
        </p:nvPicPr>
        <p:blipFill>
          <a:blip r:embed="rId1"/>
          <a:stretch/>
        </p:blipFill>
        <p:spPr>
          <a:xfrm>
            <a:off x="1447920" y="2278080"/>
            <a:ext cx="5962680" cy="39592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0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4200"/>
                            </p:stCondLst>
                            <p:childTnLst>
                              <p:par>
                                <p:cTn id="10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4936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2.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Berikutnya diminta untuk menentukan bahasa yang digunakan selama instala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5340600" cy="395748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936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3.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Selanjutnya adalah memilih negara lokasi bermukim saat ini. Untuk memilih negara Indonesia, pilih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other – Asia –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624640" cy="395748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5800"/>
                            </p:stCondLst>
                            <p:childTnLst>
                              <p:par>
                                <p:cTn id="10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.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Selanjutnya, kita memilih keyboard yang akan digunakan. A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ditawarkan dua metode untuk memilih keyboar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Opsi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Yes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, akan diminta menekan beberapa tombol sesuai karakter keyboard yang dimili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  <a:ea typeface="MS Mincho"/>
              </a:rPr>
              <a:t>Memilih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  <a:ea typeface="MS Mincho"/>
              </a:rPr>
              <a:t>No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  <a:ea typeface="MS Mincho"/>
              </a:rPr>
              <a:t>, bisa dipilih keyboard dari daftar yang diberik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0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9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9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9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9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457200" y="14940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5. I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nstaller Ubuntu akan melakukan loading awal tool-tool dan pa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yang diperlukan untuk melakukan pendeteksian hardware sebel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melakukan partis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467480" cy="1527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8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6.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Pertama kali, installer akan mencoba mendeteksi kartu jari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yang dimiliki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Isikan hostname yang diingin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1295280" y="2558880"/>
            <a:ext cx="6629400" cy="300384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7. 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Selanjutnya adalah menentukan time z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4419720" cy="266220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9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419040" y="15235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Selanjutnya kita masuk ke tahap pemartisian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ilih metode manual, artinya akan membuat sendiri partisi-partisi yang diperlukan berikut menentukan mount pointny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4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316560" cy="359712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9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9.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Jika anda memilih partisi yang masih kosong. Anda akan diminta memasukkan besar partisi yang akan dibuat, jenis file systemnya, label, mount point dan sebagainy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4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6647040" cy="359712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3657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Untuk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root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dan partisi lainnya, termasuk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/home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, sebaiknya menggunakan file system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ext3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533760" cy="480060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0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stem  operasi  mempunyai  tiga  sasaran  uta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nyamanan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isien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revolu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Untuk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/boot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(jika anda membuat terpisah)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ext2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, dan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swap area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untuk partisi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swap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6956280" cy="359748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175"/>
                            </p:stCondLst>
                            <p:childTnLst>
                              <p:par>
                                <p:cTn id="1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Jika karena sesuatu hal, misalnya karena RAM yang berlebih, anda tidak membuat partisi swap, akan muncul peringatan seperti 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4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291440" cy="395928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0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533520" y="335232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10.S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etting nama lengkap, username dan pas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468600" cy="468000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6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7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8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9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0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Selanj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t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nya, anda akan diminta memasukkan alamat proxy ya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digunakan jika sekiranya anda menggunakan proxy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Ini diperlukan untuk melakukan update selama instala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1600200" y="2514600"/>
            <a:ext cx="5791320" cy="252720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5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5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7" dur="1000"/>
                                        <p:tgtEl>
                                          <p:spTgt spid="5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12. 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Jika tidak ada masalah, maka selesailah proses instalasi Ubuntu 8.10 Intrepid Ibex menggunakan CD alternate i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  <a:ea typeface="MS PGothic"/>
              </a:rPr>
              <a:t>        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Pilih </a:t>
            </a:r>
            <a:r>
              <a:rPr b="0" i="1" lang="id-ID" sz="2400" spc="-1" strike="noStrike">
                <a:solidFill>
                  <a:srgbClr val="ffffff"/>
                </a:solidFill>
                <a:latin typeface="Arial"/>
              </a:rPr>
              <a:t>continue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 dan tekan </a:t>
            </a:r>
            <a:r>
              <a:rPr b="0" i="1" lang="id-ID" sz="2400" spc="-1" strike="noStrike">
                <a:solidFill>
                  <a:srgbClr val="ffffff"/>
                </a:solidFill>
                <a:latin typeface="Arial"/>
              </a:rPr>
              <a:t>enter</a:t>
            </a: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 untuk reboot.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7162560" cy="210816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5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6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7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7" dur="10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es Formati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laskan Langkah-langkah 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  <a:ea typeface="Calibri"/>
              </a:rPr>
              <a:t>instalasi Linux UBUNTU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  <a:ea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ffffff"/>
                </a:solidFill>
                <a:latin typeface="Arial"/>
                <a:ea typeface="MS Mincho"/>
              </a:rPr>
              <a:t>Bagaimanakah keamanan </a:t>
            </a: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Linux UBUNTU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  <a:ea typeface="MS Mincho"/>
              </a:rPr>
              <a:t> jika dibandingkan dengan window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">
            <a:hlinkClick r:id="" action="ppaction://hlinkshowjump?jump=previousslide"/>
          </p:cNvPr>
          <p:cNvSpPr/>
          <p:nvPr/>
        </p:nvSpPr>
        <p:spPr>
          <a:xfrm>
            <a:off x="832176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6">
            <a:hlinkClick r:id="" action="ppaction://hlinkshowjump?jump=firstslide"/>
          </p:cNvPr>
          <p:cNvSpPr/>
          <p:nvPr/>
        </p:nvSpPr>
        <p:spPr>
          <a:xfrm>
            <a:off x="870732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179280" y="6021360"/>
            <a:ext cx="1042920" cy="26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DE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0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6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2" dur="1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8" dur="10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iapan Instalasi MS Windows 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Persyaratan Hardwa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esor Min 30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M 128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Disk Free Space 1.5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 /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es Formatif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Apa yang dimaksud dengan Sistem operas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Sebutkan jenis-jenis sistem operasi berdasarkan layanan (interface) terhadap pengguna, beserta contohnya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0" y="64533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Module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stall the operatingsystem-based Graphical User Interface (GU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>
            <a:hlinkClick r:id="" action="ppaction://hlinkshowjump?jump=previousslide"/>
          </p:cNvPr>
          <p:cNvSpPr/>
          <p:nvPr/>
        </p:nvSpPr>
        <p:spPr>
          <a:xfrm>
            <a:off x="796464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>
            <a:hlinkClick r:id="" action="ppaction://hlinkshowjump?jump=firstslide"/>
          </p:cNvPr>
          <p:cNvSpPr/>
          <p:nvPr/>
        </p:nvSpPr>
        <p:spPr>
          <a:xfrm>
            <a:off x="8350200" y="647388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>
            <a:hlinkClick r:id="" action="ppaction://hlinkshowjump?jump=nextslide"/>
          </p:cNvPr>
          <p:cNvSpPr/>
          <p:nvPr/>
        </p:nvSpPr>
        <p:spPr>
          <a:xfrm>
            <a:off x="8736120" y="648648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5">
            <a:hlinkClick r:id="" action="ppaction://hlinkshowjump?jump=previousslide"/>
          </p:cNvPr>
          <p:cNvSpPr/>
          <p:nvPr/>
        </p:nvSpPr>
        <p:spPr>
          <a:xfrm>
            <a:off x="7964640" y="642312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>
            <a:hlinkClick r:id="" action="ppaction://hlinkshowjump?jump=firstslide"/>
          </p:cNvPr>
          <p:cNvSpPr/>
          <p:nvPr/>
        </p:nvSpPr>
        <p:spPr>
          <a:xfrm>
            <a:off x="8350200" y="642312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>
            <a:hlinkClick r:id="" action="ppaction://hlinkshowjump?jump=nextslide"/>
          </p:cNvPr>
          <p:cNvSpPr/>
          <p:nvPr/>
        </p:nvSpPr>
        <p:spPr>
          <a:xfrm>
            <a:off x="8736120" y="6435720"/>
            <a:ext cx="344520" cy="333360"/>
          </a:xfrm>
          <a:custGeom>
            <a:avLst/>
            <a:gdLst>
              <a:gd name="textAreaLeft" fmla="*/ 21600 w 344520"/>
              <a:gd name="textAreaRight" fmla="*/ 322920 w 3445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2322" h="21600">
                <a:moveTo>
                  <a:pt x="0" y="0"/>
                </a:moveTo>
                <a:lnTo>
                  <a:pt x="22322" y="0"/>
                </a:lnTo>
                <a:lnTo>
                  <a:pt x="22322" y="21600"/>
                </a:lnTo>
                <a:lnTo>
                  <a:pt x="0" y="21600"/>
                </a:lnTo>
                <a:close/>
              </a:path>
              <a:path fill="lightenLess" w="22322" h="21600">
                <a:moveTo>
                  <a:pt x="0" y="0"/>
                </a:moveTo>
                <a:lnTo>
                  <a:pt x="22322" y="0"/>
                </a:lnTo>
                <a:lnTo>
                  <a:pt x="20922" y="1400"/>
                </a:lnTo>
                <a:lnTo>
                  <a:pt x="1400" y="1400"/>
                </a:lnTo>
                <a:close/>
              </a:path>
              <a:path fill="darken" w="22322" h="21600">
                <a:moveTo>
                  <a:pt x="22322" y="0"/>
                </a:moveTo>
                <a:lnTo>
                  <a:pt x="22322" y="21600"/>
                </a:lnTo>
                <a:lnTo>
                  <a:pt x="20922" y="20200"/>
                </a:lnTo>
                <a:lnTo>
                  <a:pt x="20922" y="1400"/>
                </a:lnTo>
                <a:close/>
              </a:path>
              <a:path fill="darkenLess" w="22322" h="21600">
                <a:moveTo>
                  <a:pt x="22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2" y="20200"/>
                </a:lnTo>
                <a:close/>
              </a:path>
              <a:path fill="lighten" w="22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2" h="21600">
                <a:moveTo>
                  <a:pt x="4155" y="3794"/>
                </a:moveTo>
                <a:lnTo>
                  <a:pt x="18168" y="10800"/>
                </a:lnTo>
                <a:lnTo>
                  <a:pt x="41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1752480" y="304920"/>
            <a:ext cx="73915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Melakukan instalasi sistem operasi berbasis graphical user interface (GUI) dan </a:t>
            </a:r>
            <a:r>
              <a:rPr b="1" i="1" lang="sv-SE" sz="3200" spc="-1" strike="noStrike">
                <a:solidFill>
                  <a:srgbClr val="ffffff"/>
                </a:solidFill>
                <a:latin typeface="Arial"/>
              </a:rPr>
              <a:t>command line interface</a:t>
            </a: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 (C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152280" y="51814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Melaksanakan instalasi sistem operasi berbasis GUI sesuai </a:t>
            </a:r>
            <a:r>
              <a:rPr b="1" i="1" lang="sv-SE" sz="2400" spc="-1" strike="noStrike">
                <a:solidFill>
                  <a:srgbClr val="ffffff"/>
                </a:solidFill>
                <a:latin typeface="Arial"/>
              </a:rPr>
              <a:t>Installation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4">
            <a:hlinkClick r:id="rId2"/>
          </p:cNvPr>
          <p:cNvSpPr/>
          <p:nvPr/>
        </p:nvSpPr>
        <p:spPr>
          <a:xfrm>
            <a:off x="152280" y="6095880"/>
            <a:ext cx="1043280" cy="26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DE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80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3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3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30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6:07:18Z</dcterms:created>
  <dc:creator>MM SMKN 5 MLG</dc:creator>
  <dc:description/>
  <dc:language>en-US</dc:language>
  <cp:lastModifiedBy>RIYAD</cp:lastModifiedBy>
  <dcterms:modified xsi:type="dcterms:W3CDTF">2012-03-07T00:52:56Z</dcterms:modified>
  <cp:revision>63</cp:revision>
  <dc:subject/>
  <dc:title>Melakukan instalasi sistem operasi berbasis graphical user interface (GUI) dan command line interface (CLI) </dc:title>
</cp:coreProperties>
</file>