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hammer.wav" ContentType="audio/x-wav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2.png" ContentType="image/png"/>
  <Override PartName="/ppt/media/image11.png" ContentType="image/png"/>
  <Override PartName="/ppt/media/image5.png" ContentType="image/png"/>
  <Override PartName="/ppt/media/applause.wav" ContentType="audio/x-wav"/>
  <Override PartName="/ppt/media/image43.jpeg" ContentType="image/jpeg"/>
  <Override PartName="/ppt/media/image17.jpeg" ContentType="image/jpeg"/>
  <Override PartName="/ppt/media/image3.png" ContentType="image/png"/>
  <Override PartName="/ppt/media/image33.png" ContentType="image/png"/>
  <Override PartName="/ppt/media/breeze.wav" ContentType="audio/x-wav"/>
  <Override PartName="/ppt/media/image10.png" ContentType="image/png"/>
  <Override PartName="/ppt/media/image1.jpeg" ContentType="image/jpeg"/>
  <Override PartName="/ppt/media/image35.jpeg" ContentType="image/jpeg"/>
  <Override PartName="/ppt/media/image23.png" ContentType="image/png"/>
  <Override PartName="/ppt/media/image27.png" ContentType="image/png"/>
  <Override PartName="/ppt/media/image47.jpeg" ContentType="image/jpeg"/>
  <Override PartName="/ppt/media/image28.png" ContentType="image/png"/>
  <Override PartName="/ppt/media/image38.jpeg" ContentType="image/jpeg"/>
  <Override PartName="/ppt/media/image40.jpeg" ContentType="image/jpeg"/>
  <Override PartName="/ppt/media/image44.jpeg" ContentType="image/jpeg"/>
  <Override PartName="/ppt/media/image9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31.png" ContentType="image/png"/>
  <Override PartName="/ppt/media/image6.png" ContentType="image/png"/>
  <Override PartName="/ppt/media/image32.png" ContentType="image/png"/>
  <Override PartName="/ppt/media/image7.png" ContentType="image/png"/>
  <Override PartName="/ppt/media/image41.jpeg" ContentType="image/jpeg"/>
  <Override PartName="/ppt/media/image45.jpeg" ContentType="image/jpeg"/>
  <Override PartName="/ppt/media/wind.wav" ContentType="audio/x-wav"/>
  <Override PartName="/ppt/media/image48.jpeg" ContentType="image/jpeg"/>
  <Override PartName="/ppt/media/image26.png" ContentType="image/png"/>
  <Override PartName="/ppt/media/image30.png" ContentType="image/png"/>
  <Override PartName="/ppt/media/image37.jpeg" ContentType="image/jpeg"/>
  <Override PartName="/ppt/media/voltage.wav" ContentType="audio/x-wav"/>
  <Override PartName="/ppt/media/image39.jpeg" ContentType="image/jpeg"/>
  <Override PartName="/ppt/media/image8.png" ContentType="image/png"/>
  <Override PartName="/ppt/media/suction.wav" ContentType="audio/x-wav"/>
  <Override PartName="/ppt/media/image25.png" ContentType="image/png"/>
  <Override PartName="/ppt/media/image42.jpeg" ContentType="image/jpeg"/>
  <Override PartName="/ppt/media/image46.jpeg" ContentType="image/jpeg"/>
  <Override PartName="/ppt/media/arrow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A39D-6C82-4534-8EDC-0280BFAE5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63FF-5E4A-4965-8B64-AC3C49A3C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1B42-9EDD-4D0A-802B-260837DC7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06FB-3914-421D-8FC9-29811EF31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42E5-F594-4660-B4D5-FA30B9027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7083-7B4D-49C7-8D83-A10613BE0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272C-853E-44D2-A9AC-627C2E543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2785-2C07-455C-AC5C-1F04BD84F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0AD8-5B63-4B40-981F-9F3F7A086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2B7C-9440-41D5-8B11-863838263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87FB-A015-4170-A4D6-1783C65FA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DF45-241D-4815-9BAC-B4493E8CC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0C54-C4B7-44DA-8B20-5FEDB33B8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EAEE-7B83-4AD9-ABD8-C432088F1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CE02-E1BF-4F90-98C2-EB6C08F9F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4D52-08C1-4ED7-AB7A-65E5BFEE0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EBB7-88F9-4D4F-8F05-65391E52F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F98B-54EB-4E39-AACE-8C7B7447E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5FD8-5EA0-463B-8199-D73CB7CEB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B1AB-A2B2-43C5-A973-4B63C313C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4AE7-854D-4974-8CC0-0BB453325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1AC1-150D-4088-A4F4-7E5113D8F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0176-CB9F-44E4-BB79-8C9CDEA48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B4ED-02B9-42D7-B5C6-712C36824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A359-638D-45C0-AA00-F673DC330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BDBB-2704-4698-ABBD-5CA17CE8E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549B-44B7-4330-B63D-5D7E46C95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DC3D-C3EF-4EC8-A1BA-AE9C93409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3F10-0E2F-4D9F-94F0-84BB380DF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E68F-1504-4B05-93B4-FF7E6998E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F971-22B1-4417-90EA-B4B746B3E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3C24-3052-4287-AA30-7F8AF958E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9FA5-E62B-43AA-A222-67CCB5403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1475-DC45-4E2F-AD2F-253CA912D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FF83-BD26-428F-B0D0-2A3212D55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E828-F7FD-45F9-B098-8B085E54D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7429-4E9C-4DB9-B460-7FE905ED7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A6EB-CB7E-4FFF-B2CA-8D66FF962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B51D-2C89-4535-9EE7-831AB4D51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E37C-3C2B-4FE4-B2C4-88B9D1200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E73B-14EF-4FA2-98AB-947DF91AE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6B40-D253-4B7D-97F1-CB3CDBC81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E680-57E9-4560-A75E-13515FA95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9859-8F6A-466D-84A3-2065BC3F2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3CFC-88DE-463E-8F01-0A81E1B3A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73A5-452D-406E-ADFD-AC288F0AC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E7FA-B7CA-49F0-8A44-019F21AA1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6D55-9F76-47BB-8D4F-159F68D15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20AC-19EF-4D82-B4E5-CFEB540DC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897D-541A-4B09-9B5B-65EBAE98A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5E7B-04AF-4A32-B4AC-0E0C55A14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211A-41BA-4640-8240-B57E4513C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8674-E57B-42E1-AB04-73BFB7BAB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389B-ACA4-4356-ABA4-CDE8C77EE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631B-B9B6-4BFC-B22F-418DE295A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7DBC-A238-4FD4-A3C7-32FA82E7C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EB68-06DE-4CF1-97CE-604382D96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BC38-9A88-4721-91DA-9B8F85969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0275-0904-496D-92BE-B81204947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B7E4-76DB-46E1-9272-25E8ACAF8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8A34-5E67-44EF-BBD9-89C56B3A5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C5F0-861D-4C01-9EB4-62846E2A3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2584-CB28-46BD-B18A-F2CCA49FD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62AD-1F2B-4C02-AAF5-1E0765337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92D7-FA82-4F12-8CA6-7CD1EE1F0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AF0A-0B21-4F45-8225-C6386CB31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6855-80B9-4FCE-AA44-CACF5F261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F952-A76B-40CE-A6A0-C870BCC7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F8A7-8FD4-4F53-83AC-40DC41DF9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6FD1-1039-4801-AC34-EC2E69584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0227-AD90-46BA-BEEF-9222E389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58AD-0F30-48F8-AB2A-E6DE00CE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7A7D-430B-4821-AB47-21410B51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142F-0509-4BDF-BB51-9565254C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B09E-0F65-4520-A4BE-C710C306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0CF6-05D1-48FC-AE92-5B22F40C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B009-047C-41D4-9230-E397BCA0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9D60-5EA1-4718-887D-E861BBBB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67A6-7196-4360-8C2D-1DFDD0B4F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Awal%20Presentasi%20Depan_ind.ppt" TargetMode="External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Awal%20Presentasi%20Depan_ind.pp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hyperlink" Target="file:///Awal%20Presentasi%20Depan_ind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Awal%20Presentasi%20Depan_ind.ppt" TargetMode="External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Awal%20Presentasi%20Depan_ind.pp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Awal%20Presentasi%20Depan_ind.ppt" TargetMode="External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file:///Awal%20Presentasi%20Depan_ind.pp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Awal%20Presentasi%20Depan_ind.ppt" TargetMode="External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73915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Melakukan instalasi sistem operasi berbasis graphical user interface (GUI) dan </a:t>
            </a:r>
            <a:r>
              <a:rPr b="1" i="1" lang="sv-SE" sz="3200" spc="-1" strike="noStrike">
                <a:solidFill>
                  <a:srgbClr val="ffffff"/>
                </a:solidFill>
                <a:latin typeface="Arial"/>
              </a:rPr>
              <a:t>command line interface</a:t>
            </a: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 (CL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52280" y="502920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ffff"/>
                </a:solidFill>
                <a:latin typeface="Arial"/>
              </a:rPr>
              <a:t>Men</a:t>
            </a: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jelaskan langkah instalasi sistem operasi</a:t>
            </a:r>
            <a:r>
              <a:rPr b="1" lang="id-ID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berbasis GUI </a:t>
            </a:r>
            <a:r>
              <a:rPr b="1" i="1" lang="sv-SE" sz="2400" spc="-1" strike="noStrike">
                <a:solidFill>
                  <a:srgbClr val="ffffff"/>
                </a:solidFill>
                <a:latin typeface="Arial"/>
              </a:rPr>
              <a:t>(Graphical User Interf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6">
            <a:hlinkClick r:id="" action="ppaction://hlinkshowjump?jump=firstslide"/>
          </p:cNvPr>
          <p:cNvSpPr/>
          <p:nvPr/>
        </p:nvSpPr>
        <p:spPr>
          <a:xfrm>
            <a:off x="8325000" y="6410160"/>
            <a:ext cx="360360" cy="33372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23322" h="21600">
                <a:moveTo>
                  <a:pt x="0" y="0"/>
                </a:moveTo>
                <a:lnTo>
                  <a:pt x="23322" y="0"/>
                </a:lnTo>
                <a:lnTo>
                  <a:pt x="23322" y="21600"/>
                </a:lnTo>
                <a:lnTo>
                  <a:pt x="0" y="21600"/>
                </a:lnTo>
                <a:close/>
              </a:path>
              <a:path fill="lightenLess" w="23322" h="21600">
                <a:moveTo>
                  <a:pt x="0" y="0"/>
                </a:moveTo>
                <a:lnTo>
                  <a:pt x="23322" y="0"/>
                </a:lnTo>
                <a:lnTo>
                  <a:pt x="21922" y="1400"/>
                </a:lnTo>
                <a:lnTo>
                  <a:pt x="1400" y="1400"/>
                </a:lnTo>
                <a:close/>
              </a:path>
              <a:path fill="darken" w="23322" h="21600">
                <a:moveTo>
                  <a:pt x="23322" y="0"/>
                </a:moveTo>
                <a:lnTo>
                  <a:pt x="23322" y="21600"/>
                </a:lnTo>
                <a:lnTo>
                  <a:pt x="21922" y="20200"/>
                </a:lnTo>
                <a:lnTo>
                  <a:pt x="21922" y="1400"/>
                </a:lnTo>
                <a:close/>
              </a:path>
              <a:path fill="darkenLess" w="23322" h="21600">
                <a:moveTo>
                  <a:pt x="23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22" y="20200"/>
                </a:lnTo>
                <a:close/>
              </a:path>
              <a:path fill="lighten" w="23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22" h="21600">
                <a:moveTo>
                  <a:pt x="11661" y="3837"/>
                </a:moveTo>
                <a:lnTo>
                  <a:pt x="14238" y="6448"/>
                </a:lnTo>
                <a:lnTo>
                  <a:pt x="14238" y="4707"/>
                </a:lnTo>
                <a:lnTo>
                  <a:pt x="16013" y="4707"/>
                </a:lnTo>
                <a:lnTo>
                  <a:pt x="16013" y="8224"/>
                </a:lnTo>
                <a:lnTo>
                  <a:pt x="18624" y="10800"/>
                </a:lnTo>
                <a:lnTo>
                  <a:pt x="16970" y="10800"/>
                </a:lnTo>
                <a:lnTo>
                  <a:pt x="16970" y="17989"/>
                </a:lnTo>
                <a:lnTo>
                  <a:pt x="6352" y="17989"/>
                </a:lnTo>
                <a:lnTo>
                  <a:pt x="6352" y="10800"/>
                </a:lnTo>
                <a:lnTo>
                  <a:pt x="4698" y="10800"/>
                </a:lnTo>
                <a:close/>
              </a:path>
              <a:path fill="darkenLess" w="23322" h="21600">
                <a:moveTo>
                  <a:pt x="14238" y="6448"/>
                </a:moveTo>
                <a:lnTo>
                  <a:pt x="14238" y="4707"/>
                </a:lnTo>
                <a:lnTo>
                  <a:pt x="16013" y="4707"/>
                </a:lnTo>
                <a:lnTo>
                  <a:pt x="16013" y="8224"/>
                </a:lnTo>
                <a:close/>
              </a:path>
              <a:path fill="darkenLess" w="23322" h="21600">
                <a:moveTo>
                  <a:pt x="10739" y="14299"/>
                </a:moveTo>
                <a:lnTo>
                  <a:pt x="12584" y="14299"/>
                </a:lnTo>
                <a:lnTo>
                  <a:pt x="12584" y="17989"/>
                </a:lnTo>
                <a:lnTo>
                  <a:pt x="16970" y="17989"/>
                </a:lnTo>
                <a:lnTo>
                  <a:pt x="16970" y="10800"/>
                </a:lnTo>
                <a:lnTo>
                  <a:pt x="6352" y="10800"/>
                </a:lnTo>
                <a:lnTo>
                  <a:pt x="6352" y="17989"/>
                </a:lnTo>
                <a:lnTo>
                  <a:pt x="1073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>
            <a:hlinkClick r:id="" action="ppaction://hlinkshowjump?jump=nextslide"/>
          </p:cNvPr>
          <p:cNvSpPr/>
          <p:nvPr/>
        </p:nvSpPr>
        <p:spPr>
          <a:xfrm>
            <a:off x="8710560" y="642312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>
            <a:hlinkClick r:id="rId2"/>
          </p:cNvPr>
          <p:cNvSpPr/>
          <p:nvPr/>
        </p:nvSpPr>
        <p:spPr>
          <a:xfrm>
            <a:off x="179280" y="6021360"/>
            <a:ext cx="1042920" cy="26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Arial"/>
              </a:rPr>
              <a:t>DE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TUJU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Siswa dapat </a:t>
            </a:r>
            <a:r>
              <a:rPr b="0" lang="sv-SE" sz="2000" spc="-1" strike="noStrike">
                <a:solidFill>
                  <a:srgbClr val="ffffff"/>
                </a:solidFill>
                <a:latin typeface="Arial"/>
                <a:ea typeface="Calibri"/>
              </a:rPr>
              <a:t>Melaksanakan instalasi sistem operasi berbasis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  <a:ea typeface="Calibri"/>
              </a:rPr>
              <a:t>sesuai </a:t>
            </a:r>
            <a:r>
              <a:rPr b="0" i="1" lang="sv-SE" sz="2000" spc="-1" strike="noStrike">
                <a:solidFill>
                  <a:srgbClr val="ffffff"/>
                </a:solidFill>
                <a:latin typeface="Arial"/>
                <a:ea typeface="Calibri"/>
              </a:rPr>
              <a:t>Installation M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99"/>
                </a:solidFill>
                <a:latin typeface="Arial"/>
              </a:rPr>
              <a:t>POKOK BAHAS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Melaksanakan instalasi sistem operasi berbasis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sesuai </a:t>
            </a:r>
            <a:r>
              <a:rPr b="0" i="1" lang="sv-SE" sz="2000" spc="-1" strike="noStrike">
                <a:solidFill>
                  <a:srgbClr val="ffffff"/>
                </a:solidFill>
                <a:latin typeface="Arial"/>
              </a:rPr>
              <a:t>Installation M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5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6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7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>
            <a:hlinkClick r:id="rId1"/>
          </p:cNvPr>
          <p:cNvSpPr/>
          <p:nvPr/>
        </p:nvSpPr>
        <p:spPr>
          <a:xfrm>
            <a:off x="179280" y="6021360"/>
            <a:ext cx="1042920" cy="26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Arial"/>
              </a:rPr>
              <a:t>DE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8856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stalasi Windows XP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Masuk menu BIOS, pilih menu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kemudian pilih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ot Device Prior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boot1"/>
          <p:cNvPicPr/>
          <p:nvPr/>
        </p:nvPicPr>
        <p:blipFill>
          <a:blip r:embed="rId1"/>
          <a:stretch/>
        </p:blipFill>
        <p:spPr>
          <a:xfrm>
            <a:off x="1295280" y="2286000"/>
            <a:ext cx="6302520" cy="39592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Rubah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-R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da posisi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1st Boot Devi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ntuk dapat boot dari CD-R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boot2"/>
          <p:cNvPicPr/>
          <p:nvPr/>
        </p:nvPicPr>
        <p:blipFill>
          <a:blip r:embed="rId1"/>
          <a:stretch/>
        </p:blipFill>
        <p:spPr>
          <a:xfrm>
            <a:off x="1219320" y="2286000"/>
            <a:ext cx="6333840" cy="39592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33520" y="23320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Restart komputer, lalu masukkan CD master Windows XP, bila muncul kata-ka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ess anykey to boot from CD . . 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ekan tombol sembar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Lanjut pad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censing Agree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tek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ntuk melanjutk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insxp2"/>
          <p:cNvPicPr/>
          <p:nvPr/>
        </p:nvPicPr>
        <p:blipFill>
          <a:blip r:embed="rId1"/>
          <a:stretch/>
        </p:blipFill>
        <p:spPr>
          <a:xfrm>
            <a:off x="1600200" y="2286000"/>
            <a:ext cx="5506920" cy="39574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1409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Untuk membuat partisi baru, tekan tombol C pada   keyboard dan tek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e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tuk menginsta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insxp3"/>
          <p:cNvPicPr/>
          <p:nvPr/>
        </p:nvPicPr>
        <p:blipFill>
          <a:blip r:embed="rId1"/>
          <a:stretch/>
        </p:blipFill>
        <p:spPr>
          <a:xfrm>
            <a:off x="1447920" y="2362320"/>
            <a:ext cx="6333840" cy="395928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 Masukkan seberapa besar partisi yang hendak anda buat dalam satuan megabyte (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insxp4"/>
          <p:cNvPicPr/>
          <p:nvPr/>
        </p:nvPicPr>
        <p:blipFill>
          <a:blip r:embed="rId1"/>
          <a:stretch/>
        </p:blipFill>
        <p:spPr>
          <a:xfrm>
            <a:off x="1828800" y="2362320"/>
            <a:ext cx="5343480" cy="39574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20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21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22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23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. Kemudian tek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ntuk memulai proses instalasi (tek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tuk delete partisi yang anda bu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insxp5"/>
          <p:cNvPicPr/>
          <p:nvPr/>
        </p:nvPicPr>
        <p:blipFill>
          <a:blip r:embed="rId1"/>
          <a:stretch/>
        </p:blipFill>
        <p:spPr>
          <a:xfrm>
            <a:off x="1600200" y="2362320"/>
            <a:ext cx="6365880" cy="395928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7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8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9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0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.Pilih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TFS file system (Quick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au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T file sistem (Quick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lu tek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insxp6"/>
          <p:cNvPicPr/>
          <p:nvPr/>
        </p:nvPicPr>
        <p:blipFill>
          <a:blip r:embed="rId1"/>
          <a:stretch/>
        </p:blipFill>
        <p:spPr>
          <a:xfrm>
            <a:off x="2133720" y="2362320"/>
            <a:ext cx="5027400" cy="395928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. Maka akan tampil seperti gambar beriku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insxp9"/>
          <p:cNvPicPr/>
          <p:nvPr/>
        </p:nvPicPr>
        <p:blipFill>
          <a:blip r:embed="rId1"/>
          <a:stretch/>
        </p:blipFill>
        <p:spPr>
          <a:xfrm>
            <a:off x="1752480" y="2133720"/>
            <a:ext cx="5149800" cy="395928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61"/>
          <p:cNvSpPr/>
          <p:nvPr/>
        </p:nvSpPr>
        <p:spPr>
          <a:xfrm>
            <a:off x="2345400" y="371520"/>
            <a:ext cx="50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PETA KEDUDUKAN KOMPETEN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62">
            <a:hlinkClick r:id="" action="ppaction://hlinkshowjump?jump=firstslide"/>
          </p:cNvPr>
          <p:cNvSpPr/>
          <p:nvPr/>
        </p:nvSpPr>
        <p:spPr>
          <a:xfrm>
            <a:off x="83376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3">
            <a:hlinkClick r:id="" action="ppaction://hlinkshowjump?jump=nextslide"/>
          </p:cNvPr>
          <p:cNvSpPr/>
          <p:nvPr/>
        </p:nvSpPr>
        <p:spPr>
          <a:xfrm>
            <a:off x="872316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4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65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66"/>
          <p:cNvGrpSpPr/>
          <p:nvPr/>
        </p:nvGrpSpPr>
        <p:grpSpPr>
          <a:xfrm>
            <a:off x="503280" y="1523880"/>
            <a:ext cx="8640720" cy="4824360"/>
            <a:chOff x="503280" y="1523880"/>
            <a:chExt cx="8640720" cy="4824360"/>
          </a:xfrm>
        </p:grpSpPr>
        <p:sp>
          <p:nvSpPr>
            <p:cNvPr id="59" name="Line 67"/>
            <p:cNvSpPr/>
            <p:nvPr/>
          </p:nvSpPr>
          <p:spPr>
            <a:xfrm>
              <a:off x="7920000" y="2244600"/>
              <a:ext cx="0" cy="3529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68"/>
            <p:cNvSpPr/>
            <p:nvPr/>
          </p:nvSpPr>
          <p:spPr>
            <a:xfrm>
              <a:off x="5761080" y="2100240"/>
              <a:ext cx="0" cy="2305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69"/>
            <p:cNvSpPr/>
            <p:nvPr/>
          </p:nvSpPr>
          <p:spPr>
            <a:xfrm>
              <a:off x="3529080" y="2316240"/>
              <a:ext cx="0" cy="3889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70"/>
            <p:cNvSpPr/>
            <p:nvPr/>
          </p:nvSpPr>
          <p:spPr>
            <a:xfrm>
              <a:off x="1368360" y="2316240"/>
              <a:ext cx="0" cy="129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71"/>
            <p:cNvSpPr/>
            <p:nvPr/>
          </p:nvSpPr>
          <p:spPr>
            <a:xfrm>
              <a:off x="4464000" y="1668240"/>
              <a:ext cx="287280" cy="287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72"/>
            <p:cNvSpPr/>
            <p:nvPr/>
          </p:nvSpPr>
          <p:spPr>
            <a:xfrm>
              <a:off x="6696000" y="1668240"/>
              <a:ext cx="289080" cy="287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73"/>
            <p:cNvGrpSpPr/>
            <p:nvPr/>
          </p:nvGrpSpPr>
          <p:grpSpPr>
            <a:xfrm>
              <a:off x="503280" y="1523880"/>
              <a:ext cx="8640720" cy="4824360"/>
              <a:chOff x="503280" y="1523880"/>
              <a:chExt cx="8640720" cy="4824360"/>
            </a:xfrm>
          </p:grpSpPr>
          <p:sp>
            <p:nvSpPr>
              <p:cNvPr id="66" name="Text Box 74"/>
              <p:cNvSpPr/>
              <p:nvPr/>
            </p:nvSpPr>
            <p:spPr>
              <a:xfrm>
                <a:off x="4930560" y="2473200"/>
                <a:ext cx="1608480" cy="420840"/>
              </a:xfrm>
              <a:prstGeom prst="rect">
                <a:avLst/>
              </a:prstGeom>
              <a:solidFill>
                <a:srgbClr val="808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880" rIns="20880" tIns="2088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ndiagnosis permasalahan pengoperasian PC yang tersambung jaringangnosi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Text Box 75"/>
              <p:cNvSpPr/>
              <p:nvPr/>
            </p:nvSpPr>
            <p:spPr>
              <a:xfrm>
                <a:off x="4930560" y="3049560"/>
                <a:ext cx="1608480" cy="426960"/>
              </a:xfrm>
              <a:prstGeom prst="rect">
                <a:avLst/>
              </a:prstGeom>
              <a:solidFill>
                <a:srgbClr val="808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880" rIns="20880" tIns="2088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lakukan perbaikan dan/</a:t>
                </a:r>
                <a:r>
                  <a:rPr b="0" lang="id-ID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0" lang="sv-SE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tau </a:t>
                </a:r>
                <a:r>
                  <a:rPr b="0" i="1" lang="sv-SE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etting</a:t>
                </a:r>
                <a:r>
                  <a:rPr b="0" lang="sv-SE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ulang koneksi jaringa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Text Box 76"/>
              <p:cNvSpPr/>
              <p:nvPr/>
            </p:nvSpPr>
            <p:spPr>
              <a:xfrm>
                <a:off x="4940280" y="3603600"/>
                <a:ext cx="1608120" cy="428400"/>
              </a:xfrm>
              <a:prstGeom prst="rect">
                <a:avLst/>
              </a:prstGeom>
              <a:solidFill>
                <a:srgbClr val="808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880" rIns="20880" tIns="2088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lakukan instalasi sistem operasi jaringan berbasis GUI </a:t>
                </a:r>
                <a:r>
                  <a:rPr b="0" i="1" lang="fi-FI" sz="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(Graphical User Interface) dan Text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Text Box 77"/>
              <p:cNvSpPr/>
              <p:nvPr/>
            </p:nvSpPr>
            <p:spPr>
              <a:xfrm>
                <a:off x="7142040" y="1904760"/>
                <a:ext cx="1608120" cy="428760"/>
              </a:xfrm>
              <a:prstGeom prst="rect">
                <a:avLst/>
              </a:prstGeom>
              <a:solidFill>
                <a:srgbClr val="666699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880" rIns="20880" tIns="2088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lakukan instalasi perangkat jaringan berbasis luas </a:t>
                </a:r>
                <a:r>
                  <a:rPr b="0" i="1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(Wide Area Network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Text Box 78"/>
              <p:cNvSpPr/>
              <p:nvPr/>
            </p:nvSpPr>
            <p:spPr>
              <a:xfrm>
                <a:off x="7149960" y="2460600"/>
                <a:ext cx="1608120" cy="428400"/>
              </a:xfrm>
              <a:prstGeom prst="rect">
                <a:avLst/>
              </a:prstGeom>
              <a:solidFill>
                <a:srgbClr val="666699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880" rIns="20880" tIns="2088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ndiagnosis permasalahan perangkat yang tersambung jaringan berbasis luas </a:t>
                </a:r>
                <a:r>
                  <a:rPr b="0" i="1" lang="en-GB" sz="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(Wide Area Network)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Text Box 79"/>
              <p:cNvSpPr/>
              <p:nvPr/>
            </p:nvSpPr>
            <p:spPr>
              <a:xfrm>
                <a:off x="7149960" y="3036960"/>
                <a:ext cx="1608120" cy="428400"/>
              </a:xfrm>
              <a:prstGeom prst="rect">
                <a:avLst/>
              </a:prstGeom>
              <a:solidFill>
                <a:srgbClr val="666699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880" rIns="20880" tIns="2088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mbuat desain sistem keamanan jaringa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Text Box 80"/>
              <p:cNvSpPr/>
              <p:nvPr/>
            </p:nvSpPr>
            <p:spPr>
              <a:xfrm>
                <a:off x="2735280" y="3038400"/>
                <a:ext cx="1608120" cy="428760"/>
              </a:xfrm>
              <a:prstGeom prst="rect">
                <a:avLst/>
              </a:prstGeom>
              <a:solidFill>
                <a:srgbClr val="0000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880" rIns="20880" tIns="2088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ndiagnosis permasalahan pengoperasian PC dan </a:t>
                </a:r>
                <a:r>
                  <a:rPr b="0" i="1" lang="es-ES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erifera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Text Box 81"/>
              <p:cNvSpPr/>
              <p:nvPr/>
            </p:nvSpPr>
            <p:spPr>
              <a:xfrm>
                <a:off x="2747880" y="3597120"/>
                <a:ext cx="1608120" cy="428760"/>
              </a:xfrm>
              <a:prstGeom prst="rect">
                <a:avLst/>
              </a:prstGeom>
              <a:solidFill>
                <a:srgbClr val="0000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880" rIns="20880" tIns="2088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lakukan perbaikan dan/</a:t>
                </a:r>
                <a:r>
                  <a:rPr b="0" lang="id-ID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0" lang="sv-SE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tau </a:t>
                </a:r>
                <a:r>
                  <a:rPr b="0" i="1" lang="sv-SE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etting</a:t>
                </a:r>
                <a:r>
                  <a:rPr b="0" lang="sv-SE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ulang sistem PC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Text Box 82"/>
              <p:cNvSpPr/>
              <p:nvPr/>
            </p:nvSpPr>
            <p:spPr>
              <a:xfrm>
                <a:off x="2760480" y="4165560"/>
                <a:ext cx="1608120" cy="428400"/>
              </a:xfrm>
              <a:prstGeom prst="rect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880" rIns="20880" tIns="2088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elakukan perbaikan </a:t>
                </a:r>
                <a:r>
                  <a:rPr b="0" i="1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ifera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 Box 83"/>
              <p:cNvSpPr/>
              <p:nvPr/>
            </p:nvSpPr>
            <p:spPr>
              <a:xfrm>
                <a:off x="2762280" y="5759280"/>
                <a:ext cx="1608120" cy="426960"/>
              </a:xfrm>
              <a:prstGeom prst="rect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880" rIns="20880" tIns="2088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elakukan instalasi </a:t>
                </a:r>
                <a:r>
                  <a:rPr b="0" i="1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ftwa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Text Box 84"/>
              <p:cNvSpPr/>
              <p:nvPr/>
            </p:nvSpPr>
            <p:spPr>
              <a:xfrm>
                <a:off x="2762280" y="4687920"/>
                <a:ext cx="1608120" cy="428400"/>
              </a:xfrm>
              <a:prstGeom prst="rect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880" rIns="20880" tIns="2088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elakukan perawatan PC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Text Box 85"/>
              <p:cNvSpPr/>
              <p:nvPr/>
            </p:nvSpPr>
            <p:spPr>
              <a:xfrm>
                <a:off x="2762280" y="5222880"/>
                <a:ext cx="1608120" cy="428400"/>
              </a:xfrm>
              <a:prstGeom prst="rect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880" rIns="20880" tIns="2088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elakukan instalasi sistem operasi berbasis graphical user interface (GUI) dan </a:t>
                </a:r>
                <a:r>
                  <a:rPr b="0" i="1" lang="sv-SE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mmand line interface</a:t>
                </a:r>
                <a:r>
                  <a:rPr b="0" lang="sv-SE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(CLI)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Text Box 86"/>
              <p:cNvSpPr/>
              <p:nvPr/>
            </p:nvSpPr>
            <p:spPr>
              <a:xfrm>
                <a:off x="4930560" y="1904760"/>
                <a:ext cx="1608480" cy="428760"/>
              </a:xfrm>
              <a:prstGeom prst="rect">
                <a:avLst/>
              </a:prstGeom>
              <a:solidFill>
                <a:srgbClr val="808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880" rIns="20880" tIns="2088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lakukan instalasi perangkat jaringan lokal </a:t>
                </a:r>
                <a:r>
                  <a:rPr b="0" i="1" lang="sv-SE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(Local Area Network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87"/>
              <p:cNvSpPr/>
              <p:nvPr/>
            </p:nvSpPr>
            <p:spPr>
              <a:xfrm>
                <a:off x="2722680" y="1898640"/>
                <a:ext cx="1608120" cy="428400"/>
              </a:xfrm>
              <a:prstGeom prst="rect">
                <a:avLst/>
              </a:prstGeom>
              <a:solidFill>
                <a:srgbClr val="0000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880" rIns="20880" tIns="2088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v-SE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nerapkan teknik elektronika analog dan digital dasa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88"/>
              <p:cNvSpPr/>
              <p:nvPr/>
            </p:nvSpPr>
            <p:spPr>
              <a:xfrm>
                <a:off x="2735280" y="2475000"/>
                <a:ext cx="1608120" cy="426960"/>
              </a:xfrm>
              <a:prstGeom prst="rect">
                <a:avLst/>
              </a:prstGeom>
              <a:solidFill>
                <a:srgbClr val="0000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880" rIns="20880" tIns="2088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nerapkan fungsi peripheral dan instalasi PC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 Box 89"/>
              <p:cNvSpPr/>
              <p:nvPr/>
            </p:nvSpPr>
            <p:spPr>
              <a:xfrm>
                <a:off x="7149960" y="3611520"/>
                <a:ext cx="1608120" cy="428760"/>
              </a:xfrm>
              <a:prstGeom prst="rect">
                <a:avLst/>
              </a:prstGeom>
              <a:solidFill>
                <a:srgbClr val="666699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880" rIns="20880" tIns="2088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lakukan perbaikan dan/</a:t>
                </a:r>
                <a:r>
                  <a:rPr b="0" lang="id-ID" sz="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0" lang="sv-SE" sz="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tau setting ulang koneksi jaringan berbasis luas </a:t>
                </a:r>
                <a:r>
                  <a:rPr b="0" i="1" lang="sv-SE" sz="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(Wide Area Network)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Text Box 90"/>
              <p:cNvSpPr/>
              <p:nvPr/>
            </p:nvSpPr>
            <p:spPr>
              <a:xfrm>
                <a:off x="7149960" y="4187880"/>
                <a:ext cx="1608120" cy="4284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880" rIns="20880" tIns="2088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ngadministrasi </a:t>
                </a:r>
                <a:r>
                  <a:rPr b="0" i="1" lang="en-GB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erver</a:t>
                </a:r>
                <a:r>
                  <a:rPr b="0" lang="en-GB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dalam jaringa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Text Box 91"/>
              <p:cNvSpPr/>
              <p:nvPr/>
            </p:nvSpPr>
            <p:spPr>
              <a:xfrm>
                <a:off x="7149960" y="4763880"/>
                <a:ext cx="1608120" cy="4287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880" rIns="20880" tIns="2088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rancang bangun dan menganalisa </a:t>
                </a:r>
                <a:r>
                  <a:rPr b="0" i="1" lang="en-GB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Wide Area Network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Text Box 92"/>
              <p:cNvSpPr/>
              <p:nvPr/>
            </p:nvSpPr>
            <p:spPr>
              <a:xfrm>
                <a:off x="7149960" y="5340240"/>
                <a:ext cx="1608120" cy="4269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880" rIns="20880" tIns="2088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rancang </a:t>
                </a:r>
                <a:r>
                  <a:rPr b="0" i="1" lang="en-GB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web</a:t>
                </a:r>
                <a:r>
                  <a:rPr b="0" lang="en-GB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data base untuk </a:t>
                </a:r>
                <a:r>
                  <a:rPr b="0" i="1" lang="en-GB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tent serve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Text Box 93"/>
              <p:cNvSpPr/>
              <p:nvPr/>
            </p:nvSpPr>
            <p:spPr>
              <a:xfrm>
                <a:off x="8424720" y="5916600"/>
                <a:ext cx="719280" cy="4096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ulu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94"/>
              <p:cNvSpPr/>
              <p:nvPr/>
            </p:nvSpPr>
            <p:spPr>
              <a:xfrm>
                <a:off x="6840360" y="1955880"/>
                <a:ext cx="0" cy="43099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Text Box 95"/>
              <p:cNvSpPr/>
              <p:nvPr/>
            </p:nvSpPr>
            <p:spPr>
              <a:xfrm>
                <a:off x="576360" y="2460600"/>
                <a:ext cx="1608120" cy="428400"/>
              </a:xfrm>
              <a:prstGeom prst="rect">
                <a:avLst/>
              </a:prstGeom>
              <a:solidFill>
                <a:srgbClr val="ff0066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880" rIns="20880" tIns="2088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000" spc="-1" strike="noStrike">
                    <a:solidFill>
                      <a:srgbClr val="ffffff"/>
                    </a:solidFill>
                    <a:latin typeface="Arial"/>
                  </a:rPr>
                  <a:t>Melakukan instalasi sistem operasi dasa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Text Box 96"/>
              <p:cNvSpPr/>
              <p:nvPr/>
            </p:nvSpPr>
            <p:spPr>
              <a:xfrm>
                <a:off x="576360" y="3036960"/>
                <a:ext cx="1608120" cy="428400"/>
              </a:xfrm>
              <a:prstGeom prst="rect">
                <a:avLst/>
              </a:prstGeom>
              <a:solidFill>
                <a:srgbClr val="ff0066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880" rIns="20880" tIns="2088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000" spc="-1" strike="noStrike">
                    <a:solidFill>
                      <a:srgbClr val="ffffff"/>
                    </a:solidFill>
                    <a:latin typeface="Arial"/>
                  </a:rPr>
                  <a:t>Menerapkan K 3 LH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Text Box 97"/>
              <p:cNvSpPr/>
              <p:nvPr/>
            </p:nvSpPr>
            <p:spPr>
              <a:xfrm>
                <a:off x="576360" y="1892160"/>
                <a:ext cx="1608120" cy="428760"/>
              </a:xfrm>
              <a:prstGeom prst="rect">
                <a:avLst/>
              </a:prstGeom>
              <a:solidFill>
                <a:srgbClr val="ff0066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880" rIns="20880" tIns="2088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rakit Personal Kompute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98"/>
              <p:cNvSpPr/>
              <p:nvPr/>
            </p:nvSpPr>
            <p:spPr>
              <a:xfrm>
                <a:off x="6696000" y="2028600"/>
                <a:ext cx="0" cy="2376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99"/>
              <p:cNvSpPr/>
              <p:nvPr/>
            </p:nvSpPr>
            <p:spPr>
              <a:xfrm>
                <a:off x="2303280" y="2028600"/>
                <a:ext cx="0" cy="1871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00"/>
              <p:cNvSpPr/>
              <p:nvPr/>
            </p:nvSpPr>
            <p:spPr>
              <a:xfrm>
                <a:off x="4464000" y="2028600"/>
                <a:ext cx="0" cy="4319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01"/>
              <p:cNvSpPr/>
              <p:nvPr/>
            </p:nvSpPr>
            <p:spPr>
              <a:xfrm>
                <a:off x="2448000" y="1884240"/>
                <a:ext cx="0" cy="43099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02"/>
              <p:cNvSpPr/>
              <p:nvPr/>
            </p:nvSpPr>
            <p:spPr>
              <a:xfrm>
                <a:off x="4608360" y="1896840"/>
                <a:ext cx="0" cy="43102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Text Box 103"/>
              <p:cNvSpPr/>
              <p:nvPr/>
            </p:nvSpPr>
            <p:spPr>
              <a:xfrm>
                <a:off x="503280" y="1523880"/>
                <a:ext cx="187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d-ID" sz="1400" spc="-1" strike="noStrike">
                    <a:solidFill>
                      <a:srgbClr val="ffff00"/>
                    </a:solidFill>
                    <a:latin typeface="Arial"/>
                  </a:rPr>
                  <a:t>Dasar Kejurua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Text Box 104"/>
              <p:cNvSpPr/>
              <p:nvPr/>
            </p:nvSpPr>
            <p:spPr>
              <a:xfrm>
                <a:off x="2643120" y="1523880"/>
                <a:ext cx="187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d-ID" sz="1400" spc="-1" strike="noStrike">
                    <a:solidFill>
                      <a:srgbClr val="ffff00"/>
                    </a:solidFill>
                    <a:latin typeface="Arial"/>
                  </a:rPr>
                  <a:t>Level I ( Kelas X 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Text Box 105"/>
              <p:cNvSpPr/>
              <p:nvPr/>
            </p:nvSpPr>
            <p:spPr>
              <a:xfrm>
                <a:off x="4857840" y="1528560"/>
                <a:ext cx="187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d-ID" sz="1400" spc="-1" strike="noStrike">
                    <a:solidFill>
                      <a:srgbClr val="ffff00"/>
                    </a:solidFill>
                    <a:latin typeface="Arial"/>
                  </a:rPr>
                  <a:t>Level II ( Kelas XI 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 Box 106"/>
              <p:cNvSpPr/>
              <p:nvPr/>
            </p:nvSpPr>
            <p:spPr>
              <a:xfrm>
                <a:off x="7053120" y="1523880"/>
                <a:ext cx="187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d-ID" sz="1400" spc="-1" strike="noStrike">
                    <a:solidFill>
                      <a:srgbClr val="ffff00"/>
                    </a:solidFill>
                    <a:latin typeface="Arial"/>
                  </a:rPr>
                  <a:t>Level III ( Kelas XII 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107"/>
              <p:cNvSpPr/>
              <p:nvPr/>
            </p:nvSpPr>
            <p:spPr>
              <a:xfrm>
                <a:off x="1368360" y="3468600"/>
                <a:ext cx="0" cy="431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108"/>
              <p:cNvSpPr/>
              <p:nvPr/>
            </p:nvSpPr>
            <p:spPr>
              <a:xfrm>
                <a:off x="1368360" y="3900240"/>
                <a:ext cx="934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09"/>
              <p:cNvSpPr/>
              <p:nvPr/>
            </p:nvSpPr>
            <p:spPr>
              <a:xfrm>
                <a:off x="2303280" y="2028600"/>
                <a:ext cx="36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110"/>
              <p:cNvSpPr/>
              <p:nvPr/>
            </p:nvSpPr>
            <p:spPr>
              <a:xfrm>
                <a:off x="3529080" y="6348240"/>
                <a:ext cx="934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111"/>
              <p:cNvSpPr/>
              <p:nvPr/>
            </p:nvSpPr>
            <p:spPr>
              <a:xfrm>
                <a:off x="4464000" y="2028600"/>
                <a:ext cx="36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112"/>
              <p:cNvSpPr/>
              <p:nvPr/>
            </p:nvSpPr>
            <p:spPr>
              <a:xfrm>
                <a:off x="5761080" y="4044960"/>
                <a:ext cx="0" cy="360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113"/>
              <p:cNvSpPr/>
              <p:nvPr/>
            </p:nvSpPr>
            <p:spPr>
              <a:xfrm>
                <a:off x="5761080" y="4405320"/>
                <a:ext cx="934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114"/>
              <p:cNvSpPr/>
              <p:nvPr/>
            </p:nvSpPr>
            <p:spPr>
              <a:xfrm>
                <a:off x="6696000" y="2028600"/>
                <a:ext cx="36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15"/>
              <p:cNvSpPr/>
              <p:nvPr/>
            </p:nvSpPr>
            <p:spPr>
              <a:xfrm>
                <a:off x="7920000" y="5773680"/>
                <a:ext cx="0" cy="360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116"/>
              <p:cNvSpPr/>
              <p:nvPr/>
            </p:nvSpPr>
            <p:spPr>
              <a:xfrm>
                <a:off x="7920000" y="6132600"/>
                <a:ext cx="504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117"/>
              <p:cNvSpPr/>
              <p:nvPr/>
            </p:nvSpPr>
            <p:spPr>
              <a:xfrm>
                <a:off x="3529080" y="6205320"/>
                <a:ext cx="0" cy="142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Oval 118"/>
            <p:cNvSpPr/>
            <p:nvPr/>
          </p:nvSpPr>
          <p:spPr>
            <a:xfrm>
              <a:off x="2290680" y="1681200"/>
              <a:ext cx="289080" cy="287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119">
            <a:hlinkClick r:id="rId1" action="ppaction://hlinksldjump"/>
          </p:cNvPr>
          <p:cNvSpPr/>
          <p:nvPr/>
        </p:nvSpPr>
        <p:spPr>
          <a:xfrm>
            <a:off x="2768760" y="5181480"/>
            <a:ext cx="1608120" cy="4827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880" rIns="20880" tIns="20880" bIns="14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800" spc="-1" strike="noStrike">
                <a:solidFill>
                  <a:srgbClr val="663300"/>
                </a:solidFill>
                <a:latin typeface="Arial"/>
              </a:rPr>
              <a:t>Melakukan instalasi sistem operasi berbasis graphical user interface (GUI) dan </a:t>
            </a:r>
            <a:r>
              <a:rPr b="0" i="1" lang="sv-SE" sz="800" spc="-1" strike="noStrike">
                <a:solidFill>
                  <a:srgbClr val="663300"/>
                </a:solidFill>
                <a:latin typeface="Arial"/>
              </a:rPr>
              <a:t>command line interface</a:t>
            </a:r>
            <a:r>
              <a:rPr b="0" lang="sv-SE" sz="800" spc="-1" strike="noStrike">
                <a:solidFill>
                  <a:srgbClr val="663300"/>
                </a:solidFill>
                <a:latin typeface="Arial"/>
              </a:rPr>
              <a:t> (CL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20"/>
          <p:cNvSpPr/>
          <p:nvPr/>
        </p:nvSpPr>
        <p:spPr>
          <a:xfrm rot="1703400">
            <a:off x="1331640" y="4660920"/>
            <a:ext cx="1224000" cy="719280"/>
          </a:xfrm>
          <a:prstGeom prst="rightArrow">
            <a:avLst>
              <a:gd name="adj1" fmla="val 50000"/>
              <a:gd name="adj2" fmla="val 425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800000"/>
                </a:solidFill>
                <a:latin typeface="Calibri"/>
              </a:rPr>
              <a:t>Klik Dis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21" descr=""/>
          <p:cNvPicPr/>
          <p:nvPr/>
        </p:nvPicPr>
        <p:blipFill>
          <a:blip r:embed="rId2"/>
          <a:stretch/>
        </p:blipFill>
        <p:spPr>
          <a:xfrm>
            <a:off x="4546440" y="32893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22">
            <a:hlinkClick r:id="rId3"/>
          </p:cNvPr>
          <p:cNvSpPr/>
          <p:nvPr/>
        </p:nvSpPr>
        <p:spPr>
          <a:xfrm>
            <a:off x="179280" y="6021360"/>
            <a:ext cx="1042920" cy="26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Arial"/>
              </a:rPr>
              <a:t>DE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3992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 Setelah muncul layar seperti dibawah ini kemudian klik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insxp11"/>
          <p:cNvPicPr/>
          <p:nvPr/>
        </p:nvPicPr>
        <p:blipFill>
          <a:blip r:embed="rId1"/>
          <a:stretch/>
        </p:blipFill>
        <p:spPr>
          <a:xfrm>
            <a:off x="1676520" y="2362320"/>
            <a:ext cx="5530680" cy="395748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. Isikan Nama dan Organisasi anda pada kolom  yang   muncul, kemudian klik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" descr="insxp12"/>
          <p:cNvPicPr/>
          <p:nvPr/>
        </p:nvPicPr>
        <p:blipFill>
          <a:blip r:embed="rId1"/>
          <a:stretch/>
        </p:blipFill>
        <p:spPr>
          <a:xfrm>
            <a:off x="1905120" y="2362320"/>
            <a:ext cx="5530680" cy="39574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1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. Masukk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ial Numbe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i type windows anda.    Kemudian klik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insxp13"/>
          <p:cNvPicPr/>
          <p:nvPr/>
        </p:nvPicPr>
        <p:blipFill>
          <a:blip r:embed="rId1"/>
          <a:stretch/>
        </p:blipFill>
        <p:spPr>
          <a:xfrm>
            <a:off x="1752480" y="2286000"/>
            <a:ext cx="5531040" cy="395748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7200" y="14860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. Isikan Nama Komputer dan Password (administr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tuk mengaksesnya. Lalu klik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4" descr="insxp14"/>
          <p:cNvPicPr/>
          <p:nvPr/>
        </p:nvPicPr>
        <p:blipFill>
          <a:blip r:embed="rId1"/>
          <a:stretch/>
        </p:blipFill>
        <p:spPr>
          <a:xfrm>
            <a:off x="2000160" y="2362320"/>
            <a:ext cx="5531040" cy="39574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6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7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8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9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77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5" dur="77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7" dur="77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9" dur="77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77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4" dur="77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6" dur="77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8" dur="77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57200" y="147276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et Time Zo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da posisi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GMT+07:00) Bangko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noi, Jakar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Klik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4" descr="insxp15"/>
          <p:cNvPicPr/>
          <p:nvPr/>
        </p:nvPicPr>
        <p:blipFill>
          <a:blip r:embed="rId1"/>
          <a:stretch/>
        </p:blipFill>
        <p:spPr>
          <a:xfrm>
            <a:off x="1752480" y="2349360"/>
            <a:ext cx="5531040" cy="395784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380880" y="2361960"/>
            <a:ext cx="8229600" cy="23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Typical sett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da option ini settingan jaringan  akan dibuat default Windows d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Custom sett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tuk mensetting jaringan anda secara manu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lih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Typical sett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tuk yang lebih familiar. Klik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5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6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7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57200" y="146052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. Bila anda sudah berada pada tampilan desktop seperti dibawah ini berarti instalasi berjalan lancar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5" descr="insxp18"/>
          <p:cNvPicPr/>
          <p:nvPr/>
        </p:nvPicPr>
        <p:blipFill>
          <a:blip r:embed="rId1"/>
          <a:stretch/>
        </p:blipFill>
        <p:spPr>
          <a:xfrm>
            <a:off x="2209680" y="2349360"/>
            <a:ext cx="5257800" cy="396108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6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7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8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9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7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Tes Formatif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laskan Langkah dalam </a:t>
            </a:r>
            <a:r>
              <a:rPr b="0" lang="sv-SE" sz="2000" spc="-1" strike="noStrike">
                <a:solidFill>
                  <a:srgbClr val="ffffff"/>
                </a:solidFill>
                <a:latin typeface="Arial"/>
                <a:ea typeface="Calibri"/>
              </a:rPr>
              <a:t>melaksanakan instalasi sistem operasi berbasis GUI sesuai </a:t>
            </a:r>
            <a:r>
              <a:rPr b="0" i="1" lang="sv-SE" sz="2000" spc="-1" strike="noStrike">
                <a:solidFill>
                  <a:srgbClr val="ffffff"/>
                </a:solidFill>
                <a:latin typeface="Arial"/>
                <a:ea typeface="Calibri"/>
              </a:rPr>
              <a:t>Installation Manual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ffffff"/>
                </a:solidFill>
                <a:latin typeface="Arial"/>
                <a:ea typeface="MS Mincho"/>
              </a:rPr>
              <a:t>Bagaimanakah keamanan Window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MS Mincho"/>
              </a:rPr>
              <a:t>XP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  <a:ea typeface="MS Mincho"/>
              </a:rPr>
              <a:t> jika dibandingkan dengan windows 9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MS Mincho"/>
              </a:rPr>
              <a:t>x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5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6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7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AutoShape 5">
            <a:hlinkClick r:id="" action="ppaction://hlinkshowjump?jump=previousslide"/>
          </p:cNvPr>
          <p:cNvSpPr/>
          <p:nvPr/>
        </p:nvSpPr>
        <p:spPr>
          <a:xfrm>
            <a:off x="7964640" y="643572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6">
            <a:hlinkClick r:id="" action="ppaction://hlinkshowjump?jump=firstslide"/>
          </p:cNvPr>
          <p:cNvSpPr/>
          <p:nvPr/>
        </p:nvSpPr>
        <p:spPr>
          <a:xfrm>
            <a:off x="8350200" y="643572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7">
            <a:hlinkClick r:id="" action="ppaction://hlinkshowjump?jump=nextslide"/>
          </p:cNvPr>
          <p:cNvSpPr/>
          <p:nvPr/>
        </p:nvSpPr>
        <p:spPr>
          <a:xfrm>
            <a:off x="8736120" y="644832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1752480" y="304920"/>
            <a:ext cx="73915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Melakukan instalasi sistem operasi berbasis graphical user interface (GUI) dan </a:t>
            </a:r>
            <a:r>
              <a:rPr b="1" i="1" lang="sv-SE" sz="3200" spc="-1" strike="noStrike">
                <a:solidFill>
                  <a:srgbClr val="ffffff"/>
                </a:solidFill>
                <a:latin typeface="Arial"/>
              </a:rPr>
              <a:t>command line interface</a:t>
            </a: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 (CL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1"/>
          <p:cNvSpPr/>
          <p:nvPr/>
        </p:nvSpPr>
        <p:spPr>
          <a:xfrm>
            <a:off x="228600" y="5105520"/>
            <a:ext cx="549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Menjelaskan langkah instalasi sistem operasi berbasis </a:t>
            </a:r>
            <a:r>
              <a:rPr b="1" i="1" lang="sv-SE" sz="2400" spc="-1" strike="noStrike">
                <a:solidFill>
                  <a:srgbClr val="ffffff"/>
                </a:solidFill>
                <a:latin typeface="Arial"/>
              </a:rPr>
              <a:t>command line interface</a:t>
            </a: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 (C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3">
            <a:hlinkClick r:id="rId2"/>
          </p:cNvPr>
          <p:cNvSpPr/>
          <p:nvPr/>
        </p:nvSpPr>
        <p:spPr>
          <a:xfrm>
            <a:off x="152280" y="6248520"/>
            <a:ext cx="1043280" cy="26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Arial"/>
              </a:rPr>
              <a:t>DE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380880" y="17521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TUJU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Siswa dapat Menjelaskan </a:t>
            </a:r>
            <a:r>
              <a:rPr b="0" lang="sv-SE" sz="2000" spc="-1" strike="noStrike">
                <a:solidFill>
                  <a:srgbClr val="ffffff"/>
                </a:solidFill>
                <a:latin typeface="Arial"/>
                <a:ea typeface="Calibri"/>
              </a:rPr>
              <a:t>langkah instalasi sistem oper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  <a:ea typeface="Calibri"/>
              </a:rPr>
              <a:t>berbasis </a:t>
            </a:r>
            <a:r>
              <a:rPr b="0" i="1" lang="sv-SE" sz="2000" spc="-1" strike="noStrike">
                <a:solidFill>
                  <a:srgbClr val="ffffff"/>
                </a:solidFill>
                <a:latin typeface="Arial"/>
                <a:ea typeface="Calibri"/>
              </a:rPr>
              <a:t>command line interface</a:t>
            </a:r>
            <a:r>
              <a:rPr b="0" lang="sv-SE" sz="2000" spc="-1" strike="noStrike">
                <a:solidFill>
                  <a:srgbClr val="ffffff"/>
                </a:solidFill>
                <a:latin typeface="Arial"/>
                <a:ea typeface="Calibri"/>
              </a:rPr>
              <a:t> (CL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99"/>
                </a:solidFill>
                <a:latin typeface="Arial"/>
              </a:rPr>
              <a:t>POKOK BAHAS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Menjelaskan langkah instalasi sistem operasi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berbasis </a:t>
            </a:r>
            <a:r>
              <a:rPr b="0" i="1" lang="sv-SE" sz="2000" spc="-1" strike="noStrike">
                <a:solidFill>
                  <a:srgbClr val="ffffff"/>
                </a:solidFill>
                <a:latin typeface="Arial"/>
              </a:rPr>
              <a:t>command l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ff"/>
                </a:solidFill>
                <a:latin typeface="Arial"/>
              </a:rPr>
              <a:t>interface</a:t>
            </a: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 (CL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5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6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7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8">
            <a:hlinkClick r:id="rId1"/>
          </p:cNvPr>
          <p:cNvSpPr/>
          <p:nvPr/>
        </p:nvSpPr>
        <p:spPr>
          <a:xfrm>
            <a:off x="179280" y="6021360"/>
            <a:ext cx="1042920" cy="26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Arial"/>
              </a:rPr>
              <a:t>DE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77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6" dur="77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8" dur="77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0" dur="77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77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5" dur="77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7" dur="77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9" dur="77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77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4" dur="77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6" dur="77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8" dur="77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77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3" dur="77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5" dur="77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7" dur="77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77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2" dur="77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4" dur="77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6" dur="77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77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1" dur="770" fill="hold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3" dur="770" fill="hold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5" dur="770" fill="hold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TUJU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Siswa dapat Menjelaskan langkah instalasi sistem operasi ber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GUI </a:t>
            </a:r>
            <a:r>
              <a:rPr b="0" i="1" lang="sv-SE" sz="2000" spc="-1" strike="noStrike">
                <a:solidFill>
                  <a:srgbClr val="ffffff"/>
                </a:solidFill>
                <a:latin typeface="Arial"/>
              </a:rPr>
              <a:t>(Graphical User Interf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99"/>
                </a:solidFill>
                <a:latin typeface="Arial"/>
              </a:rPr>
              <a:t>POKOK BAHAS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Menjelaskan langkah instalasi sistem operasi ber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GUI </a:t>
            </a:r>
            <a:r>
              <a:rPr b="0" i="1" lang="sv-SE" sz="2000" spc="-1" strike="noStrike">
                <a:solidFill>
                  <a:srgbClr val="ffffff"/>
                </a:solidFill>
                <a:latin typeface="Arial"/>
              </a:rPr>
              <a:t>(Graphical User Interf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5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600" spc="-1" strike="noStrike">
                <a:solidFill>
                  <a:srgbClr val="ffffff"/>
                </a:solidFill>
                <a:latin typeface="Arial"/>
              </a:rPr>
              <a:t>Instalasi FreeBS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Booting lewat cdrom -&gt; </a:t>
            </a:r>
            <a:r>
              <a:rPr b="0" i="1" lang="id-ID" sz="2400" spc="-1" strike="noStrike">
                <a:solidFill>
                  <a:srgbClr val="ffffff"/>
                </a:solidFill>
                <a:latin typeface="Arial"/>
              </a:rPr>
              <a:t>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8157960" cy="395928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0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8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S PGothic"/>
              </a:rPr>
              <a:t>2. T</a:t>
            </a: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ampil sysinstall – pilih </a:t>
            </a:r>
            <a:r>
              <a:rPr b="0" i="1" lang="id-ID" sz="2400" spc="-1" strike="noStrike">
                <a:solidFill>
                  <a:srgbClr val="ffffff"/>
                </a:solidFill>
                <a:latin typeface="Arial"/>
              </a:rPr>
              <a:t>‘Standard’</a:t>
            </a: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 -&gt; </a:t>
            </a:r>
            <a:r>
              <a:rPr b="0" i="1" lang="id-ID" sz="2400" spc="-1" strike="noStrike">
                <a:solidFill>
                  <a:srgbClr val="ffffff"/>
                </a:solidFill>
                <a:latin typeface="Arial"/>
              </a:rPr>
              <a:t>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"/>
          <p:cNvPicPr/>
          <p:nvPr/>
        </p:nvPicPr>
        <p:blipFill>
          <a:blip r:embed="rId1"/>
          <a:stretch/>
        </p:blipFill>
        <p:spPr>
          <a:xfrm>
            <a:off x="1523880" y="2211480"/>
            <a:ext cx="6016680" cy="395928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457200" y="1494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3.  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‘OK’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 – akan tampil program  fdisk untuk menyiapkan  partisi freeBS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 P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ilih  kemudian tekan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‘C’ Create sl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6572160" cy="396108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S PGothic"/>
              </a:rPr>
              <a:t>M</a:t>
            </a: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enentukan besar partisi freeBSD, langsung saja tekan </a:t>
            </a:r>
            <a:r>
              <a:rPr b="0" i="1" lang="id-ID" sz="2400" spc="-1" strike="noStrike">
                <a:solidFill>
                  <a:srgbClr val="ffffff"/>
                </a:solidFill>
                <a:latin typeface="Arial"/>
              </a:rPr>
              <a:t>enter</a:t>
            </a: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id-ID" sz="2400" spc="-1" strike="noStrike">
                <a:solidFill>
                  <a:srgbClr val="ffffff"/>
                </a:solidFill>
                <a:latin typeface="Arial"/>
              </a:rPr>
              <a:t>OK</a:t>
            </a: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4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6811920" cy="395928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8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S PGothic"/>
              </a:rPr>
              <a:t>5. T</a:t>
            </a: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elah terbentuk partisi freeBSD – tekan </a:t>
            </a:r>
            <a:r>
              <a:rPr b="0" i="1" lang="id-ID" sz="2400" spc="-1" strike="noStrike">
                <a:solidFill>
                  <a:srgbClr val="ffffff"/>
                </a:solidFill>
                <a:latin typeface="Arial"/>
              </a:rPr>
              <a:t>‘Q’</a:t>
            </a: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 fin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" descr=""/>
          <p:cNvPicPr/>
          <p:nvPr/>
        </p:nvPicPr>
        <p:blipFill>
          <a:blip r:embed="rId1"/>
          <a:stretch/>
        </p:blipFill>
        <p:spPr>
          <a:xfrm>
            <a:off x="1371600" y="2209680"/>
            <a:ext cx="6056280" cy="395928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S PGothic"/>
              </a:rPr>
              <a:t>6. </a:t>
            </a: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Jika hanya ada freeBSD pilih </a:t>
            </a:r>
            <a:r>
              <a:rPr b="0" i="1" lang="id-ID" sz="2400" spc="-1" strike="noStrike">
                <a:solidFill>
                  <a:srgbClr val="ffffff"/>
                </a:solidFill>
                <a:latin typeface="Arial"/>
              </a:rPr>
              <a:t>‘Standard’</a:t>
            </a: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4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13440" cy="395748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7. 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Tekan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‘A’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 untuk membuat partisi secara automatis. Untuk membuat partisi sendiri tekan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‘C’ Create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, jika sudah selesai tekan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‘Q’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 fin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1"/>
          <a:stretch/>
        </p:blipFill>
        <p:spPr>
          <a:xfrm>
            <a:off x="1523880" y="2286000"/>
            <a:ext cx="6053400" cy="395748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8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304920" y="1494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8. 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Memilih media installasi. Pilih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‘1 CD/DVD’ 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– en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1219320" y="2075040"/>
            <a:ext cx="6478560" cy="395748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0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3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57200" y="17222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Mulai proses instalasi tunggu sampai selesai kemudian –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‘OK’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7238880" cy="287640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10.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Konfigurasi ethernet. Pilih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‘YES’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 untuk melakukan konfigurasi ji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tidak pilih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‘NO’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4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7391520" cy="132732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0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24379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rebuchet MS"/>
              </a:rPr>
              <a:t>Sistem  Operasi (Operating Syst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Yaitu program yang dibuat untuk mengendalikan dan mengkoordinasikan seluruh kegiatan dari sistem k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5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6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7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11.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‘No’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 untuk tidak mengaktifkan IPv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524640" cy="395928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0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S PGothic"/>
              </a:rPr>
              <a:t>12. P</a:t>
            </a: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ilih </a:t>
            </a:r>
            <a:r>
              <a:rPr b="0" i="1" lang="id-ID" sz="2400" spc="-1" strike="noStrike">
                <a:solidFill>
                  <a:srgbClr val="ffffff"/>
                </a:solidFill>
                <a:latin typeface="Arial"/>
              </a:rPr>
              <a:t>‘No’</a:t>
            </a: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 jika ingin konfigurasi man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4" descr=""/>
          <p:cNvPicPr/>
          <p:nvPr/>
        </p:nvPicPr>
        <p:blipFill>
          <a:blip r:embed="rId1"/>
          <a:stretch/>
        </p:blipFill>
        <p:spPr>
          <a:xfrm>
            <a:off x="1371600" y="2209680"/>
            <a:ext cx="6913440" cy="395928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9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457200" y="1417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13. 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Konfigurasi   manual.   Jika  sudah  selasai  – 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OK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.  Kemudian  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‘Yes’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  untuk mengaktifk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1371600" y="2266920"/>
            <a:ext cx="6618240" cy="395928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0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6" dur="1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14. P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ilih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‘Yes’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 untuk membuat user accou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"/>
          <p:cNvPicPr/>
          <p:nvPr/>
        </p:nvPicPr>
        <p:blipFill>
          <a:blip r:embed="rId1"/>
          <a:stretch/>
        </p:blipFill>
        <p:spPr>
          <a:xfrm>
            <a:off x="990720" y="2590920"/>
            <a:ext cx="6858000" cy="128880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0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9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15. P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ilih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‘Us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4" descr=""/>
          <p:cNvPicPr/>
          <p:nvPr/>
        </p:nvPicPr>
        <p:blipFill>
          <a:blip r:embed="rId1"/>
          <a:stretch/>
        </p:blipFill>
        <p:spPr>
          <a:xfrm>
            <a:off x="1143000" y="2514600"/>
            <a:ext cx="7315200" cy="215748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0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16. I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si semua data kemudian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‘OK’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. Agar dapat menjalankan perintah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su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 Member groups : isi dengan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wheel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785000" cy="395928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0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17.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‘No’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 kemudian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‘Yes’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 system reboot installasi selesa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4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7696080" cy="266724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500"/>
                            </p:stCondLst>
                            <p:childTnLst>
                              <p:par>
                                <p:cTn id="9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Tes Formatif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laskan Langkah-langkah </a:t>
            </a:r>
            <a:r>
              <a:rPr b="0" lang="sv-SE" sz="2000" spc="-1" strike="noStrike">
                <a:solidFill>
                  <a:srgbClr val="ffffff"/>
                </a:solidFill>
                <a:latin typeface="Arial"/>
                <a:ea typeface="Calibri"/>
              </a:rPr>
              <a:t>instalasi FreeBSD 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  <a:ea typeface="Calibri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ffffff"/>
                </a:solidFill>
                <a:latin typeface="Arial"/>
                <a:ea typeface="MS Mincho"/>
              </a:rPr>
              <a:t>Bagaimanakah keaman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MS Mincho"/>
              </a:rPr>
              <a:t>FreeBSD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  <a:ea typeface="MS Mincho"/>
              </a:rPr>
              <a:t> jika dibandingkan dengan window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5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6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7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0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9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1000"/>
                            </p:stCondLst>
                            <p:childTnLst>
                              <p:par>
                                <p:cTn id="9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9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2000"/>
                            </p:stCondLst>
                            <p:childTnLst>
                              <p:par>
                                <p:cTn id="9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9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utoShape 4">
            <a:hlinkClick r:id="" action="ppaction://hlinkshowjump?jump=previousslide"/>
          </p:cNvPr>
          <p:cNvSpPr/>
          <p:nvPr/>
        </p:nvSpPr>
        <p:spPr>
          <a:xfrm>
            <a:off x="7964640" y="643572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5">
            <a:hlinkClick r:id="" action="ppaction://hlinkshowjump?jump=firstslide"/>
          </p:cNvPr>
          <p:cNvSpPr/>
          <p:nvPr/>
        </p:nvSpPr>
        <p:spPr>
          <a:xfrm>
            <a:off x="8350200" y="643572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6">
            <a:hlinkClick r:id="" action="ppaction://hlinkshowjump?jump=nextslide"/>
          </p:cNvPr>
          <p:cNvSpPr/>
          <p:nvPr/>
        </p:nvSpPr>
        <p:spPr>
          <a:xfrm>
            <a:off x="8736120" y="644832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1752480" y="304920"/>
            <a:ext cx="73915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Melakukan instalasi sistem operasi berbasis graphical user interface (GUI) dan </a:t>
            </a:r>
            <a:r>
              <a:rPr b="1" i="1" lang="sv-SE" sz="3200" spc="-1" strike="noStrike">
                <a:solidFill>
                  <a:srgbClr val="ffffff"/>
                </a:solidFill>
                <a:latin typeface="Arial"/>
              </a:rPr>
              <a:t>command line interface</a:t>
            </a: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 (CL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0"/>
          <p:cNvSpPr/>
          <p:nvPr/>
        </p:nvSpPr>
        <p:spPr>
          <a:xfrm>
            <a:off x="228600" y="5181480"/>
            <a:ext cx="608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Melaksanakan instalasi sistem operasi berbasis </a:t>
            </a:r>
            <a:r>
              <a:rPr b="1" i="1" lang="sv-SE" sz="24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 sesuai </a:t>
            </a:r>
            <a:r>
              <a:rPr b="1" i="1" lang="sv-SE" sz="2400" spc="-1" strike="noStrike">
                <a:solidFill>
                  <a:srgbClr val="ffffff"/>
                </a:solidFill>
                <a:latin typeface="Arial"/>
              </a:rPr>
              <a:t>Installation Man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2">
            <a:hlinkClick r:id="rId2"/>
          </p:cNvPr>
          <p:cNvSpPr/>
          <p:nvPr/>
        </p:nvSpPr>
        <p:spPr>
          <a:xfrm>
            <a:off x="152280" y="6172200"/>
            <a:ext cx="1043280" cy="26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Arial"/>
              </a:rPr>
              <a:t>DE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1000"/>
                            </p:stCondLst>
                            <p:childTnLst>
                              <p:par>
                                <p:cTn id="94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500"/>
                            </p:stCondLst>
                            <p:childTnLst>
                              <p:par>
                                <p:cTn id="9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500"/>
                            </p:stCondLst>
                            <p:childTnLst>
                              <p:par>
                                <p:cTn id="9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3500"/>
                            </p:stCondLst>
                            <p:childTnLst>
                              <p:par>
                                <p:cTn id="9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380880" y="19051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TUJU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Siswa dapat </a:t>
            </a:r>
            <a:r>
              <a:rPr b="0" lang="sv-SE" sz="2000" spc="-1" strike="noStrike">
                <a:solidFill>
                  <a:srgbClr val="ffffff"/>
                </a:solidFill>
                <a:latin typeface="Arial"/>
                <a:ea typeface="Calibri"/>
              </a:rPr>
              <a:t>Melaksanakan instalasi sistem operasi berbasis </a:t>
            </a:r>
            <a:r>
              <a:rPr b="0" i="1" lang="sv-SE" sz="2000" spc="-1" strike="noStrike">
                <a:solidFill>
                  <a:srgbClr val="ffffff"/>
                </a:solidFill>
                <a:latin typeface="Arial"/>
                <a:ea typeface="Calibri"/>
              </a:rPr>
              <a:t>text</a:t>
            </a:r>
            <a:r>
              <a:rPr b="0" lang="sv-SE" sz="20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  <a:ea typeface="Calibri"/>
              </a:rPr>
              <a:t>sesuai </a:t>
            </a:r>
            <a:r>
              <a:rPr b="0" i="1" lang="sv-SE" sz="2000" spc="-1" strike="noStrike">
                <a:solidFill>
                  <a:srgbClr val="ffffff"/>
                </a:solidFill>
                <a:latin typeface="Arial"/>
                <a:ea typeface="Calibri"/>
              </a:rPr>
              <a:t>Installation Manual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99"/>
                </a:solidFill>
                <a:latin typeface="Arial"/>
              </a:rPr>
              <a:t>POKOK BAHAS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Melaksanakan instalasi sistem operasi berbasis </a:t>
            </a:r>
            <a:r>
              <a:rPr b="0" i="1" lang="sv-SE" sz="20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sesuai </a:t>
            </a:r>
            <a:r>
              <a:rPr b="0" i="1" lang="sv-SE" sz="2000" spc="-1" strike="noStrike">
                <a:solidFill>
                  <a:srgbClr val="ffffff"/>
                </a:solidFill>
                <a:latin typeface="Arial"/>
              </a:rPr>
              <a:t>Installation M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5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6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7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8">
            <a:hlinkClick r:id="rId1"/>
          </p:cNvPr>
          <p:cNvSpPr/>
          <p:nvPr/>
        </p:nvSpPr>
        <p:spPr>
          <a:xfrm>
            <a:off x="179280" y="6021360"/>
            <a:ext cx="1042920" cy="26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Arial"/>
              </a:rPr>
              <a:t>DE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1000"/>
                            </p:stCondLst>
                            <p:childTnLst>
                              <p:par>
                                <p:cTn id="98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9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152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gan Sistem Oper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1981080" y="2362320"/>
            <a:ext cx="1447920" cy="380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Technical"/>
                <a:ea typeface="Cordia New"/>
              </a:rPr>
              <a:t>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2746800" y="3200400"/>
            <a:ext cx="369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echnical"/>
                <a:ea typeface="Cordia New"/>
              </a:rPr>
              <a:t>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59"/>
          <p:cNvGrpSpPr/>
          <p:nvPr/>
        </p:nvGrpSpPr>
        <p:grpSpPr>
          <a:xfrm>
            <a:off x="1142640" y="2819520"/>
            <a:ext cx="6858360" cy="3568320"/>
            <a:chOff x="1142640" y="2819520"/>
            <a:chExt cx="6858360" cy="3568320"/>
          </a:xfrm>
        </p:grpSpPr>
        <p:grpSp>
          <p:nvGrpSpPr>
            <p:cNvPr id="129" name="Group 5"/>
            <p:cNvGrpSpPr/>
            <p:nvPr/>
          </p:nvGrpSpPr>
          <p:grpSpPr>
            <a:xfrm>
              <a:off x="1142640" y="3962520"/>
              <a:ext cx="6858000" cy="2425320"/>
              <a:chOff x="1142640" y="3962520"/>
              <a:chExt cx="6858000" cy="2425320"/>
            </a:xfrm>
          </p:grpSpPr>
          <p:sp>
            <p:nvSpPr>
              <p:cNvPr id="130" name="Rectangle 6"/>
              <p:cNvSpPr/>
              <p:nvPr/>
            </p:nvSpPr>
            <p:spPr>
              <a:xfrm>
                <a:off x="1465560" y="4358880"/>
                <a:ext cx="848160" cy="899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7"/>
              <p:cNvSpPr/>
              <p:nvPr/>
            </p:nvSpPr>
            <p:spPr>
              <a:xfrm>
                <a:off x="4242600" y="4734360"/>
                <a:ext cx="1001880" cy="4496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8"/>
              <p:cNvSpPr/>
              <p:nvPr/>
            </p:nvSpPr>
            <p:spPr>
              <a:xfrm>
                <a:off x="5554080" y="4734360"/>
                <a:ext cx="1001880" cy="4496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9"/>
              <p:cNvSpPr/>
              <p:nvPr/>
            </p:nvSpPr>
            <p:spPr>
              <a:xfrm>
                <a:off x="6865200" y="4734360"/>
                <a:ext cx="1001880" cy="4496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10"/>
              <p:cNvSpPr/>
              <p:nvPr/>
            </p:nvSpPr>
            <p:spPr>
              <a:xfrm>
                <a:off x="4074480" y="5994000"/>
                <a:ext cx="13428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th-TH" sz="2000" spc="-1" strike="noStrike">
                    <a:solidFill>
                      <a:srgbClr val="ffff99"/>
                    </a:solidFill>
                    <a:latin typeface="Arial"/>
                    <a:ea typeface="Cordia New"/>
                  </a:rPr>
                  <a:t>Hardwar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11"/>
              <p:cNvSpPr/>
              <p:nvPr/>
            </p:nvSpPr>
            <p:spPr>
              <a:xfrm>
                <a:off x="1142640" y="4038120"/>
                <a:ext cx="6660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600" spc="-1" strike="noStrike">
                    <a:solidFill>
                      <a:srgbClr val="ffff99"/>
                    </a:solidFill>
                    <a:latin typeface="Arial"/>
                    <a:ea typeface="Cordia New"/>
                  </a:rPr>
                  <a:t>CPU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12"/>
              <p:cNvSpPr/>
              <p:nvPr/>
            </p:nvSpPr>
            <p:spPr>
              <a:xfrm>
                <a:off x="5146560" y="4262040"/>
                <a:ext cx="12740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600" spc="-1" strike="noStrike">
                    <a:solidFill>
                      <a:srgbClr val="ffff99"/>
                    </a:solidFill>
                    <a:latin typeface="Arial"/>
                    <a:ea typeface="Cordia New"/>
                  </a:rPr>
                  <a:t>I/O Devic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13"/>
              <p:cNvSpPr/>
              <p:nvPr/>
            </p:nvSpPr>
            <p:spPr>
              <a:xfrm>
                <a:off x="2854800" y="4059000"/>
                <a:ext cx="770760" cy="1199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14"/>
              <p:cNvSpPr/>
              <p:nvPr/>
            </p:nvSpPr>
            <p:spPr>
              <a:xfrm flipV="1">
                <a:off x="1812600" y="5559480"/>
                <a:ext cx="5708520" cy="648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15"/>
              <p:cNvSpPr/>
              <p:nvPr/>
            </p:nvSpPr>
            <p:spPr>
              <a:xfrm flipV="1">
                <a:off x="1851120" y="5221440"/>
                <a:ext cx="0" cy="37404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16"/>
              <p:cNvSpPr/>
              <p:nvPr/>
            </p:nvSpPr>
            <p:spPr>
              <a:xfrm flipV="1">
                <a:off x="3240360" y="5221440"/>
                <a:ext cx="0" cy="37404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17"/>
              <p:cNvSpPr/>
              <p:nvPr/>
            </p:nvSpPr>
            <p:spPr>
              <a:xfrm flipV="1">
                <a:off x="4705560" y="5146200"/>
                <a:ext cx="0" cy="45000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18"/>
              <p:cNvSpPr/>
              <p:nvPr/>
            </p:nvSpPr>
            <p:spPr>
              <a:xfrm flipV="1">
                <a:off x="6093360" y="5146200"/>
                <a:ext cx="0" cy="45000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19"/>
              <p:cNvSpPr/>
              <p:nvPr/>
            </p:nvSpPr>
            <p:spPr>
              <a:xfrm flipV="1">
                <a:off x="7558560" y="5146200"/>
                <a:ext cx="0" cy="45000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20"/>
              <p:cNvSpPr/>
              <p:nvPr/>
            </p:nvSpPr>
            <p:spPr>
              <a:xfrm>
                <a:off x="3690720" y="4111560"/>
                <a:ext cx="6433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600" spc="-1" strike="noStrike">
                    <a:solidFill>
                      <a:srgbClr val="ffff99"/>
                    </a:solidFill>
                    <a:latin typeface="Arial"/>
                    <a:ea typeface="Cordia New"/>
                  </a:rPr>
                  <a:t>RA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21"/>
              <p:cNvSpPr/>
              <p:nvPr/>
            </p:nvSpPr>
            <p:spPr>
              <a:xfrm>
                <a:off x="3570840" y="5611680"/>
                <a:ext cx="609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600" spc="-1" strike="noStrike">
                    <a:solidFill>
                      <a:srgbClr val="ffff99"/>
                    </a:solidFill>
                    <a:latin typeface="Arial"/>
                    <a:ea typeface="Cordia New"/>
                  </a:rPr>
                  <a:t>BU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22"/>
              <p:cNvSpPr/>
              <p:nvPr/>
            </p:nvSpPr>
            <p:spPr>
              <a:xfrm>
                <a:off x="1146960" y="3962520"/>
                <a:ext cx="6853680" cy="20314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Rectangle 23"/>
            <p:cNvSpPr/>
            <p:nvPr/>
          </p:nvSpPr>
          <p:spPr>
            <a:xfrm>
              <a:off x="1143000" y="2971800"/>
              <a:ext cx="68580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4"/>
            <p:cNvSpPr/>
            <p:nvPr/>
          </p:nvSpPr>
          <p:spPr>
            <a:xfrm>
              <a:off x="1143000" y="3733920"/>
              <a:ext cx="175248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5"/>
            <p:cNvSpPr/>
            <p:nvPr/>
          </p:nvSpPr>
          <p:spPr>
            <a:xfrm flipV="1">
              <a:off x="3657600" y="3733920"/>
              <a:ext cx="434340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27"/>
            <p:cNvSpPr/>
            <p:nvPr/>
          </p:nvSpPr>
          <p:spPr>
            <a:xfrm>
              <a:off x="1371600" y="2819520"/>
              <a:ext cx="304560" cy="3049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28"/>
            <p:cNvSpPr/>
            <p:nvPr/>
          </p:nvSpPr>
          <p:spPr>
            <a:xfrm>
              <a:off x="4267080" y="2819520"/>
              <a:ext cx="304920" cy="3049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29"/>
            <p:cNvSpPr/>
            <p:nvPr/>
          </p:nvSpPr>
          <p:spPr>
            <a:xfrm>
              <a:off x="4724280" y="2819520"/>
              <a:ext cx="304920" cy="3049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30"/>
            <p:cNvSpPr/>
            <p:nvPr/>
          </p:nvSpPr>
          <p:spPr>
            <a:xfrm>
              <a:off x="5181480" y="2819520"/>
              <a:ext cx="304920" cy="3049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31"/>
            <p:cNvSpPr/>
            <p:nvPr/>
          </p:nvSpPr>
          <p:spPr>
            <a:xfrm>
              <a:off x="5638680" y="2819520"/>
              <a:ext cx="304920" cy="3049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32"/>
            <p:cNvSpPr/>
            <p:nvPr/>
          </p:nvSpPr>
          <p:spPr>
            <a:xfrm>
              <a:off x="6095880" y="2819520"/>
              <a:ext cx="304920" cy="3049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33"/>
            <p:cNvSpPr/>
            <p:nvPr/>
          </p:nvSpPr>
          <p:spPr>
            <a:xfrm>
              <a:off x="6553080" y="2819520"/>
              <a:ext cx="304920" cy="3049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34"/>
            <p:cNvSpPr/>
            <p:nvPr/>
          </p:nvSpPr>
          <p:spPr>
            <a:xfrm>
              <a:off x="7010280" y="2819520"/>
              <a:ext cx="304920" cy="3049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35"/>
            <p:cNvSpPr/>
            <p:nvPr/>
          </p:nvSpPr>
          <p:spPr>
            <a:xfrm>
              <a:off x="7467480" y="2819520"/>
              <a:ext cx="304920" cy="3049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36"/>
            <p:cNvSpPr/>
            <p:nvPr/>
          </p:nvSpPr>
          <p:spPr>
            <a:xfrm>
              <a:off x="1828800" y="2819520"/>
              <a:ext cx="304560" cy="3049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37"/>
            <p:cNvSpPr/>
            <p:nvPr/>
          </p:nvSpPr>
          <p:spPr>
            <a:xfrm>
              <a:off x="2286000" y="2819520"/>
              <a:ext cx="304560" cy="3049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38"/>
            <p:cNvSpPr/>
            <p:nvPr/>
          </p:nvSpPr>
          <p:spPr>
            <a:xfrm>
              <a:off x="3276360" y="2819520"/>
              <a:ext cx="304920" cy="3049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39"/>
            <p:cNvSpPr/>
            <p:nvPr/>
          </p:nvSpPr>
          <p:spPr>
            <a:xfrm>
              <a:off x="3809880" y="2819520"/>
              <a:ext cx="304920" cy="3049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40"/>
            <p:cNvSpPr/>
            <p:nvPr/>
          </p:nvSpPr>
          <p:spPr>
            <a:xfrm>
              <a:off x="2743200" y="2819520"/>
              <a:ext cx="304560" cy="3049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 Box 41"/>
          <p:cNvSpPr/>
          <p:nvPr/>
        </p:nvSpPr>
        <p:spPr>
          <a:xfrm>
            <a:off x="3498120" y="152388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99"/>
                </a:solidFill>
                <a:latin typeface="Technical"/>
                <a:ea typeface="Cordia New"/>
              </a:rPr>
              <a:t>System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42"/>
          <p:cNvSpPr/>
          <p:nvPr/>
        </p:nvSpPr>
        <p:spPr>
          <a:xfrm flipH="1">
            <a:off x="2819520" y="1905120"/>
            <a:ext cx="129528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3"/>
          <p:cNvSpPr/>
          <p:nvPr/>
        </p:nvSpPr>
        <p:spPr>
          <a:xfrm>
            <a:off x="4495680" y="19051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4"/>
          <p:cNvSpPr/>
          <p:nvPr/>
        </p:nvSpPr>
        <p:spPr>
          <a:xfrm>
            <a:off x="4724280" y="1905120"/>
            <a:ext cx="160020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5"/>
          <p:cNvSpPr/>
          <p:nvPr/>
        </p:nvSpPr>
        <p:spPr>
          <a:xfrm>
            <a:off x="3962520" y="2133720"/>
            <a:ext cx="990360" cy="457200"/>
          </a:xfrm>
          <a:prstGeom prst="ellipse">
            <a:avLst/>
          </a:prstGeom>
          <a:gradFill rotWithShape="0">
            <a:gsLst>
              <a:gs pos="0">
                <a:srgbClr val="ff7c80"/>
              </a:gs>
              <a:gs pos="100000">
                <a:srgbClr val="ff9ea1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Technical"/>
                <a:ea typeface="Cordia New"/>
              </a:rPr>
              <a:t>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54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5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6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5638680" y="2362320"/>
            <a:ext cx="1447920" cy="380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Technical"/>
                <a:ea typeface="Cordia New"/>
              </a:rPr>
              <a:t>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5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880" y="5032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stalasi Linux Ubu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173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S PGothic"/>
              </a:rPr>
              <a:t>M</a:t>
            </a: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asukkan CD  Master Linux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S PGothic"/>
              </a:rPr>
              <a:t>U</a:t>
            </a: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buntu, maka akan muncul menu tampil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S PGothic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4" descr=""/>
          <p:cNvPicPr/>
          <p:nvPr/>
        </p:nvPicPr>
        <p:blipFill>
          <a:blip r:embed="rId1"/>
          <a:stretch/>
        </p:blipFill>
        <p:spPr>
          <a:xfrm>
            <a:off x="1447920" y="2278080"/>
            <a:ext cx="5962680" cy="395928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0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4200"/>
                            </p:stCondLst>
                            <p:childTnLst>
                              <p:par>
                                <p:cTn id="10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4936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2.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  <a:ea typeface="MS PGothic"/>
              </a:rPr>
              <a:t> 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Berikutnya diminta untuk menentukan bahasa yang digunakan selama instala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4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5340600" cy="395748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0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936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3.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Selanjutnya adalah memilih negara lokasi bermukim saat ini. Untuk memilih negara Indonesia, pilih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other – Asia – 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4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5624640" cy="395748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0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5800"/>
                            </p:stCondLst>
                            <p:childTnLst>
                              <p:par>
                                <p:cTn id="10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380880" y="2133360"/>
            <a:ext cx="8229600" cy="23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S PGothic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. 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Selanjutnya, kita memilih keyboard yang akan digunakan. Ak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ditawarkan dua metode untuk memilih keyboar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Opsi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Yes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, akan diminta menekan beberapa tombol sesuai karakter keyboard yang dimili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  <a:ea typeface="MS Mincho"/>
              </a:rPr>
              <a:t>Memilih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  <a:ea typeface="MS Mincho"/>
              </a:rPr>
              <a:t>No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  <a:ea typeface="MS Mincho"/>
              </a:rPr>
              <a:t>, bisa dipilih keyboard dari daftar yang diberik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4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5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6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7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0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9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10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90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9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1000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9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457200" y="149400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5. I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nstaller Ubuntu akan melakukan loading awal tool-tool dan pa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yang diperlukan untuk melakukan pendeteksian hardware sebel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melakukan partis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3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7467480" cy="152712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4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5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6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7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0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6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10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4" dur="5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8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6.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  <a:ea typeface="MS PGothic"/>
              </a:rPr>
              <a:t> 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Pertama kali, installer akan mencoba mendeteksi kartu jarin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yang dimiliki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Isikan hostname yang diingink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4" descr=""/>
          <p:cNvPicPr/>
          <p:nvPr/>
        </p:nvPicPr>
        <p:blipFill>
          <a:blip r:embed="rId1"/>
          <a:stretch/>
        </p:blipFill>
        <p:spPr>
          <a:xfrm>
            <a:off x="1295280" y="2558880"/>
            <a:ext cx="6629400" cy="300384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0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S PGothic"/>
              </a:rPr>
              <a:t>7. </a:t>
            </a: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Selanjutnya adalah menentukan time z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" descr=""/>
          <p:cNvPicPr/>
          <p:nvPr/>
        </p:nvPicPr>
        <p:blipFill>
          <a:blip r:embed="rId1"/>
          <a:stretch/>
        </p:blipFill>
        <p:spPr>
          <a:xfrm>
            <a:off x="2438280" y="2819520"/>
            <a:ext cx="4419720" cy="2662200"/>
          </a:xfrm>
          <a:prstGeom prst="rect">
            <a:avLst/>
          </a:prstGeom>
          <a:ln w="0">
            <a:noFill/>
          </a:ln>
        </p:spPr>
      </p:pic>
      <p:sp>
        <p:nvSpPr>
          <p:cNvPr id="471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0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10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9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419040" y="15235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Selanjutnya kita masuk ke tahap pemartisian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P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ilih metode manual, artinya akan membuat sendiri partisi-partisi yang diperlukan berikut menentukan mount pointny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4" descr=""/>
          <p:cNvPicPr/>
          <p:nvPr/>
        </p:nvPicPr>
        <p:blipFill>
          <a:blip r:embed="rId1"/>
          <a:stretch/>
        </p:blipFill>
        <p:spPr>
          <a:xfrm>
            <a:off x="1447920" y="2590920"/>
            <a:ext cx="6316560" cy="359712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0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1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9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9. 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Jika anda memilih partisi yang masih kosong. Anda akan diminta memasukkan besar partisi yang akan dibuat, jenis file systemnya, label, mount point dan sebagainy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4" descr=""/>
          <p:cNvPicPr/>
          <p:nvPr/>
        </p:nvPicPr>
        <p:blipFill>
          <a:blip r:embed="rId1"/>
          <a:stretch/>
        </p:blipFill>
        <p:spPr>
          <a:xfrm>
            <a:off x="1295280" y="2590920"/>
            <a:ext cx="6647040" cy="359712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0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0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3657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Untuk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root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 dan partisi lainnya, termasuk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/home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, sebaiknya menggunakan file system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ext3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4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533760" cy="480060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fill="hold">
                      <p:stCondLst>
                        <p:cond delay="0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500"/>
                            </p:stCondLst>
                            <p:childTnLst>
                              <p:par>
                                <p:cTn id="12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stem  operasi  mempunyai  tiga  sasaran  utam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nyamanan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isien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revolu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5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6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7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Untuk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/boot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 (jika anda membuat terpisah)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ext2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, dan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swap area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 untuk partisi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swap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4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6956280" cy="359748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fill="hold">
                      <p:stCondLst>
                        <p:cond delay="0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2175"/>
                            </p:stCondLst>
                            <p:childTnLst>
                              <p:par>
                                <p:cTn id="12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8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Jika karena sesuatu hal, misalnya karena RAM yang berlebih, anda tidak membuat partisi swap, akan muncul peringatan seperti i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4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7291440" cy="395928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0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3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533520" y="3352320"/>
            <a:ext cx="3581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10.S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etting nama lengkap, username dan pass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5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3468600" cy="4680000"/>
          </a:xfrm>
          <a:prstGeom prst="rect">
            <a:avLst/>
          </a:prstGeom>
          <a:ln w="0">
            <a:noFill/>
          </a:ln>
        </p:spPr>
      </p:pic>
      <p:sp>
        <p:nvSpPr>
          <p:cNvPr id="507" name="Text Box 6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7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8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9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fill="hold">
                      <p:stCondLst>
                        <p:cond delay="0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500"/>
                            </p:stCondLst>
                            <p:childTnLst>
                              <p:par>
                                <p:cTn id="12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1. 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Selanj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t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nya, anda akan diminta memasukkan alamat proxy ya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digunakan jika sekiranya anda menggunakan proxy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Ini diperlukan untuk melakukan update selama instala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" descr=""/>
          <p:cNvPicPr/>
          <p:nvPr/>
        </p:nvPicPr>
        <p:blipFill>
          <a:blip r:embed="rId1"/>
          <a:stretch/>
        </p:blipFill>
        <p:spPr>
          <a:xfrm>
            <a:off x="1600200" y="2514600"/>
            <a:ext cx="5791320" cy="252720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500"/>
                            </p:stCondLst>
                            <p:childTnLst>
                              <p:par>
                                <p:cTn id="12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5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5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7" dur="1000"/>
                                        <p:tgtEl>
                                          <p:spTgt spid="5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S PGothic"/>
              </a:rPr>
              <a:t>12. </a:t>
            </a: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Jika tidak ada masalah, maka selesailah proses instalasi Ubuntu 8.10 Intrepid Ibex menggunakan CD alternate i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id-ID" sz="2800" spc="-1" strike="noStrike">
                <a:solidFill>
                  <a:srgbClr val="ffffff"/>
                </a:solidFill>
                <a:latin typeface="Arial"/>
                <a:ea typeface="MS PGothic"/>
              </a:rPr>
              <a:t>        </a:t>
            </a: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Pilih </a:t>
            </a:r>
            <a:r>
              <a:rPr b="0" i="1" lang="id-ID" sz="2400" spc="-1" strike="noStrike">
                <a:solidFill>
                  <a:srgbClr val="ffffff"/>
                </a:solidFill>
                <a:latin typeface="Arial"/>
              </a:rPr>
              <a:t>continue</a:t>
            </a: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 dan tekan </a:t>
            </a:r>
            <a:r>
              <a:rPr b="0" i="1" lang="id-ID" sz="2400" spc="-1" strike="noStrike">
                <a:solidFill>
                  <a:srgbClr val="ffffff"/>
                </a:solidFill>
                <a:latin typeface="Arial"/>
              </a:rPr>
              <a:t>enter</a:t>
            </a: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 untuk reboot.</a:t>
            </a: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"/>
          <p:cNvPicPr/>
          <p:nvPr/>
        </p:nvPicPr>
        <p:blipFill>
          <a:blip r:embed="rId1"/>
          <a:stretch/>
        </p:blipFill>
        <p:spPr>
          <a:xfrm>
            <a:off x="1219320" y="2971800"/>
            <a:ext cx="7162560" cy="210816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fill="hold">
                      <p:stCondLst>
                        <p:cond delay="0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7" dur="1000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Tes Formatif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laskan Langkah-langkah </a:t>
            </a:r>
            <a:r>
              <a:rPr b="0" lang="sv-SE" sz="2000" spc="-1" strike="noStrike">
                <a:solidFill>
                  <a:srgbClr val="ffffff"/>
                </a:solidFill>
                <a:latin typeface="Arial"/>
                <a:ea typeface="Calibri"/>
              </a:rPr>
              <a:t>instalasi Linux UBUNTU 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  <a:ea typeface="Calibri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ffffff"/>
                </a:solidFill>
                <a:latin typeface="Arial"/>
                <a:ea typeface="MS Mincho"/>
              </a:rPr>
              <a:t>Bagaimanakah keamanan </a:t>
            </a: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Linux UBUNTU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  <a:ea typeface="MS Mincho"/>
              </a:rPr>
              <a:t> jika dibandingkan dengan window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4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5">
            <a:hlinkClick r:id="" action="ppaction://hlinkshowjump?jump=previousslide"/>
          </p:cNvPr>
          <p:cNvSpPr/>
          <p:nvPr/>
        </p:nvSpPr>
        <p:spPr>
          <a:xfrm>
            <a:off x="832176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6">
            <a:hlinkClick r:id="" action="ppaction://hlinkshowjump?jump=firstslide"/>
          </p:cNvPr>
          <p:cNvSpPr/>
          <p:nvPr/>
        </p:nvSpPr>
        <p:spPr>
          <a:xfrm>
            <a:off x="870732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9"/>
          <p:cNvSpPr/>
          <p:nvPr/>
        </p:nvSpPr>
        <p:spPr>
          <a:xfrm>
            <a:off x="179280" y="6021360"/>
            <a:ext cx="1042920" cy="26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Arial"/>
              </a:rPr>
              <a:t>DE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8" dur="indefinite" restart="never" nodeType="tmRoot">
          <p:childTnLst>
            <p:seq>
              <p:cTn id="1299" dur="indefinite" nodeType="mainSeq">
                <p:childTnLst>
                  <p:par>
                    <p:cTn id="1300" fill="hold">
                      <p:stCondLst>
                        <p:cond delay="0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6" dur="1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2" dur="10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8" dur="1000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siapan Instalasi MS Windows 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Persyaratan Hardwar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sesor Min 300 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M 128 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Disk Free Space 1.5 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-ROM / D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6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Tes Formatif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Apa yang dimaksud dengan Sistem operasi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Sebutkan jenis-jenis sistem operasi berdasarkan layanan (interface) terhadap pengguna, beserta contohnya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5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6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7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5">
            <a:hlinkClick r:id="" action="ppaction://hlinkshowjump?jump=previousslide"/>
          </p:cNvPr>
          <p:cNvSpPr/>
          <p:nvPr/>
        </p:nvSpPr>
        <p:spPr>
          <a:xfrm>
            <a:off x="7964640" y="642312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">
            <a:hlinkClick r:id="" action="ppaction://hlinkshowjump?jump=firstslide"/>
          </p:cNvPr>
          <p:cNvSpPr/>
          <p:nvPr/>
        </p:nvSpPr>
        <p:spPr>
          <a:xfrm>
            <a:off x="8350200" y="642312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7">
            <a:hlinkClick r:id="" action="ppaction://hlinkshowjump?jump=nextslide"/>
          </p:cNvPr>
          <p:cNvSpPr/>
          <p:nvPr/>
        </p:nvSpPr>
        <p:spPr>
          <a:xfrm>
            <a:off x="8736120" y="643572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1752480" y="304920"/>
            <a:ext cx="73915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Melakukan instalasi sistem operasi berbasis graphical user interface (GUI) dan </a:t>
            </a:r>
            <a:r>
              <a:rPr b="1" i="1" lang="sv-SE" sz="3200" spc="-1" strike="noStrike">
                <a:solidFill>
                  <a:srgbClr val="ffffff"/>
                </a:solidFill>
                <a:latin typeface="Arial"/>
              </a:rPr>
              <a:t>command line interface</a:t>
            </a: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 (CL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152280" y="51814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Melaksanakan instalasi sistem operasi berbasis GUI sesuai </a:t>
            </a:r>
            <a:r>
              <a:rPr b="1" i="1" lang="sv-SE" sz="2400" spc="-1" strike="noStrike">
                <a:solidFill>
                  <a:srgbClr val="ffffff"/>
                </a:solidFill>
                <a:latin typeface="Arial"/>
              </a:rPr>
              <a:t>Installation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4">
            <a:hlinkClick r:id="rId2"/>
          </p:cNvPr>
          <p:cNvSpPr/>
          <p:nvPr/>
        </p:nvSpPr>
        <p:spPr>
          <a:xfrm>
            <a:off x="152280" y="6095880"/>
            <a:ext cx="1043280" cy="260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Arial"/>
              </a:rPr>
              <a:t>DE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800"/>
                            </p:stCondLst>
                            <p:childTnLst>
                              <p:par>
                                <p:cTn id="2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300"/>
                            </p:stCondLst>
                            <p:childTnLst>
                              <p:par>
                                <p:cTn id="2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300"/>
                            </p:stCondLst>
                            <p:childTnLst>
                              <p:par>
                                <p:cTn id="2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300"/>
                            </p:stCondLst>
                            <p:childTnLst>
                              <p:par>
                                <p:cTn id="2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16:07:18Z</dcterms:created>
  <dc:creator>MM SMKN 5 MLG</dc:creator>
  <dc:description/>
  <dc:language>en-US</dc:language>
  <cp:lastModifiedBy>RIYAD</cp:lastModifiedBy>
  <dcterms:modified xsi:type="dcterms:W3CDTF">2012-03-07T00:52:56Z</dcterms:modified>
  <cp:revision>63</cp:revision>
  <dc:subject/>
  <dc:title>Melakukan instalasi sistem operasi berbasis graphical user interface (GUI) dan command line interface (CLI) </dc:title>
</cp:coreProperties>
</file>