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png" ContentType="image/png"/>
  <Override PartName="/ppt/media/image1.jpeg" ContentType="image/jpeg"/>
  <Override PartName="/ppt/media/BeatiOmnes04escoI.Sagarraw.wav" ContentType="audio/x-wav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FB2-9B50-4F66-9C97-AC94BA16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389-4C8C-4284-9DFA-E6F8A4E9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C07-20EE-44B3-8041-27BF7C3F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4EE-A75C-460B-BCDF-17BE7ED4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409-4BAF-4370-BE95-CDF11589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1DE-930E-4EAA-A614-958B047F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307-C718-4473-812D-B4DBB658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FC1-F6B8-45A6-8970-E279D165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D76-7E24-47D4-9D27-B061D840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0EF-2C58-4C4C-A1AD-0B0E7C46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A4E-3612-4818-819C-A302E9A7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D895-932B-4E64-9CEA-2A283403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692A-86CF-4DAF-A2D9-29C9BFF71D9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eatiOmnes04escoI.Sagarra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onestirsantbenetmontserrat.com/regina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-1440" y="4403880"/>
            <a:ext cx="9145440" cy="73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100" spc="-1" strike="noStrike">
                <a:solidFill>
                  <a:srgbClr val="ffffff"/>
                </a:solidFill>
                <a:latin typeface="Arial"/>
              </a:rPr>
              <a:t>Escuchando “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Felices los que buscan a Dios</a:t>
            </a:r>
            <a:r>
              <a:rPr b="1" lang="ca-ES" sz="2100" spc="-1" strike="noStrike">
                <a:solidFill>
                  <a:srgbClr val="ffffff"/>
                </a:solidFill>
                <a:latin typeface="Arial"/>
              </a:rPr>
              <a:t>» (Beati omnes) Escolania de Montserrat, 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sentimos la alegría de los Bienaventur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2 Grupo"/>
          <p:cNvGrpSpPr/>
          <p:nvPr/>
        </p:nvGrpSpPr>
        <p:grpSpPr>
          <a:xfrm>
            <a:off x="1116000" y="1109520"/>
            <a:ext cx="7175520" cy="1317600"/>
            <a:chOff x="1116000" y="1109520"/>
            <a:chExt cx="7175520" cy="1317600"/>
          </a:xfrm>
        </p:grpSpPr>
        <p:sp>
          <p:nvSpPr>
            <p:cNvPr id="43" name="1 Rectángulo"/>
            <p:cNvSpPr/>
            <p:nvPr/>
          </p:nvSpPr>
          <p:spPr>
            <a:xfrm>
              <a:off x="1116000" y="1109520"/>
              <a:ext cx="7175520" cy="1317600"/>
            </a:xfrm>
            <a:prstGeom prst="rect">
              <a:avLst/>
            </a:prstGeom>
            <a:solidFill>
              <a:srgbClr val="ff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WordArt 6"/>
            <p:cNvSpPr txBox="1"/>
            <p:nvPr/>
          </p:nvSpPr>
          <p:spPr>
            <a:xfrm>
              <a:off x="1188000" y="1148760"/>
              <a:ext cx="7081560" cy="88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800000"/>
                      </a:gs>
                      <a:gs pos="100000">
                        <a:srgbClr val="ef642d"/>
                      </a:gs>
                    </a:gsLst>
                    <a:lin ang="5400000"/>
                  </a:gradFill>
                  <a:latin typeface="Arial Black"/>
                </a:rPr>
                <a:t>Fiesta de TODOS LOS SANTOS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ef642d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45" name="Text Box 12"/>
          <p:cNvSpPr/>
          <p:nvPr/>
        </p:nvSpPr>
        <p:spPr>
          <a:xfrm>
            <a:off x="5292720" y="0"/>
            <a:ext cx="3851280" cy="855720"/>
          </a:xfrm>
          <a:prstGeom prst="rect">
            <a:avLst/>
          </a:prstGeom>
          <a:solidFill>
            <a:srgbClr val="182662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Recinto de la iglesia de las Bienaventuranz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6 CuadroTexto"/>
          <p:cNvSpPr/>
          <p:nvPr/>
        </p:nvSpPr>
        <p:spPr>
          <a:xfrm>
            <a:off x="4000680" y="203040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0000"/>
                </a:solidFill>
                <a:latin typeface="Arial Black"/>
              </a:rPr>
              <a:t>1 de noviembre de 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1" name="BeatiOmnes04escoI.Sagarr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6 Imagen" descr="encontorns2wp.jpg"/>
          <p:cNvPicPr/>
          <p:nvPr/>
        </p:nvPicPr>
        <p:blipFill>
          <a:blip r:embed="rId1"/>
          <a:stretch/>
        </p:blipFill>
        <p:spPr>
          <a:xfrm>
            <a:off x="1425600" y="0"/>
            <a:ext cx="7718400" cy="51436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0" y="0"/>
            <a:ext cx="2843280" cy="2835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Felices los que son cordiales y sencillos, todo el mundo los a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0" y="2835360"/>
            <a:ext cx="2411280" cy="23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Sin ambiciones,  enriquecen a muchos      </a:t>
            </a:r>
            <a:r>
              <a:rPr b="0" lang="ca-ES" sz="2400" spc="-1" strike="noStrike">
                <a:solidFill>
                  <a:srgbClr val="000000"/>
                </a:solidFill>
                <a:latin typeface="Arial Rounded MT Bold"/>
              </a:rPr>
              <a:t>(2Cor 6: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5 Imagen" descr="nenwp.jpg"/>
          <p:cNvPicPr/>
          <p:nvPr/>
        </p:nvPicPr>
        <p:blipFill>
          <a:blip r:embed="rId2"/>
          <a:stretch/>
        </p:blipFill>
        <p:spPr>
          <a:xfrm>
            <a:off x="4998960" y="1133640"/>
            <a:ext cx="38466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50920" y="627120"/>
            <a:ext cx="8642160" cy="466596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os los que tienen hambre y sed de justicia, porque ellos quedarán saciado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5 Imagen" descr="1d-Sea-of-Galileew.jpg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-7920" y="1957320"/>
            <a:ext cx="3790800" cy="26067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Arial"/>
              </a:rPr>
              <a:t>Bienaventurados los que tienen hambre y sed de ser solidarios con todo el mund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4589640"/>
            <a:ext cx="50767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Ellos solidarizan al mun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6 Imagen" descr="koder-sharing-breadw.jpg"/>
          <p:cNvPicPr/>
          <p:nvPr/>
        </p:nvPicPr>
        <p:blipFill>
          <a:blip r:embed="rId2"/>
          <a:stretch/>
        </p:blipFill>
        <p:spPr>
          <a:xfrm>
            <a:off x="5353200" y="0"/>
            <a:ext cx="37908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468360" y="217440"/>
            <a:ext cx="8099280" cy="4665960"/>
          </a:xfrm>
          <a:prstGeom prst="rect">
            <a:avLst/>
          </a:prstGeom>
          <a:solidFill>
            <a:srgbClr val="00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os los misericordiosos, porque ellos alcanzarán misericordi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6 Imagen" descr="travelguide-feature-mountofbeatitud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0" y="1265400"/>
            <a:ext cx="3419640" cy="2835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Felices los misericordiosos, ellos hacen actual el AMOR misericordioso de Jesú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0" y="4127400"/>
            <a:ext cx="2914560" cy="14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 Unicode MS"/>
              </a:rPr>
              <a:t>Compadecer es "SUFRIR CON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5 Imagen" descr="fillprodig2T.jpg"/>
          <p:cNvPicPr/>
          <p:nvPr/>
        </p:nvPicPr>
        <p:blipFill>
          <a:blip r:embed="rId2"/>
          <a:stretch/>
        </p:blipFill>
        <p:spPr>
          <a:xfrm>
            <a:off x="6229440" y="0"/>
            <a:ext cx="291456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4000" y="214200"/>
            <a:ext cx="8280360" cy="5808960"/>
          </a:xfrm>
          <a:prstGeom prst="rect">
            <a:avLst/>
          </a:prstGeom>
          <a:solidFill>
            <a:srgbClr val="00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os los limpios de corazón, porque ellos verán a Dios.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4 Imagen" descr="9722266.jpg"/>
          <p:cNvPicPr/>
          <p:nvPr/>
        </p:nvPicPr>
        <p:blipFill>
          <a:blip r:embed="rId1"/>
          <a:stretch/>
        </p:blipFill>
        <p:spPr>
          <a:xfrm>
            <a:off x="1874880" y="0"/>
            <a:ext cx="7269120" cy="5143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71280" y="66600"/>
            <a:ext cx="2197080" cy="38286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Dichosos los que van con la cabeza alta, y el corazón limpi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4000680"/>
            <a:ext cx="4067280" cy="10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Recibirán el abrazo interminable de Di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539640" y="679320"/>
            <a:ext cx="8064720" cy="466596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os los que trabajan por la paz, porque ellos se llamarán Hijos de Dios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5 Imagen" descr="bene12wp.jpg"/>
          <p:cNvPicPr/>
          <p:nvPr/>
        </p:nvPicPr>
        <p:blipFill>
          <a:blip r:embed="rId1"/>
          <a:stretch/>
        </p:blipFill>
        <p:spPr>
          <a:xfrm>
            <a:off x="0" y="0"/>
            <a:ext cx="5000760" cy="5143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286760" y="500040"/>
            <a:ext cx="1785960" cy="444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La paz empieza por abrir el corazón a todo, y haciendo del mundo la casa de TO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Trabajar por la paz es vivir con generos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6 Imagen" descr="ABRAHAM2CWp.jpg"/>
          <p:cNvPicPr/>
          <p:nvPr/>
        </p:nvPicPr>
        <p:blipFill>
          <a:blip r:embed="rId2"/>
          <a:stretch/>
        </p:blipFill>
        <p:spPr>
          <a:xfrm>
            <a:off x="4071960" y="500040"/>
            <a:ext cx="3149640" cy="4643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898560" y="217440"/>
            <a:ext cx="7345440" cy="5580360"/>
          </a:xfrm>
          <a:prstGeom prst="rect">
            <a:avLst/>
          </a:prstGeom>
          <a:solidFill>
            <a:srgbClr val="00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os los perseguidos por causa de la justicia, porque de ellos es el reino de los cielo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8" name="6 Flecha abajo"/>
          <p:cNvSpPr/>
          <p:nvPr/>
        </p:nvSpPr>
        <p:spPr>
          <a:xfrm>
            <a:off x="3286080" y="-1230480"/>
            <a:ext cx="109440" cy="123048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3 CuadroTexto"/>
          <p:cNvSpPr/>
          <p:nvPr/>
        </p:nvSpPr>
        <p:spPr>
          <a:xfrm>
            <a:off x="2286000" y="579600"/>
            <a:ext cx="2646360" cy="825480"/>
          </a:xfrm>
          <a:prstGeom prst="rect">
            <a:avLst/>
          </a:prstGeom>
          <a:solidFill>
            <a:srgbClr val="787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glesia de las Bienaventur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73200" y="4589640"/>
            <a:ext cx="7797600" cy="100764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Unidos a los que nos miran desde el cie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0.30444 L 4.16667E-006 -2.77556E-017 E">
                                      <p:cBhvr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7 Imagen" descr="resized_benbo7wt.jpg"/>
          <p:cNvPicPr/>
          <p:nvPr/>
        </p:nvPicPr>
        <p:blipFill>
          <a:blip r:embed="rId1"/>
          <a:stretch/>
        </p:blipFill>
        <p:spPr>
          <a:xfrm>
            <a:off x="3071880" y="500040"/>
            <a:ext cx="6072120" cy="4643640"/>
          </a:xfrm>
          <a:prstGeom prst="rect">
            <a:avLst/>
          </a:prstGeom>
          <a:ln w="0">
            <a:noFill/>
          </a:ln>
        </p:spPr>
      </p:pic>
      <p:pic>
        <p:nvPicPr>
          <p:cNvPr id="94" name="6 Imagen" descr="verurteilungW.jpg"/>
          <p:cNvPicPr/>
          <p:nvPr/>
        </p:nvPicPr>
        <p:blipFill>
          <a:blip r:embed="rId2"/>
          <a:stretch/>
        </p:blipFill>
        <p:spPr>
          <a:xfrm>
            <a:off x="0" y="0"/>
            <a:ext cx="3689280" cy="5143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3643200" y="-20520"/>
            <a:ext cx="5500800" cy="10076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Felices los justos perseguidos por la injusti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164360" y="1143000"/>
            <a:ext cx="1979640" cy="192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Estáis salvando la socie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8"/>
          <p:cNvSpPr/>
          <p:nvPr/>
        </p:nvSpPr>
        <p:spPr>
          <a:xfrm>
            <a:off x="0" y="4743360"/>
            <a:ext cx="41432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esús ante Pilato y el sacerd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826920" y="411120"/>
            <a:ext cx="7490160" cy="4360320"/>
          </a:xfrm>
          <a:prstGeom prst="rect">
            <a:avLst/>
          </a:prstGeom>
          <a:solidFill>
            <a:srgbClr val="00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os vosotros cuando os insulten y os persigan y os calumnien de cualquier modo por mi causa. Estad alegres y contentos, porque vuestra recompensa será grande en el cielo.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6 Imagen" descr="5wp.jpg"/>
          <p:cNvPicPr/>
          <p:nvPr/>
        </p:nvPicPr>
        <p:blipFill>
          <a:blip r:embed="rId1"/>
          <a:stretch/>
        </p:blipFill>
        <p:spPr>
          <a:xfrm>
            <a:off x="3830760" y="588960"/>
            <a:ext cx="3477960" cy="4554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elices todos los abatidos con Cristo, y por Cr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308720" y="571680"/>
            <a:ext cx="1835280" cy="23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También con Él estarán en el cie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8"/>
          <p:cNvSpPr/>
          <p:nvPr/>
        </p:nvSpPr>
        <p:spPr>
          <a:xfrm>
            <a:off x="7358040" y="3286080"/>
            <a:ext cx="167184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ruz en el pináculo del cimborrio de la igl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7 Imagen" descr="2591831.jpg"/>
          <p:cNvPicPr/>
          <p:nvPr/>
        </p:nvPicPr>
        <p:blipFill>
          <a:blip r:embed="rId2"/>
          <a:stretch/>
        </p:blipFill>
        <p:spPr>
          <a:xfrm>
            <a:off x="285840" y="642960"/>
            <a:ext cx="354492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-36360" y="0"/>
            <a:ext cx="918036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84360" y="384120"/>
            <a:ext cx="7848360" cy="4429080"/>
          </a:xfrm>
          <a:prstGeom prst="rect">
            <a:avLst/>
          </a:prstGeom>
          <a:gradFill rotWithShape="0">
            <a:gsLst>
              <a:gs pos="0">
                <a:srgbClr val="dd4b09"/>
              </a:gs>
              <a:gs pos="100000">
                <a:srgbClr val="3a090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332000" y="955800"/>
            <a:ext cx="6553080" cy="3187440"/>
          </a:xfrm>
          <a:prstGeom prst="rect">
            <a:avLst/>
          </a:prstGeom>
          <a:gradFill rotWithShape="0">
            <a:gsLst>
              <a:gs pos="0">
                <a:srgbClr val="dd4b09"/>
              </a:gs>
              <a:gs pos="100000">
                <a:srgbClr val="3a090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1 CuadroTexto"/>
          <p:cNvSpPr/>
          <p:nvPr/>
        </p:nvSpPr>
        <p:spPr>
          <a:xfrm>
            <a:off x="1225440" y="1058760"/>
            <a:ext cx="676620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mo los SANTOS, Señor, queremos dar la vida para promover la FELICIDAD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n este mu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4 Grupo"/>
          <p:cNvGrpSpPr/>
          <p:nvPr/>
        </p:nvGrpSpPr>
        <p:grpSpPr>
          <a:xfrm>
            <a:off x="2340000" y="4062240"/>
            <a:ext cx="6711840" cy="1014480"/>
            <a:chOff x="2340000" y="4062240"/>
            <a:chExt cx="6711840" cy="1014480"/>
          </a:xfrm>
        </p:grpSpPr>
        <p:sp>
          <p:nvSpPr>
            <p:cNvPr id="109" name="Rectangle 5"/>
            <p:cNvSpPr/>
            <p:nvPr/>
          </p:nvSpPr>
          <p:spPr>
            <a:xfrm>
              <a:off x="2340000" y="4062240"/>
              <a:ext cx="6711840" cy="101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"/>
            <p:cNvSpPr/>
            <p:nvPr/>
          </p:nvSpPr>
          <p:spPr>
            <a:xfrm>
              <a:off x="2484000" y="4237200"/>
              <a:ext cx="6481440" cy="79488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nges  de  St. Benet de Montserrat          </a:t>
              </a:r>
              <a:r>
                <a:rPr b="0" lang="es-ES" sz="2200" spc="-1" strike="noStrike" u="sng">
                  <a:solidFill>
                    <a:srgbClr val="ccccff"/>
                  </a:solidFill>
                  <a:uFillTx/>
                  <a:latin typeface="Arial"/>
                  <a:ea typeface="Arial"/>
                  <a:hlinkClick r:id="rId1"/>
                </a:rPr>
                <a:t>www.monestirsantbenetmontserrat.com/regin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Picture 7" descr="C:\Documents and Settings\st benet\Mis documentos\Fotos\SBw.jpg"/>
            <p:cNvPicPr/>
            <p:nvPr/>
          </p:nvPicPr>
          <p:blipFill>
            <a:blip r:embed="rId2"/>
            <a:stretch/>
          </p:blipFill>
          <p:spPr>
            <a:xfrm>
              <a:off x="2772000" y="4323960"/>
              <a:ext cx="642600" cy="31572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343080" y="555480"/>
            <a:ext cx="8458200" cy="4208760"/>
          </a:xfrm>
          <a:prstGeom prst="rect">
            <a:avLst/>
          </a:prstGeom>
          <a:solidFill>
            <a:srgbClr val="00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5,1-12a En aquel tiempo, al ver Jesús el gentío, subió a la montaña, se sentó, y se acercaron sus discípulos; y él se puso a hablar, enseñándoles: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859280" y="4589640"/>
            <a:ext cx="4284720" cy="100764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 Unicode MS"/>
              </a:rPr>
              <a:t>TODO vistas del paraj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4" nodeType="after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5" descr="resized_benaur556w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-20520"/>
            <a:ext cx="9201240" cy="5159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0" y="0"/>
            <a:ext cx="6300720" cy="10990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Arial"/>
              </a:rPr>
              <a:t>Las bienaventuranzas son el resumen de todo el Evangeli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4932360" y="4137120"/>
            <a:ext cx="4219560" cy="10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¿Aprenderemos, pues, a ser FELIC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8"/>
          <p:cNvSpPr/>
          <p:nvPr/>
        </p:nvSpPr>
        <p:spPr>
          <a:xfrm>
            <a:off x="179280" y="4397400"/>
            <a:ext cx="41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xto de las bienaventuranzas (Mosaico bizantino del sit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08000" y="371520"/>
            <a:ext cx="8599320" cy="5425560"/>
          </a:xfrm>
          <a:prstGeom prst="rect">
            <a:avLst/>
          </a:prstGeom>
          <a:solidFill>
            <a:srgbClr val="00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"Dichosos los pobres en el espíritu, porque de ellos es el reino de los cielos.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C:\Users\Montse\Pictures\Pictures\bíblics\ben.tab.prim\banaurances\Vistes aèries\D869_98_722wT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5135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1763640" y="0"/>
            <a:ext cx="7380360" cy="4597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elices los pobres, el Reino de los cielos es su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523800"/>
            <a:ext cx="2627280" cy="329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Somos felices, cuando compartimos lo que somos y lo que tenem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8"/>
          <p:cNvSpPr/>
          <p:nvPr/>
        </p:nvSpPr>
        <p:spPr>
          <a:xfrm>
            <a:off x="0" y="4743360"/>
            <a:ext cx="35701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rial"/>
              </a:rPr>
              <a:t>Pinturas de Sieger Ko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6 Imagen" descr="9557-4w.jpg"/>
          <p:cNvPicPr/>
          <p:nvPr/>
        </p:nvPicPr>
        <p:blipFill>
          <a:blip r:embed="rId2"/>
          <a:stretch/>
        </p:blipFill>
        <p:spPr>
          <a:xfrm>
            <a:off x="5435640" y="500040"/>
            <a:ext cx="3708360" cy="4643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426960" y="793800"/>
            <a:ext cx="8290080" cy="4665960"/>
          </a:xfrm>
          <a:prstGeom prst="rect">
            <a:avLst/>
          </a:prstGeom>
          <a:solidFill>
            <a:srgbClr val="00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os los que lloran, porque ellos serán consolados. 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5 Imagen" descr="cimp.jpg"/>
          <p:cNvPicPr/>
          <p:nvPr/>
        </p:nvPicPr>
        <p:blipFill>
          <a:blip r:embed="rId1"/>
          <a:stretch/>
        </p:blipFill>
        <p:spPr>
          <a:xfrm>
            <a:off x="928800" y="0"/>
            <a:ext cx="7715160" cy="5143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0" y="434880"/>
            <a:ext cx="3571920" cy="374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El duelo y la muerte, vividos con Jesús, son trascendentales; nos hacen poseer, plenamente, lo que hemos perdi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5 Imagen" descr="25417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572080" y="642960"/>
            <a:ext cx="3571920" cy="4500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Felices si llorais con serenidad, el corazón os consolar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0"/>
          <p:cNvSpPr/>
          <p:nvPr/>
        </p:nvSpPr>
        <p:spPr>
          <a:xfrm>
            <a:off x="611280" y="403200"/>
            <a:ext cx="7559640" cy="5425560"/>
          </a:xfrm>
          <a:prstGeom prst="rect">
            <a:avLst/>
          </a:prstGeom>
          <a:solidFill>
            <a:srgbClr val="00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os los humildes, porque ellos heredarán la tierra.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20-10-21T10:42:27Z</dcterms:modified>
  <cp:revision>768</cp:revision>
  <dc:subject/>
  <dc:title>evangeli</dc:title>
</cp:coreProperties>
</file>