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4B8E-EBF2-49E2-84FE-4A27318C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C28F-7C59-4999-8C0D-566FCAC7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42B0-374F-4AE7-A6CC-AE099F37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5FBDE-082C-481F-A0FC-A75E12EA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8C55-4E4D-43DD-A295-DADD6B83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9863-CB6A-40C4-A88E-ADF14C13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3ED2-573F-49C7-9F1D-2038B708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0A2C-5BC4-4F96-9D5C-4EC3EC50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595A-C6FA-4ECC-BD12-CFAD27AA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07EB-139D-44D4-9A2E-54602B33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65D6-C409-46B8-95E7-D42FC022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B5AD-80F1-4D5F-9002-1AF21F24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6416-2F8B-4275-983F-0B6B1EE5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03E2-F07B-4047-9DDE-4E5C377B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E09D-5BD7-4C94-92B4-CA699E10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FF15-E6D3-4C38-A06B-B548BCA1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7C90-ED5A-4F12-9703-4230EF41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F7A7-7D0B-432D-9627-CC99CF71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02DD-C5E0-44C7-BDF5-380A71A8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6A01-B752-4E86-9BFB-D5B576B7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48C4-7928-4670-A30B-040C4CAB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2995-040B-4F07-B7D9-B62ACE35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DAEA-9E6D-4B6F-BEF5-37927A8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15DF-98A3-459D-AD68-B5330A39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2ACD-CE4B-4A85-A3D2-E210726B4F8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1419-26E0-495E-8067-A409238D421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35280" y="260280"/>
            <a:ext cx="532944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7d"/>
                </a:solidFill>
                <a:latin typeface="Agency FB"/>
              </a:rPr>
              <a:t>LE CORBUSIER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688360" cy="42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nologia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incipais obra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927 – Vila Stein – Garches –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929/1931 – Vila Savoye – Poissy-sur-Seine –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947/1952 – Unité d’Habitation – Marselha –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0/1955 – Chapelle Notre Dame du Haut – Ronchamp –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7/1960 – Sainte Marie de La Tourette – Lyon –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Vila Ste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Garches na Fra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4840" y="2811600"/>
            <a:ext cx="3736800" cy="2622240"/>
          </a:xfrm>
          <a:prstGeom prst="rect">
            <a:avLst/>
          </a:prstGeom>
          <a:ln w="0">
            <a:noFill/>
          </a:ln>
        </p:spPr>
      </p:pic>
      <p:pic>
        <p:nvPicPr>
          <p:cNvPr id="134" name="333_01" descr=""/>
          <p:cNvPicPr/>
          <p:nvPr/>
        </p:nvPicPr>
        <p:blipFill>
          <a:blip r:embed="rId2"/>
          <a:stretch/>
        </p:blipFill>
        <p:spPr>
          <a:xfrm>
            <a:off x="4645080" y="2930400"/>
            <a:ext cx="3814560" cy="2405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1628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1341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pontos da nova arquite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ção á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o b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95640" y="2060640"/>
            <a:ext cx="449604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7d"/>
                </a:solidFill>
                <a:latin typeface="Arial"/>
              </a:rPr>
              <a:t>Vila Savoy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, Poissy-sur-Seine, Franç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2271" t="12271" r="12271" b="12271"/>
          <a:stretch/>
        </p:blipFill>
        <p:spPr>
          <a:xfrm>
            <a:off x="2195640" y="2205000"/>
            <a:ext cx="4198680" cy="4203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779280" y="1484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9-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pontos da nova arquite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 sub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o b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78520" y="2441520"/>
            <a:ext cx="338112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Unité d’Habitation, Marselha, Franç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148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7-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11560"/>
            <a:ext cx="539928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é direito baseado na proporção do Modu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 cores primá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has que ressaltam sua horizont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69920" y="1981080"/>
            <a:ext cx="28148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hapelle Notre Dame du Haut, Ronchamp,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347160" cy="4321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23640" y="1459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0-19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s arredond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48320" y="2619360"/>
            <a:ext cx="403848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nte Bibliográf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OESIGER, Willy;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Le Corbusier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; São Paulo: Martins Fontes,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H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LAKE, Peter;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Le Corbusier e o domínio da for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undação Le Corbusier, encontrado em: </a:t>
            </a:r>
            <a:r>
              <a:rPr b="0" lang="pt-PT" sz="2400" spc="-1" strike="noStrike">
                <a:solidFill>
                  <a:srgbClr val="cccce6"/>
                </a:solidFill>
                <a:latin typeface="Arial"/>
              </a:rPr>
              <a:t>http://www.fondationlecorbusier.asso.fr/fondationlc_u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e6"/>
                </a:solidFill>
                <a:latin typeface="Arial"/>
              </a:rPr>
              <a:t>http://www.bauhausnet.com.br/corpo_designers.htm#corbu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e6"/>
                </a:solidFill>
                <a:latin typeface="Arial"/>
              </a:rPr>
              <a:t>http://brasiliavirtual.info/tudo-sobre/le-corbusier</a:t>
            </a:r>
            <a:r>
              <a:rPr b="0" lang="pt-PT" sz="2800" spc="-1" strike="noStrike">
                <a:solidFill>
                  <a:srgbClr val="cccce6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4100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-Edouard Jeanneret, nasceu no dia 6 de outubro de 1887 em La Chaux-de-Fonds, Suíça. Morreu no dia 27 de agosto de 196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formou na escola de artes de La Chaux-de-Fonds como pintor e arquit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266040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ncipais influências</a:t>
            </a:r>
            <a:br>
              <a:rPr sz="36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Vi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iagen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que Le Corbusier fez a várias partes do mun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todas essas viagens ele captou como influências aquilo que considerou essencial e atemporal, reconhecendo em especial os valores da arquitetura clássica greg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43210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Principais vi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à Itá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à Á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à Alemanh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nde entra em contato com Peter Behrens, com quem trabalhará mais tarde, Walter Gropius e Mies Van der Ro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a gré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ara estudar o Partenon e outros edifícios da Grécia Antiga. A forma como os gregos usaram a razão de ouro nos seus trabalhos foi fonte de inspiração para e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ao Ori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que resulta no livro “Voyage d’ Orient”. Ao longo dessa viagem ele irá desenvolver a sua perspectiva pessoal sobre a arte arquitetônica. Os “cinco pontos para uma nova arquitetura” estão claramente influenciados pelas referências orient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à América do Su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24360" y="549360"/>
            <a:ext cx="29512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1360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cola de Arte da sua terra natal foi uma grande influência para Corbu, principalmente durante sua mocidade. Ali foi aluno do professor L’Eplattenier que o estimulou a dedicar-se à arquitet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rt Nouveau, que chegando ao fim abriu as portas ao que Corbu chamaria de Visão Nova, o estilo de uma nova época industrial, ou seja, o desenvolvimento da indústria que tanto o influencio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Josef Hoffman, grande arquiteto do Art Nouveau, para quem trabalhou durante pouquíssim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uguste Perret, o pioneiro do cimento armado, com quem trabalhou durante 15 me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ter Behrens, arquiteto chefe da A.E.G. – uma das maiores empresas alemãs de material elétrico. Corbu trabalhou no escritório de Behrens durante 5 meses e com ele aprenderia a organização técnica e um pouco da Arte da Máqu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ras influê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ísticas Gera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 Corbusier lançou as bases do movimento moderno de características FUNCIONALISTAS. Além disso utilizou em suas obras uma forma arquitetônica baseada nas necessidades hum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s p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predominante da cor bran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es primá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887640" cy="268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36520" y="566100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Centre Le Corbusier, Zurich, Sui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O modu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716000" y="1268280"/>
            <a:ext cx="40388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re 1942 e 1948, Le Corbusier desenvolveu um sistema de medição que ficou conhecido por “Modulor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seado na razão de ouro e nos números de Fibonacci e usando também as dimensões médias humanas (dentro das quais considerou 183 cm como altura standa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odulor é uma sequência de medidas que Le Corbusier usou para encontrar harmonia nas suas composições arquitetôn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pontos da nova arquite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376000"/>
            <a:ext cx="40384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ço jar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las em f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a li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hada li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181400" cy="4608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43000" y="630864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Esboços por Le Corbusier, 19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incipais obras e suas                  característic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48:11Z</dcterms:created>
  <dc:creator>particular</dc:creator>
  <dc:description/>
  <dc:language>en-US</dc:language>
  <cp:lastModifiedBy>particular</cp:lastModifiedBy>
  <dcterms:modified xsi:type="dcterms:W3CDTF">2008-09-05T20:47:28Z</dcterms:modified>
  <cp:revision>6</cp:revision>
  <dc:subject/>
  <dc:title>LE CORBUSIER</dc:title>
</cp:coreProperties>
</file>