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CBBE-ADE1-4DC4-A45C-BD6D9261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60FF-5EB2-4660-8AC3-E3369E9D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92A6-850B-4438-B44C-379A4EBF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1DCE-5CCC-47B7-B5DB-96A55453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F7B0-5FBA-4F12-9282-2ACA205B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844A-F7B5-4EF4-BF09-92F1FAD7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D0AB-9A1E-4E60-82A1-33ECD449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F280-D6A7-4F42-B314-227E02C8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65D9-32D2-4E91-AF8B-AC5EE3EA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7508-5135-4A74-8036-2505731B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E2A4-CC4E-44FC-B2C1-764272E9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0FE5-BF83-4B20-B6B2-19A9EB01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AC14-5344-42EB-B1FC-745F08CA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9C2A-8323-4D10-BCF8-E8CFA63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2887-5599-4234-88C4-FFD43E38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382E-A05F-4D43-B048-99BA585B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CF96-919A-4A4F-8D2E-1C46A239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E0F4-261B-4C31-96EB-0CA4E969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1A81-9195-44E7-8F06-F40B0D16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5A31-4776-4951-AC29-7C262B1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F531-4D25-445E-BBFF-4BCBCF66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F951-111F-45EA-AE64-31E6D09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1633-CD5A-483C-B936-70754E8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307A-AC5A-4E5C-933F-E5656F0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2E5E-BABA-4B13-9245-7EFE2F54D75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EFC6-23E9-436C-83B2-FA1304BAD7E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35280" y="260280"/>
            <a:ext cx="53294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7d"/>
                </a:solidFill>
                <a:latin typeface="Agency FB"/>
              </a:rPr>
              <a:t>LE CORBUSIER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688360" cy="42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nologia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incipais obra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27 – Vila Stein – Garches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29/1931 – Vila Savoye – Poissy-sur-Seine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47/1952 – Unité d’Habitation – Marselha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0/1955 – Chapelle Notre Dame du Haut – Ronchamp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7/1960 – Sainte Marie de La Tourette – Lyon –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Vila Ste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Garches na Franç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4840" y="2811600"/>
            <a:ext cx="3736800" cy="2622240"/>
          </a:xfrm>
          <a:prstGeom prst="rect">
            <a:avLst/>
          </a:prstGeom>
          <a:ln w="0">
            <a:noFill/>
          </a:ln>
        </p:spPr>
      </p:pic>
      <p:pic>
        <p:nvPicPr>
          <p:cNvPr id="134" name="333_01" descr=""/>
          <p:cNvPicPr/>
          <p:nvPr/>
        </p:nvPicPr>
        <p:blipFill>
          <a:blip r:embed="rId2"/>
          <a:stretch/>
        </p:blipFill>
        <p:spPr>
          <a:xfrm>
            <a:off x="4645080" y="2930400"/>
            <a:ext cx="3814560" cy="2405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628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341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pontos da nova arquite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ção áu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o b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44960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7d"/>
                </a:solidFill>
                <a:latin typeface="Arial"/>
              </a:rPr>
              <a:t>Vila Savoy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, Poissy-sur-Seine, Franç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2271" t="12271" r="12271" b="12271"/>
          <a:stretch/>
        </p:blipFill>
        <p:spPr>
          <a:xfrm>
            <a:off x="2195640" y="2205000"/>
            <a:ext cx="4198680" cy="4203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79280" y="148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9-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pontos da nova arquite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 sub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o b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78520" y="2441520"/>
            <a:ext cx="338112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Unité d’Habitation, Marselha, Franç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148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7-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11560"/>
            <a:ext cx="539928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é direito baseado na proporção do Modu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 cores prim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has que ressaltam sua horizont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69920" y="1981080"/>
            <a:ext cx="2814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hapelle Notre Dame du Haut, Ronchamp, F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347160" cy="432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23640" y="1459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0-19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s arredond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8320" y="2619360"/>
            <a:ext cx="403848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nte Bibliográf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OESIGER, Willy;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Le Corbusier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; São Paulo: Martins Fontes,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H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LAKE, Peter;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Le Corbusier e o domínio da for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undação Le Corbusier, encontrado em: </a:t>
            </a:r>
            <a:r>
              <a:rPr b="0" lang="pt-PT" sz="2400" spc="-1" strike="noStrike">
                <a:solidFill>
                  <a:srgbClr val="cccce6"/>
                </a:solidFill>
                <a:latin typeface="Arial"/>
              </a:rPr>
              <a:t>http://www.fondationlecorbusier.asso.fr/fondationlc_u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e6"/>
                </a:solidFill>
                <a:latin typeface="Arial"/>
              </a:rPr>
              <a:t>http://www.bauhausnet.com.br/corpo_designers.htm#corbu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cce6"/>
                </a:solidFill>
                <a:latin typeface="Arial"/>
              </a:rPr>
              <a:t>http://brasiliavirtual.info/tudo-sobre/le-corbusier</a:t>
            </a:r>
            <a:r>
              <a:rPr b="0" lang="pt-PT" sz="2800" spc="-1" strike="noStrike">
                <a:solidFill>
                  <a:srgbClr val="cccce6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4100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les-Edouard Jeanneret, nasceu no dia 6 de outubro de 1887 em La Chaux-de-Fonds, Suíça. Morreu no dia 27 de agosto de 196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formou na escola de artes de La Chaux-de-Fonds como pintor e arquit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266040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ncipais influências</a:t>
            </a:r>
            <a:br>
              <a:rPr sz="36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Vi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iagen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que Le Corbusier fez a várias partes do mun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todas essas viagens ele captou como influências aquilo que considerou essencial e atemporal, reconhecendo em especial os valores da arquitetura clássica greg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3210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Principais vi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à Itá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à Á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à Alemanh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entra em contato com Peter Behrens, com quem trabalhará mais tarde, Walter Gropius e Mies Van der Ro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a gré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ara estudar o Partenon e outros edifícios da Grécia Antiga. A forma como os gregos usaram a razão de ouro nos seus trabalhos foi fonte de inspiração para e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ao Ori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que resulta no livro “Voyage d’ Orient”. Ao longo dessa viagem ele irá desenvolver a sua perspectiva pessoal sobre a arte arquitetônica. Os “cinco pontos para uma nova arquitetura” estão claramente influenciados pelas referências orient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agem à América do Su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24360" y="549360"/>
            <a:ext cx="29512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1360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cola de Arte da sua terra natal foi uma grande influência para Corbu, principalmente durante sua mocidade. Ali foi aluno do professor L’Eplattenier que o estimulou a dedicar-se à arquite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rt Nouveau, que chegando ao fim abriu as portas ao que Corbu chamaria de Visão Nova, o estilo de uma nova época industrial, ou seja, o desenvolvimento da indústria que tanto o influenci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Josef Hoffman, grande arquiteto do Art Nouveau, para quem trabalhou durante pouquíssim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uguste Perret, o pioneiro do cimento armado, com quem trabalhou durante 15 me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ter Behrens, arquiteto chefe da A.E.G. – uma das maiores empresas alemãs de material elétrico. Corbu trabalhou no escritório de Behrens durante 5 meses e com ele aprenderia a organização técnica e um pouco da Arte da Máqu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ras influê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ra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 Corbusier lançou as bases do movimento moderno de características FUNCIONALISTAS. Além disso utilizou em suas obras uma forma arquitetônica baseada nas necessidades hum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s p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predominante da cor bran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es primá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887640" cy="268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36520" y="566100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Centre Le Corbusier, Zurich, Sui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O modu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16000" y="1268280"/>
            <a:ext cx="4038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re 1942 e 1948, Le Corbusier desenvolveu um sistema de medição que ficou conhecido por “Modulor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seado na razão de ouro e nos números de Fibonacci e usando também as dimensões médias humanas (dentro das quais considerou 183 cm como altura standa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odulor é uma sequência de medidas que Le Corbusier usou para encontrar harmonia nas suas composições arquitetôn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pontos da nova arquite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376000"/>
            <a:ext cx="40384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ço jar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las em f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 liv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hada li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181400" cy="4608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43000" y="630864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Esboços por Le Corbusier, 19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incipais obras e suas                  característic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48:11Z</dcterms:created>
  <dc:creator>particular</dc:creator>
  <dc:description/>
  <dc:language>en-US</dc:language>
  <cp:lastModifiedBy>particular</cp:lastModifiedBy>
  <dcterms:modified xsi:type="dcterms:W3CDTF">2008-09-05T20:47:28Z</dcterms:modified>
  <cp:revision>6</cp:revision>
  <dc:subject/>
  <dc:title>LE CORBUSIER</dc:title>
</cp:coreProperties>
</file>