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1FD-E816-4003-B311-193AC584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990-2513-4150-B478-5B06962A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54F-84C7-4DD1-97AB-7FF93089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416-000F-4DF7-996A-A1CA3010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18D-A6AA-48BB-99FC-C2AD2CB9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8AA-C3D5-45BB-9D9D-3FDBC091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DCE-C481-404A-9F56-7977FFCD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2D1-9875-4AAC-B879-3757A8CB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FCD-111F-423E-B331-C81BAD1F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626-AA58-4725-B3A0-0F329F31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5C2-A2AE-410B-8B84-7EDED114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190-7AF1-41BB-9B8A-A2ADA57F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32BB-D404-4967-B5E1-8BF681219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e Taxe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 Budg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e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mbang Ke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429000" y="7621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ied Accelerated Cost Recove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U.S. income tax laws, most assets purchased since 1987 are depreciated using the Modified Accelerated Cost Recovery System (MACR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ystem specifies a recovery period and an accelerated depreciation schedule for all types of ass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arning Objectiv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0640" y="1616040"/>
            <a:ext cx="7750080" cy="22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plain the after-tax effect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sh of disposing of ass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s or Losses on Dis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87280" y="1984320"/>
            <a:ext cx="6764400" cy="20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a piece equipment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$125,000 is sold at the end of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after taking three years of straight-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87280" y="4191120"/>
            <a:ext cx="6764400" cy="63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book val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184400" y="5029200"/>
            <a:ext cx="6764040" cy="63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25,000 – (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$25,000) = $5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5562720" y="4673520"/>
            <a:ext cx="1828800" cy="1828800"/>
          </a:xfrm>
          <a:prstGeom prst="ellipse">
            <a:avLst/>
          </a:prstGeom>
          <a:solidFill>
            <a:srgbClr val="996600"/>
          </a:solidFill>
          <a:ln w="1015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s or Losses on Dis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is sold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re is no gain or loss and so there is no tax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is sold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$50,000, there is  a gain and an additional tax pay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is sold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$50,000, there is     a loss and a tax sav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870160" y="5241240"/>
            <a:ext cx="122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5867280" y="4952880"/>
            <a:ext cx="1295640" cy="129564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arning Objectiv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5120" y="1919160"/>
            <a:ext cx="704196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ute the impact of inf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a capital-budgeting pro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76200" y="2009880"/>
            <a:ext cx="6581880" cy="63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f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279440" y="2649600"/>
            <a:ext cx="6581880" cy="10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decline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ing power of the monetary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279440" y="3746520"/>
            <a:ext cx="6581880" cy="255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ey in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ing is 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of the mi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red rate of return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ed cash inflows and out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ch for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83040" y="3291480"/>
            <a:ext cx="659232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consistency can be achiev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ing an element for inflatio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the minimum desired rat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and in the cash-flow predi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arning Objectiv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90280" y="1615680"/>
            <a:ext cx="7186680" cy="24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the payback model and the accounting rate-of-retur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compare them with the NPV mod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yback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yback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m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yback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ime it will take to recoup, in the form of cash inflows from operations, the initial dollars invested in a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00400" y="4440240"/>
            <a:ext cx="27417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= I ÷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yback Mode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$12,000 is spent for a machine with an estimated useful life of 8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savings of $4,000 in cash outflows are expected from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ayback peri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733920" y="4724280"/>
            <a:ext cx="1225440" cy="1635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914400" y="5181480"/>
            <a:ext cx="731376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I ÷ O = $12,000 ÷ $4,000 = 3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arning Objectiv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90640" y="1616040"/>
            <a:ext cx="6765840" cy="29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 the after-tax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 values of projec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unting Rate-of-Retur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ing rate-of-return (ARR) model expresses a project’s return as the increase in expected average annual operating income divided by the required initial inves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858000" y="4570560"/>
            <a:ext cx="1968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4570560"/>
            <a:ext cx="1020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638360" y="505476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400480" y="4570560"/>
            <a:ext cx="3504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in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an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ng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154200" y="50356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unting Rate-of-Retur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827360" y="1919160"/>
            <a:ext cx="5575320" cy="301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ment is $6,0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life is four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d disposal value i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annual cash in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operations is $2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827360" y="4935600"/>
            <a:ext cx="557532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nnual deprec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unting Rate-of-Retur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12960" y="2467080"/>
            <a:ext cx="722124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6,075 ÷ 4 = $1,518.75, rounded to $1,5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12960" y="3106800"/>
            <a:ext cx="722124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R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12960" y="3746520"/>
            <a:ext cx="722124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 = ($2,000 – $1,519) ÷ $6,075 = 7.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arning Objectiv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95480" y="1919160"/>
            <a:ext cx="7270560" cy="32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oncile the conflict bet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an NPV model for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decision and using 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ome for evaluat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ed performa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62120" y="2716200"/>
            <a:ext cx="795312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way to reconcile any potential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capital budgeting an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is to use a DCF for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ital-budgeting decision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eval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Au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ent survey showed that most large companies conduct a follow-up evaluation of at least some capital-budgeting decisions, often called a post au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st audit focuses on actual versus predicted cash 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arning Objectiv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918800"/>
            <a:ext cx="7315200" cy="33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 how companies ma- ke long-term capital investment decisions and how such decisi-ons can affect the companies’ financial results for years to co-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term Capital Investme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19000" y="2209680"/>
            <a:ext cx="749628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critical to a company’s financial su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822240" y="3276720"/>
            <a:ext cx="7496280" cy="15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discounted cash-flow method 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rs make optimal capital budg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e Taxe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 Budg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990720" y="2209680"/>
            <a:ext cx="7148520" cy="155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example of another typ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 flow that must be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making capital-budgeting deci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3276720" y="4114800"/>
            <a:ext cx="2590560" cy="1219320"/>
          </a:xfrm>
          <a:prstGeom prst="ellipse">
            <a:avLst/>
          </a:prstGeom>
          <a:gradFill rotWithShape="0">
            <a:gsLst>
              <a:gs pos="0">
                <a:srgbClr val="472f18"/>
              </a:gs>
              <a:gs pos="50000">
                <a:srgbClr val="996633"/>
              </a:gs>
              <a:gs pos="100000">
                <a:srgbClr val="472f1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ginal Income Tax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apital budgeting, the relevant tax rate   i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al income tax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tax rate paid on additional amounts of pretax in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reciation Ded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ax purpose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cele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prec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generally allo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cus is on the tax reporting rules, not those for public financial repor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years over which an asset is depreciated for tax purposes is calle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over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reciation Deductions for Capital Budg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ating a fixed asset creates future tax dedu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t value of this deduction depends directly on its specific yearly effects on future income tax pay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5105520" y="4267080"/>
            <a:ext cx="3124080" cy="2208240"/>
            <a:chOff x="5105520" y="4267080"/>
            <a:chExt cx="3124080" cy="2208240"/>
          </a:xfrm>
        </p:grpSpPr>
        <p:pic>
          <p:nvPicPr>
            <p:cNvPr id="56" name="Picture 5" descr=""/>
            <p:cNvPicPr/>
            <p:nvPr/>
          </p:nvPicPr>
          <p:blipFill>
            <a:blip r:embed="rId1"/>
            <a:stretch/>
          </p:blipFill>
          <p:spPr>
            <a:xfrm>
              <a:off x="5105520" y="4267080"/>
              <a:ext cx="312408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6"/>
            <p:cNvSpPr/>
            <p:nvPr/>
          </p:nvSpPr>
          <p:spPr>
            <a:xfrm>
              <a:off x="5195880" y="4311360"/>
              <a:ext cx="2867040" cy="20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reciation Deductions for Capital Budg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601640" y="2101680"/>
            <a:ext cx="5942160" cy="8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sent value is influenc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598760" y="3746520"/>
            <a:ext cx="4113000" cy="82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598760" y="2924280"/>
            <a:ext cx="5027400" cy="82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 method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98760" y="5392800"/>
            <a:ext cx="2286000" cy="82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98760" y="4570560"/>
            <a:ext cx="3198600" cy="82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un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x Effect on Cash Inflows from Depreciation Ded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23080" y="2681640"/>
            <a:ext cx="793332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 expense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nca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ens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is ignored for capital budgeting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n expense for tax purposes and so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cash inflow from income tax sav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x Effec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h Inflows from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65040" y="2090880"/>
            <a:ext cx="6581880" cy="15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 inflow from operations $6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 rate 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65040" y="3949560"/>
            <a:ext cx="7496280" cy="64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fter-tax inflow from oper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63600" y="4952880"/>
            <a:ext cx="8410680" cy="63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60,00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 – tax  rate) = $60,00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6 = $36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06:53:31Z</dcterms:created>
  <dc:creator>http://kuliahku-kampusku.blogspot.com/</dc:creator>
  <dc:description/>
  <dc:language>en-US</dc:language>
  <cp:lastModifiedBy>Bambang Kesit</cp:lastModifiedBy>
  <dcterms:modified xsi:type="dcterms:W3CDTF">2010-02-14T08:04:22Z</dcterms:modified>
  <cp:revision>4</cp:revision>
  <dc:subject/>
  <dc:title>INCOME TAXES AND CAPITAL BUDGETING</dc:title>
</cp:coreProperties>
</file>