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Jim%20Reeves-How%20long%20has%20it%20been.wav" ContentType="audio/x-wav"/>
  <Override PartName="/ppt/media/image2.jpeg" ContentType="image/jpeg"/>
  <Override PartName="/ppt/media/image1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F27D-537F-4471-BC1E-55D0800F3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D765-758A-4E37-B3A9-AC2DAF26D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0261-36E8-452B-9027-04871EB23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275D-C4E1-4C18-89CC-A89E38B4E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26A8E-6E0B-4C00-9420-B69025502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0FC9E-3F4A-49F2-83C9-D5B8AC999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4CB97-5804-40D6-BF46-79635BC50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BC70A-B0C7-4E56-8B79-E6D21A3AC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D1D2E-CAB0-4687-BD42-CC4A97B91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95F56-28BC-4D45-A993-8668C4A55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EA7D2-7841-4FFC-9CF4-6DE937D2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1AA2-ABAB-491C-83BD-DBA567DF0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7F736-ABC9-4314-A4AF-6157F469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9FA4B-B58F-460A-98E2-92FF214A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1EB6C-F6D7-44F6-9861-104F89AEC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7D9A3-1042-458C-832A-12B3F1C79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79244-A2A7-4AFA-9822-E96D98645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DD7D-F4AA-417E-8C36-B1C37252F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336F-D7F8-4B5E-8E15-1B435971A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24C3-1BB4-4F7B-A82C-EF20F1D38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1907-CE9C-473C-A975-8E5D4D594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AFD5-0C00-4BE6-9CBD-CC7A05EA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8E6D-5A65-467B-88F3-126FD91D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B1C4-DD99-42CE-940A-CFE9FFC1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8F369-6BAE-4C2D-8EC0-E597143B83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5598B-84DE-4410-BD98-57398D7A6F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im%20Reeves-How%20long%20has%20it%20been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547640" y="1557360"/>
            <a:ext cx="61930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S’AVONDS VOOR HET SLAPEN GA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do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Arial"/>
              </a:rPr>
              <a:t>Karin REITZMA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7273800" cy="54561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11280" y="549360"/>
            <a:ext cx="7561080" cy="5759280"/>
          </a:xfrm>
          <a:prstGeom prst="rect">
            <a:avLst/>
          </a:prstGeom>
          <a:noFill/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76360" y="1413000"/>
            <a:ext cx="5759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Lucida Calligraphy"/>
              </a:rPr>
              <a:t>Dit gedicht uit mijn kindertij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Lucida Calligraphy"/>
              </a:rPr>
              <a:t>laat mij wete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3000"/>
                            </p:stCondLst>
                            <p:childTnLst>
                              <p:par>
                                <p:cTn id="2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5761080" cy="43117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68360" y="476280"/>
            <a:ext cx="6048360" cy="4608360"/>
          </a:xfrm>
          <a:prstGeom prst="rect">
            <a:avLst/>
          </a:prstGeom>
          <a:noFill/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04000" y="1341360"/>
            <a:ext cx="19432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Lucida Calligraphy"/>
              </a:rPr>
              <a:t>onderzo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Lucida Calligraphy"/>
              </a:rPr>
              <a:t>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Lucida Calligraphy"/>
              </a:rPr>
              <a:t>‘</a:t>
            </a:r>
            <a:r>
              <a:rPr b="0" lang="nl-BE" sz="2400" spc="-1" strike="noStrike">
                <a:solidFill>
                  <a:srgbClr val="ffffff"/>
                </a:solidFill>
                <a:latin typeface="Lucida Calligraphy"/>
              </a:rPr>
              <a:t>s avo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Lucida Calligraphy"/>
              </a:rPr>
              <a:t>af en to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Lucida Calligraphy"/>
              </a:rPr>
              <a:t>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Lucida Calligraphy"/>
              </a:rPr>
              <a:t>gewet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04000" y="476280"/>
            <a:ext cx="2016000" cy="4608360"/>
          </a:xfrm>
          <a:prstGeom prst="rect">
            <a:avLst/>
          </a:prstGeom>
          <a:noFill/>
          <a:ln w="7632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4000"/>
                            </p:stCondLst>
                            <p:childTnLst>
                              <p:par>
                                <p:cTn id="28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3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3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7000"/>
                            </p:stCondLst>
                            <p:childTnLst>
                              <p:par>
                                <p:cTn id="2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3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3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3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3000"/>
                            </p:stCondLst>
                            <p:childTnLst>
                              <p:par>
                                <p:cTn id="3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3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3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6000"/>
                            </p:stCondLst>
                            <p:childTnLst>
                              <p:par>
                                <p:cTn id="3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3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3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9000"/>
                            </p:stCondLst>
                            <p:childTnLst>
                              <p:par>
                                <p:cTn id="3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3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3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900000" y="549360"/>
            <a:ext cx="7272360" cy="54468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340000" y="981000"/>
            <a:ext cx="4464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Arial"/>
              </a:rPr>
              <a:t>Dit w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cccc00"/>
                </a:solidFill>
                <a:latin typeface="Arial"/>
              </a:rPr>
              <a:t>‘</a:t>
            </a:r>
            <a:r>
              <a:rPr b="0" lang="nl-BE" sz="2400" spc="-1" strike="noStrike">
                <a:solidFill>
                  <a:srgbClr val="cccc00"/>
                </a:solidFill>
                <a:latin typeface="Arial"/>
              </a:rPr>
              <a:t>s Avonds voor het slapen ga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Arial"/>
              </a:rPr>
              <a:t>Uit mijn bun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Lucida Calligraphy"/>
              </a:rPr>
              <a:t>“</a:t>
            </a:r>
            <a:r>
              <a:rPr b="0" lang="nl-BE" sz="2400" spc="-1" strike="noStrike">
                <a:solidFill>
                  <a:srgbClr val="ffffff"/>
                </a:solidFill>
                <a:latin typeface="Lucida Calligraphy"/>
              </a:rPr>
              <a:t>uit het leven gegrepen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ffffff"/>
                </a:solidFill>
                <a:latin typeface="Arial"/>
              </a:rPr>
              <a:t>do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ffffff"/>
                </a:solidFill>
                <a:latin typeface="Arial"/>
              </a:rPr>
              <a:t>Karin Reitzman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26920" y="476280"/>
            <a:ext cx="7417080" cy="5616720"/>
          </a:xfrm>
          <a:prstGeom prst="rect">
            <a:avLst/>
          </a:prstGeom>
          <a:noFill/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340000" y="6165720"/>
            <a:ext cx="538812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3000"/>
                            </p:stCondLst>
                            <p:childTnLst>
                              <p:par>
                                <p:cTn id="3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2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2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0"/>
                            </p:stCondLst>
                            <p:childTnLst>
                              <p:par>
                                <p:cTn id="3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2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2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7000"/>
                            </p:stCondLst>
                            <p:childTnLst>
                              <p:par>
                                <p:cTn id="3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3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3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2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2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20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2000" fill="hold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2000" fill="hold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2000" fill="hold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5000"/>
                            </p:stCondLst>
                            <p:childTnLst>
                              <p:par>
                                <p:cTn id="362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3" dur="500" fill="hold"/>
                                        <p:tgtEl>
                                          <p:spTgt spid="1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6440400" cy="4707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95280" y="260280"/>
            <a:ext cx="6697800" cy="4897440"/>
          </a:xfrm>
          <a:prstGeom prst="rect">
            <a:avLst/>
          </a:prstGeom>
          <a:noFill/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236000" y="981000"/>
            <a:ext cx="16556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ffffff"/>
                </a:solidFill>
                <a:latin typeface="Lucida Calligraphy"/>
              </a:rPr>
              <a:t>‘</a:t>
            </a:r>
            <a:r>
              <a:rPr b="0" lang="nl-BE" sz="2400" spc="-1" strike="noStrike">
                <a:solidFill>
                  <a:srgbClr val="ffffff"/>
                </a:solidFill>
                <a:latin typeface="Lucida Calligraphy"/>
              </a:rPr>
              <a:t>t I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Lucida Calligraphy"/>
              </a:rPr>
              <a:t>go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Lucida Calligraphy"/>
              </a:rPr>
              <a:t>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Lucida Calligraphy"/>
              </a:rPr>
              <a:t>‘</a:t>
            </a:r>
            <a:r>
              <a:rPr b="0" lang="nl-BE" sz="2400" spc="-1" strike="noStrike">
                <a:solidFill>
                  <a:srgbClr val="ffffff"/>
                </a:solidFill>
                <a:latin typeface="Lucida Calligraphy"/>
              </a:rPr>
              <a:t>t ei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Lucida Calligraphy"/>
              </a:rPr>
              <a:t>he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Lucida Calligraphy"/>
              </a:rPr>
              <a:t>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Lucida Calligraphy"/>
              </a:rPr>
              <a:t>kij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5445000"/>
            <a:ext cx="65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Lucida Calligraphy"/>
              </a:rPr>
              <a:t>‘</a:t>
            </a:r>
            <a:r>
              <a:rPr b="0" lang="nl-BE" sz="2400" spc="-1" strike="noStrike">
                <a:solidFill>
                  <a:srgbClr val="ffffff"/>
                </a:solidFill>
                <a:latin typeface="Lucida Calligraphy"/>
              </a:rPr>
              <a:t>s avonds voor het slapen gaan ………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5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71640" y="620640"/>
            <a:ext cx="3421080" cy="45608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826920" y="476280"/>
            <a:ext cx="3745080" cy="4897440"/>
          </a:xfrm>
          <a:prstGeom prst="rect">
            <a:avLst/>
          </a:prstGeom>
          <a:noFill/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076720" y="1268280"/>
            <a:ext cx="35276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Lucida Calligraphy"/>
              </a:rPr>
              <a:t>D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Lucida Calligraphy"/>
              </a:rPr>
              <a:t>gedicht u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Lucida Calligraphy"/>
              </a:rPr>
              <a:t>mijn kindertijd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Lucida Calligraphy"/>
              </a:rPr>
              <a:t>blijft mij stee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Lucida Calligraphy"/>
              </a:rPr>
              <a:t>vo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Lucida Calligraphy"/>
              </a:rPr>
              <a:t>d’’o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Lucida Calligraphy"/>
              </a:rPr>
              <a:t>sta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148360" y="549360"/>
            <a:ext cx="3311280" cy="5040360"/>
          </a:xfrm>
          <a:prstGeom prst="ellipse">
            <a:avLst/>
          </a:prstGeom>
          <a:noFill/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4000"/>
                            </p:stCondLst>
                            <p:childTnLst>
                              <p:par>
                                <p:cTn id="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0"/>
                            </p:stCondLst>
                            <p:childTnLst>
                              <p:par>
                                <p:cTn id="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6000"/>
                            </p:stCondLst>
                            <p:childTnLst>
                              <p:par>
                                <p:cTn id="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700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800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900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148360" y="907920"/>
            <a:ext cx="3282840" cy="49197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003640" y="765000"/>
            <a:ext cx="3600720" cy="5185080"/>
          </a:xfrm>
          <a:prstGeom prst="rect">
            <a:avLst/>
          </a:prstGeom>
          <a:noFill/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9640" y="907920"/>
            <a:ext cx="3672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Lucida Calligraphy"/>
              </a:rPr>
              <a:t>Nu vraag ik mi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Lucida Calligraphy"/>
              </a:rPr>
              <a:t>des avonds voor h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Lucida Calligraphy"/>
              </a:rPr>
              <a:t>slapen gaa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0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7735680" cy="58024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39640" y="476280"/>
            <a:ext cx="7993080" cy="6048360"/>
          </a:xfrm>
          <a:prstGeom prst="rect">
            <a:avLst/>
          </a:prstGeom>
          <a:noFill/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24000" y="479736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Lucida Calligraphy"/>
              </a:rPr>
              <a:t>“</a:t>
            </a:r>
            <a:r>
              <a:rPr b="0" lang="nl-BE" sz="2400" spc="-1" strike="noStrike">
                <a:solidFill>
                  <a:srgbClr val="ffffff"/>
                </a:solidFill>
                <a:latin typeface="Lucida Calligraphy"/>
              </a:rPr>
              <a:t>heb ik dit vanda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Lucida Calligraphy"/>
              </a:rPr>
              <a:t>wel gedaan?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258920" y="907920"/>
            <a:ext cx="6440400" cy="48308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116000" y="765000"/>
            <a:ext cx="6769080" cy="5112000"/>
          </a:xfrm>
          <a:prstGeom prst="rect">
            <a:avLst/>
          </a:prstGeom>
          <a:noFill/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6360" y="1197000"/>
            <a:ext cx="187164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Lucida Calligraphy"/>
              </a:rPr>
              <a:t>Heb ik vandaag iemand blij gemaakt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Lucida Calligraphy"/>
              </a:rPr>
              <a:t>of heb ik aan mijn plicht verzaak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3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3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6000"/>
                            </p:stCondLst>
                            <p:childTnLst>
                              <p:par>
                                <p:cTn id="1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3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3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07960" y="324000"/>
            <a:ext cx="8128080" cy="6210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95280" y="189000"/>
            <a:ext cx="8353440" cy="6480000"/>
          </a:xfrm>
          <a:prstGeom prst="rect">
            <a:avLst/>
          </a:prstGeom>
          <a:noFill/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71640" y="549360"/>
            <a:ext cx="6913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9900"/>
                </a:solidFill>
                <a:latin typeface="Lucida Calligraphy"/>
              </a:rPr>
              <a:t>Heb ik vandaag zo van mezelf geno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9900"/>
                </a:solidFill>
                <a:latin typeface="Lucida Calligraphy"/>
              </a:rPr>
              <a:t>dat ik iedereen heb uitgeslot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000"/>
                            </p:stCondLst>
                            <p:childTnLst>
                              <p:par>
                                <p:cTn id="1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3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3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6000"/>
                            </p:stCondLst>
                            <p:childTnLst>
                              <p:par>
                                <p:cTn id="1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3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3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11280" y="1268280"/>
            <a:ext cx="4392360" cy="3888000"/>
          </a:xfrm>
          <a:prstGeom prst="rect">
            <a:avLst/>
          </a:prstGeom>
          <a:noFill/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724360" y="1628640"/>
            <a:ext cx="25927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Lucida Calligraphy"/>
              </a:rPr>
              <a:t>Heb ik vandaag iemand gekrenkt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Lucida Calligraphy"/>
              </a:rPr>
              <a:t>die iemand die om mijn aandacht wenk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580000" y="1268280"/>
            <a:ext cx="2879640" cy="3888000"/>
          </a:xfrm>
          <a:prstGeom prst="rect">
            <a:avLst/>
          </a:prstGeom>
          <a:noFill/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4032360" cy="362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3000"/>
                            </p:stCondLst>
                            <p:childTnLst>
                              <p:par>
                                <p:cTn id="2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619280" y="692280"/>
            <a:ext cx="3744720" cy="5257800"/>
          </a:xfrm>
          <a:prstGeom prst="rect">
            <a:avLst/>
          </a:prstGeom>
          <a:noFill/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620640"/>
            <a:ext cx="18716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Lucida Calligraphy"/>
              </a:rPr>
              <a:t>Heb ik vandaag die zoen gegeve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Lucida Calligraphy"/>
              </a:rPr>
              <a:t>die iets verzacht in het lev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692280"/>
            <a:ext cx="1871640" cy="2449440"/>
          </a:xfrm>
          <a:prstGeom prst="rect">
            <a:avLst/>
          </a:prstGeom>
          <a:noFill/>
          <a:ln w="7632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3500280"/>
            <a:ext cx="1871640" cy="2449800"/>
          </a:xfrm>
          <a:prstGeom prst="rect">
            <a:avLst/>
          </a:prstGeom>
          <a:noFill/>
          <a:ln w="7632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882800" y="836640"/>
            <a:ext cx="3251160" cy="489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3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3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6000"/>
                            </p:stCondLst>
                            <p:childTnLst>
                              <p:par>
                                <p:cTn id="2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7000"/>
                            </p:stCondLst>
                            <p:childTnLst>
                              <p:par>
                                <p:cTn id="2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3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3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7T11:49:48Z</dcterms:created>
  <dc:creator>karin</dc:creator>
  <dc:description/>
  <dc:language>en-US</dc:language>
  <cp:lastModifiedBy>Smets</cp:lastModifiedBy>
  <dcterms:modified xsi:type="dcterms:W3CDTF">2008-10-01T19:43:07Z</dcterms:modified>
  <cp:revision>7</cp:revision>
  <dc:subject/>
  <dc:title>Dia 1</dc:title>
</cp:coreProperties>
</file>