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BF13-B8F1-49B6-85A6-F9BBA1DEDDB9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9B81-AEF4-4AFD-A519-C52A017B095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E972-5752-48A8-A2F6-75C851E64BE7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C989-A74C-4451-94E2-09C1B585E0E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1824120"/>
          </a:xfrm>
          <a:prstGeom prst="rect">
            <a:avLst/>
          </a:prstGeom>
          <a:solidFill>
            <a:srgbClr val="06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5"/>
          <p:cNvSpPr/>
          <p:nvPr/>
        </p:nvSpPr>
        <p:spPr>
          <a:xfrm>
            <a:off x="279360" y="6575400"/>
            <a:ext cx="8515440" cy="0"/>
          </a:xfrm>
          <a:prstGeom prst="line">
            <a:avLst/>
          </a:prstGeom>
          <a:ln w="25560">
            <a:solidFill>
              <a:srgbClr val="06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3200400" y="4292640"/>
            <a:ext cx="5451480" cy="1655280"/>
          </a:xfrm>
          <a:prstGeom prst="rect">
            <a:avLst/>
          </a:prstGeom>
          <a:noFill/>
          <a:ln w="12600">
            <a:solidFill>
              <a:srgbClr val="06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65c64"/>
                </a:solidFill>
                <a:latin typeface="Arial"/>
              </a:rPr>
              <a:t>DIREITO DE FAMÍL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65c64"/>
                </a:solidFill>
                <a:latin typeface="Arial"/>
              </a:rPr>
              <a:t>1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181080" y="2239920"/>
            <a:ext cx="8746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65c64"/>
                </a:solidFill>
                <a:latin typeface="Times New Roman"/>
              </a:rPr>
              <a:t>DIREITO CIVI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8"/>
          <p:cNvSpPr/>
          <p:nvPr/>
        </p:nvSpPr>
        <p:spPr>
          <a:xfrm>
            <a:off x="326880" y="2222640"/>
            <a:ext cx="8515440" cy="0"/>
          </a:xfrm>
          <a:prstGeom prst="line">
            <a:avLst/>
          </a:prstGeom>
          <a:ln w="25560">
            <a:solidFill>
              <a:srgbClr val="06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9"/>
          <p:cNvSpPr/>
          <p:nvPr/>
        </p:nvSpPr>
        <p:spPr>
          <a:xfrm>
            <a:off x="3983040" y="370440"/>
            <a:ext cx="4411800" cy="1068840"/>
          </a:xfrm>
          <a:prstGeom prst="rect">
            <a:avLst/>
          </a:prstGeom>
          <a:solidFill>
            <a:srgbClr val="065c64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pperplate Gothic Bold"/>
              </a:rPr>
              <a:t>Sílvio de Salvo Veno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0" descr="logoAtlas_Gg"/>
          <p:cNvPicPr/>
          <p:nvPr/>
        </p:nvPicPr>
        <p:blipFill>
          <a:blip r:embed="rId2"/>
          <a:stretch/>
        </p:blipFill>
        <p:spPr>
          <a:xfrm>
            <a:off x="600120" y="530280"/>
            <a:ext cx="2055600" cy="8157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6"/>
          <p:cNvPicPr/>
          <p:nvPr/>
        </p:nvPicPr>
        <p:blipFill>
          <a:blip r:embed="rId3"/>
          <a:stretch/>
        </p:blipFill>
        <p:spPr>
          <a:xfrm>
            <a:off x="809640" y="3782880"/>
            <a:ext cx="1782720" cy="251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9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1776240" y="144360"/>
            <a:ext cx="2165400" cy="398880"/>
          </a:xfrm>
          <a:prstGeom prst="rect">
            <a:avLst/>
          </a:prstGeom>
          <a:solidFill>
            <a:srgbClr val="cccc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6. ALIM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3"/>
          <p:cNvSpPr/>
          <p:nvPr/>
        </p:nvSpPr>
        <p:spPr>
          <a:xfrm>
            <a:off x="0" y="0"/>
            <a:ext cx="1636560" cy="59180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4" descr="logoAtlas_BM"/>
          <p:cNvPicPr/>
          <p:nvPr/>
        </p:nvPicPr>
        <p:blipFill>
          <a:blip r:embed="rId2"/>
          <a:stretch/>
        </p:blipFill>
        <p:spPr>
          <a:xfrm>
            <a:off x="50760" y="5175360"/>
            <a:ext cx="1525680" cy="606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5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6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7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187800" y="6547320"/>
            <a:ext cx="5930640" cy="27648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V. V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9"/>
          <p:cNvSpPr/>
          <p:nvPr/>
        </p:nvSpPr>
        <p:spPr>
          <a:xfrm>
            <a:off x="8021520" y="6505560"/>
            <a:ext cx="1055880" cy="26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A78-CD3D-4DDA-8235-1F5F5696AA5C}" type="slidenum">
              <a:rPr b="1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6273720" y="755640"/>
            <a:ext cx="2438640" cy="304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1"/>
          <p:cNvSpPr/>
          <p:nvPr/>
        </p:nvSpPr>
        <p:spPr>
          <a:xfrm>
            <a:off x="635040" y="907920"/>
            <a:ext cx="8077320" cy="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2" descr="6"/>
          <p:cNvPicPr/>
          <p:nvPr/>
        </p:nvPicPr>
        <p:blipFill>
          <a:blip r:embed="rId3"/>
          <a:stretch/>
        </p:blipFill>
        <p:spPr>
          <a:xfrm>
            <a:off x="127080" y="3119400"/>
            <a:ext cx="1380960" cy="1951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1697040" y="1351080"/>
            <a:ext cx="741852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correndo a obrigação alimentar de prática de ato ilícito, ela constitui uma forma de reparação do dan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to à finalidade dos alimentos, podem ser provisionais ou provisórios, objetivando prover a mantença do alimentando e seus dependentes durante o curso do processo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706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to ao tempo, podem ser futuros ou pretéritos, sendo que nosso ordenamento não reconhece alimentos anteriores à citaçã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1986120" y="1452600"/>
            <a:ext cx="688788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limento pode ser sob a forma de pensão periódica ou concessão de hospedagem e sustento do alimentand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ito pessoal e intransferível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rrenunciável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ão há direito de repetição dos alimentos pag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obrigações alimentícias não se compensam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2333520" y="1512720"/>
            <a:ext cx="568512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enhorávei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ão transacionávei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rescritívei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ariáveis conforme a circunstânci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iódic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visívei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6"/>
          <p:cNvSpPr/>
          <p:nvPr/>
        </p:nvSpPr>
        <p:spPr>
          <a:xfrm>
            <a:off x="2071800" y="1481040"/>
            <a:ext cx="66564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 Sujeitos da obrigação alimentíci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rivado do parentesco, o direito à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estação é recíproco entre pais 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ilhos, extensivo a todos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cendentes, recaindo a obriga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s mais próximos em grau, uns em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lta de outros (art. 1.696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2101680" y="1425600"/>
            <a:ext cx="66279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obrigação é divisível, podendo cada um concorrer com parte do valor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falta dos ascendentes, caberá a obrigação aos descendentes, guardada a ordem de sucessão (art. 1.697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mesmo processo, outros alimentantes podem ser chamados a integrar a lide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698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1973160" y="1754280"/>
            <a:ext cx="664056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1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aos filhos menor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forme o art. 1.703, os cônjuge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parados deverão contribuir n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porção de seus recursos par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manutenção dos filh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"/>
          <p:cNvSpPr/>
          <p:nvPr/>
        </p:nvSpPr>
        <p:spPr>
          <a:xfrm>
            <a:off x="2144880" y="1781280"/>
            <a:ext cx="624996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705 refere-se à possibilidade de o filho havido fora do casamento acionar o genitor para obter aliment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s situações do art. 1.705 o juiz pode requerer segredo de justiça a pedido da parte (art. 155, II, CPC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1986120" y="1450800"/>
            <a:ext cx="691668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2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aos filhos maiores, pais e irmã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direito a alimentos dos filh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ores decorre da relação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entesco e não do poder familiar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694 dispõe que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devem atender, inclusive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às necessidades de educaçã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2263680" y="2031840"/>
            <a:ext cx="5815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irmãos, unilaterais ou bilaterais, podem acionar-se reciprocamente para pedir alimentos, não existindo ascendentes ou descendentes em condições de alimentar (art. 1.697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2060640" y="1452600"/>
            <a:ext cx="659772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3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decorrentes do casament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ônjuges devem-se mútu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sistência, na qual se incluem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(art. 1.566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doutrina e a jurisprudênci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rasileira emprestam à pens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cedida na separação judicia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 no divórcio natureza alimentar;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1987560" y="1224000"/>
            <a:ext cx="697536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igualdade de direitos entre os cônjuges, trazida pela Constituição de 1988, permite que o homem venha a pedir alimentos à mulher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limentos côngruos ou civis previstos no art. 1.704,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aput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limentos necessários ou naturais, trazidos pela disciplina do art. 1.704, parágrafo únic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702 traduz a regra geral dos alimentos na separação judicial litigios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1898640" y="1539720"/>
            <a:ext cx="700560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direito a alimentos cessa ao cônjuge alimentando se ele se unir em casamento, união estável ou concubinato (art. 1.708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limentando que se entrega à delinqüência ou à prostituição, por exemplo, pode perder o direito à pensão alimentícia (art. 1.708, parágrafo único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casamento e na união estável devem ser provados a necessidade e demais requisitos da obrigação alimenta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2130480" y="1440000"/>
            <a:ext cx="67737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4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na união estáve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Constituição de 1988 protege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nião sem casamento com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ntidade familiar (art. 226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§ 3</a:t>
            </a:r>
            <a:r>
              <a:rPr b="0" lang="pt-BR" sz="26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nforme o art. 1.724, há causa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e admitem a exclusão e extin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da obrigação alimentar entre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mpanheiros;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2185920" y="1380960"/>
            <a:ext cx="6454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mesma jurisprudência aplicável ao casamento se amolda à união estável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mo toda situação de alimentos, também entre companheiros deve existir necessidade de ser beneficiário de aliment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da mesma forma que no casamento, pode haver renúncia aos alimentos na união estável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1969920" y="1424160"/>
            <a:ext cx="680256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5. Transmissão da obrigação alimenta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obrigação de prestar aliment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corrente do casamento e da uni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ável transmite-se aos herdeiros d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vedor, nos limites das forças d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erança, desde que o credor d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nsão alimentícia não seja herdeir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 falecido (art. 1.700, com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dação dada pelo Projeto 6.960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1957320" y="1209600"/>
            <a:ext cx="703440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6. Conteúdo e condições da prestação alimentíci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necessidade do alimentando e a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sibilidades do alimentante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694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estação alimentícia deve ser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ualizada segundo índice oficia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gularmente estabelecido (art. 1.710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reajustes podem ter como base a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jorações que sofrem os provent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 alimentant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1592280" y="1366920"/>
            <a:ext cx="750888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7. Ação de alimentos. Lei n</a:t>
            </a:r>
            <a:r>
              <a:rPr b="1" lang="pt-BR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5.478/68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ito procedimental sumário especial a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s em que não há necessidade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var a legitimação ativa do alimentand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rito ordinário deve ocorrer para os cas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que a prova da paternidade é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umulada com o pedido de aliment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lei permite a concessão liminar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provisórios, valendo-s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o poder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geral de cautela do juiz para esse fi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6"/>
          <p:cNvSpPr/>
          <p:nvPr/>
        </p:nvSpPr>
        <p:spPr>
          <a:xfrm>
            <a:off x="2157480" y="1481040"/>
            <a:ext cx="61196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7.1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Execução de alimentos. Prisão do deved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isão civil na Constitui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5</a:t>
            </a:r>
            <a:r>
              <a:rPr b="0" lang="pt-BR" sz="26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LXVII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prisão é um meio coercitiv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para o pagamento, mas não 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substitui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1884240" y="1476360"/>
            <a:ext cx="715176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o CPC cuida da execução da prestação alimentícia nos arts. 732 a 735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na execução da sentença da decisão de obrigação alimentícia, o juiz mandará citar o devedor para efetuar o pagamento em três dias, ou justificar o não-pagamento, sob pena de ser decretada sua prisã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s termos do art. 733 do CPC, a cobrança das prestações alimentares será dos últimos três ou no máximo de seis mes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4930920" y="26028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ireito 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Famí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2914560" y="1197000"/>
            <a:ext cx="935280" cy="647640"/>
          </a:xfrm>
          <a:prstGeom prst="ellipse">
            <a:avLst/>
          </a:prstGeom>
          <a:solidFill>
            <a:srgbClr val="dddddd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546200" y="62064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Exoneraçã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1617840" y="285264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Revisã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969840" y="2133720"/>
            <a:ext cx="9352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898560" y="134136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Fixaçã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3778200" y="90756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2482920" y="981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183528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V="1">
            <a:off x="1906560" y="177300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 flipV="1">
            <a:off x="2409840" y="1844280"/>
            <a:ext cx="865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>
            <a:off x="468360" y="404640"/>
            <a:ext cx="41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1"/>
          <p:cNvSpPr/>
          <p:nvPr/>
        </p:nvSpPr>
        <p:spPr>
          <a:xfrm>
            <a:off x="468360" y="40464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4"/>
          <p:cNvSpPr/>
          <p:nvPr/>
        </p:nvSpPr>
        <p:spPr>
          <a:xfrm>
            <a:off x="468360" y="3860640"/>
            <a:ext cx="41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5"/>
          <p:cNvSpPr/>
          <p:nvPr/>
        </p:nvSpPr>
        <p:spPr>
          <a:xfrm>
            <a:off x="4572000" y="40464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5"/>
          <p:cNvSpPr/>
          <p:nvPr/>
        </p:nvSpPr>
        <p:spPr>
          <a:xfrm>
            <a:off x="5651640" y="1125360"/>
            <a:ext cx="2305080" cy="5050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preensão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987640" y="2852640"/>
            <a:ext cx="1871640" cy="865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076720" y="2852640"/>
            <a:ext cx="1871640" cy="865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093080" y="2852640"/>
            <a:ext cx="1871640" cy="865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2"/>
          <p:cNvSpPr/>
          <p:nvPr/>
        </p:nvSpPr>
        <p:spPr>
          <a:xfrm>
            <a:off x="3780000" y="213372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494520" y="306864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tos 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219640" y="2852640"/>
            <a:ext cx="15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eis, normas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utrin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7608960" y="31417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8"/>
          <p:cNvSpPr/>
          <p:nvPr/>
        </p:nvSpPr>
        <p:spPr>
          <a:xfrm>
            <a:off x="3733920" y="1700280"/>
            <a:ext cx="1783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Ação de Aliment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0"/>
          <p:cNvSpPr/>
          <p:nvPr/>
        </p:nvSpPr>
        <p:spPr>
          <a:xfrm>
            <a:off x="4067280" y="2637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2"/>
          <p:cNvSpPr/>
          <p:nvPr/>
        </p:nvSpPr>
        <p:spPr>
          <a:xfrm>
            <a:off x="6804000" y="162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3"/>
          <p:cNvSpPr/>
          <p:nvPr/>
        </p:nvSpPr>
        <p:spPr>
          <a:xfrm>
            <a:off x="406728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4"/>
          <p:cNvSpPr/>
          <p:nvPr/>
        </p:nvSpPr>
        <p:spPr>
          <a:xfrm>
            <a:off x="5940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5"/>
          <p:cNvSpPr/>
          <p:nvPr/>
        </p:nvSpPr>
        <p:spPr>
          <a:xfrm>
            <a:off x="8388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6"/>
          <p:cNvSpPr/>
          <p:nvPr/>
        </p:nvSpPr>
        <p:spPr>
          <a:xfrm>
            <a:off x="826920" y="414972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7"/>
          <p:cNvSpPr/>
          <p:nvPr/>
        </p:nvSpPr>
        <p:spPr>
          <a:xfrm>
            <a:off x="1619280" y="4869000"/>
            <a:ext cx="15127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ipo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8"/>
          <p:cNvSpPr/>
          <p:nvPr/>
        </p:nvSpPr>
        <p:spPr>
          <a:xfrm>
            <a:off x="2987640" y="436572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atureza 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rigaçã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9"/>
          <p:cNvSpPr/>
          <p:nvPr/>
        </p:nvSpPr>
        <p:spPr>
          <a:xfrm>
            <a:off x="4211640" y="4869000"/>
            <a:ext cx="15127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aturez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 Açã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0"/>
          <p:cNvSpPr/>
          <p:nvPr/>
        </p:nvSpPr>
        <p:spPr>
          <a:xfrm>
            <a:off x="5867280" y="4724280"/>
            <a:ext cx="1513080" cy="64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utr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1"/>
          <p:cNvSpPr/>
          <p:nvPr/>
        </p:nvSpPr>
        <p:spPr>
          <a:xfrm>
            <a:off x="4716360" y="407664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2"/>
          <p:cNvSpPr/>
          <p:nvPr/>
        </p:nvSpPr>
        <p:spPr>
          <a:xfrm>
            <a:off x="7451640" y="4724280"/>
            <a:ext cx="1513080" cy="64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3"/>
          <p:cNvSpPr/>
          <p:nvPr/>
        </p:nvSpPr>
        <p:spPr>
          <a:xfrm>
            <a:off x="6588000" y="393372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Jurisprudênc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8"/>
          <p:cNvSpPr/>
          <p:nvPr/>
        </p:nvSpPr>
        <p:spPr>
          <a:xfrm flipH="1">
            <a:off x="2268360" y="3716280"/>
            <a:ext cx="165600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9"/>
          <p:cNvSpPr/>
          <p:nvPr/>
        </p:nvSpPr>
        <p:spPr>
          <a:xfrm flipH="1">
            <a:off x="2555640" y="371628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0"/>
          <p:cNvSpPr/>
          <p:nvPr/>
        </p:nvSpPr>
        <p:spPr>
          <a:xfrm flipH="1">
            <a:off x="3708360" y="3716280"/>
            <a:ext cx="21600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1"/>
          <p:cNvSpPr/>
          <p:nvPr/>
        </p:nvSpPr>
        <p:spPr>
          <a:xfrm>
            <a:off x="3924360" y="3716280"/>
            <a:ext cx="1079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7"/>
          <p:cNvSpPr/>
          <p:nvPr/>
        </p:nvSpPr>
        <p:spPr>
          <a:xfrm flipH="1">
            <a:off x="5580000" y="3716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8"/>
          <p:cNvSpPr/>
          <p:nvPr/>
        </p:nvSpPr>
        <p:spPr>
          <a:xfrm>
            <a:off x="6084720" y="3716280"/>
            <a:ext cx="574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1"/>
          <p:cNvSpPr/>
          <p:nvPr/>
        </p:nvSpPr>
        <p:spPr>
          <a:xfrm flipH="1">
            <a:off x="7308720" y="3716280"/>
            <a:ext cx="648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2"/>
          <p:cNvSpPr/>
          <p:nvPr/>
        </p:nvSpPr>
        <p:spPr>
          <a:xfrm>
            <a:off x="7956720" y="371628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5"/>
          <p:cNvSpPr/>
          <p:nvPr/>
        </p:nvSpPr>
        <p:spPr>
          <a:xfrm>
            <a:off x="6138360" y="260280"/>
            <a:ext cx="2667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ntologia Alim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2117880" y="1409760"/>
            <a:ext cx="66704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1. Introdução. Conceito. Origen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compreensão jurídica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é ampla, abrange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propriamente e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atisfação de outras necessidade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senciais da vida em sociedade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ão há precisão histórica par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r quando a noção alimentíci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ssou a ser conhecid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2133720" y="1679400"/>
            <a:ext cx="640872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época de Justiniano já era conhecida uma obrigação recíproca entre ascendentes e descendente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interesse público no instituto, cabendo ao Estado suprir o papel designado em primeiro lugar aos parent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1913040" y="1407960"/>
            <a:ext cx="7018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2. Pressupostos da obrigação alimenta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oporção das necessidades d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clamante e dos recursos da pesso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rigad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s situações definidas como send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 culpa do alimentando, os aliment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rão apenas os necessário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694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§ 2</a:t>
            </a:r>
            <a:r>
              <a:rPr b="0" lang="pt-BR" sz="26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2205000" y="1727280"/>
            <a:ext cx="6103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obrigação alimentar pode ser extinta quando se altera a situação econômica das partes, admitindo-se sempre a ação revisional de alimentos ou de exoneração (art. 1.699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2117880" y="1407960"/>
            <a:ext cx="65419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3. Modalidades. Característic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694 estatui a obriga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egal de alimentos, derivada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ito de família, do casamento 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 companheirism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limentos podem decorrer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ntade, instituídos em contrat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ratuito ou oneroso e por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stament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0:15:50Z</dcterms:created>
  <dc:creator>Lívia Van Well</dc:creator>
  <dc:description/>
  <dc:language>en-US</dc:language>
  <cp:lastModifiedBy>Virgilio Meireles</cp:lastModifiedBy>
  <dcterms:modified xsi:type="dcterms:W3CDTF">2010-05-10T21:59:29Z</dcterms:modified>
  <cp:revision>466</cp:revision>
  <dc:subject/>
  <dc:title>Direito Civil</dc:title>
</cp:coreProperties>
</file>