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44C5-3748-4265-ACA1-43A38052B4E6}" type="datetime">
              <a:rPr b="0" lang="pt-BR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2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3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ADAB-8754-47C7-86D4-852495DAEE3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384984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6DB8-C578-4621-9EA2-EE21A551D547}" type="datetime">
              <a:rPr b="0" lang="pt-BR" sz="12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2352-7ADA-48D5-98FD-774A36A1E22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f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1824120"/>
          </a:xfrm>
          <a:prstGeom prst="rect">
            <a:avLst/>
          </a:prstGeom>
          <a:solidFill>
            <a:srgbClr val="065c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15"/>
          <p:cNvSpPr/>
          <p:nvPr/>
        </p:nvSpPr>
        <p:spPr>
          <a:xfrm>
            <a:off x="279360" y="6575400"/>
            <a:ext cx="8515440" cy="0"/>
          </a:xfrm>
          <a:prstGeom prst="line">
            <a:avLst/>
          </a:prstGeom>
          <a:ln w="25560">
            <a:solidFill>
              <a:srgbClr val="065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6"/>
          <p:cNvSpPr/>
          <p:nvPr/>
        </p:nvSpPr>
        <p:spPr>
          <a:xfrm>
            <a:off x="3200400" y="4292640"/>
            <a:ext cx="5451480" cy="1655280"/>
          </a:xfrm>
          <a:prstGeom prst="rect">
            <a:avLst/>
          </a:prstGeom>
          <a:noFill/>
          <a:ln w="12600">
            <a:solidFill>
              <a:srgbClr val="065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65c64"/>
                </a:solidFill>
                <a:latin typeface="Arial"/>
              </a:rPr>
              <a:t>DIREITO DE FAMÍLI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65c64"/>
                </a:solidFill>
                <a:latin typeface="Arial"/>
              </a:rPr>
              <a:t>16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181080" y="2239920"/>
            <a:ext cx="874692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065c64"/>
                </a:solidFill>
                <a:latin typeface="Times New Roman"/>
              </a:rPr>
              <a:t>DIREITO CIVIL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8"/>
          <p:cNvSpPr/>
          <p:nvPr/>
        </p:nvSpPr>
        <p:spPr>
          <a:xfrm>
            <a:off x="326880" y="2222640"/>
            <a:ext cx="8515440" cy="0"/>
          </a:xfrm>
          <a:prstGeom prst="line">
            <a:avLst/>
          </a:prstGeom>
          <a:ln w="25560">
            <a:solidFill>
              <a:srgbClr val="065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9"/>
          <p:cNvSpPr/>
          <p:nvPr/>
        </p:nvSpPr>
        <p:spPr>
          <a:xfrm>
            <a:off x="3983040" y="370440"/>
            <a:ext cx="4411800" cy="1068840"/>
          </a:xfrm>
          <a:prstGeom prst="rect">
            <a:avLst/>
          </a:prstGeom>
          <a:solidFill>
            <a:srgbClr val="065c64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opperplate Gothic Bold"/>
              </a:rPr>
              <a:t>Sílvio de Salvo Venos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0" descr="logoAtlas_Gg"/>
          <p:cNvPicPr/>
          <p:nvPr/>
        </p:nvPicPr>
        <p:blipFill>
          <a:blip r:embed="rId2"/>
          <a:stretch/>
        </p:blipFill>
        <p:spPr>
          <a:xfrm>
            <a:off x="600120" y="530280"/>
            <a:ext cx="2055600" cy="8157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1" descr="6"/>
          <p:cNvPicPr/>
          <p:nvPr/>
        </p:nvPicPr>
        <p:blipFill>
          <a:blip r:embed="rId3"/>
          <a:stretch/>
        </p:blipFill>
        <p:spPr>
          <a:xfrm>
            <a:off x="809640" y="3782880"/>
            <a:ext cx="1782720" cy="251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f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9"/>
          <p:cNvSpPr/>
          <p:nvPr/>
        </p:nvSpPr>
        <p:spPr>
          <a:xfrm>
            <a:off x="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1"/>
          <p:cNvSpPr/>
          <p:nvPr/>
        </p:nvSpPr>
        <p:spPr>
          <a:xfrm>
            <a:off x="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2"/>
          <p:cNvSpPr/>
          <p:nvPr/>
        </p:nvSpPr>
        <p:spPr>
          <a:xfrm>
            <a:off x="1776240" y="144360"/>
            <a:ext cx="2165400" cy="398880"/>
          </a:xfrm>
          <a:prstGeom prst="rect">
            <a:avLst/>
          </a:prstGeom>
          <a:solidFill>
            <a:srgbClr val="cccc99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16. ALIMENT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3"/>
          <p:cNvSpPr/>
          <p:nvPr/>
        </p:nvSpPr>
        <p:spPr>
          <a:xfrm>
            <a:off x="0" y="0"/>
            <a:ext cx="1636560" cy="59180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4" descr="logoAtlas_BM"/>
          <p:cNvPicPr/>
          <p:nvPr/>
        </p:nvPicPr>
        <p:blipFill>
          <a:blip r:embed="rId2"/>
          <a:stretch/>
        </p:blipFill>
        <p:spPr>
          <a:xfrm>
            <a:off x="50760" y="5175360"/>
            <a:ext cx="1525680" cy="606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5"/>
          <p:cNvSpPr/>
          <p:nvPr/>
        </p:nvSpPr>
        <p:spPr>
          <a:xfrm>
            <a:off x="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6"/>
          <p:cNvSpPr/>
          <p:nvPr/>
        </p:nvSpPr>
        <p:spPr>
          <a:xfrm>
            <a:off x="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7"/>
          <p:cNvSpPr/>
          <p:nvPr/>
        </p:nvSpPr>
        <p:spPr>
          <a:xfrm>
            <a:off x="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8"/>
          <p:cNvSpPr/>
          <p:nvPr/>
        </p:nvSpPr>
        <p:spPr>
          <a:xfrm>
            <a:off x="3187800" y="6547320"/>
            <a:ext cx="5930640" cy="276480"/>
          </a:xfrm>
          <a:prstGeom prst="rect">
            <a:avLst/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V. V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9"/>
          <p:cNvSpPr/>
          <p:nvPr/>
        </p:nvSpPr>
        <p:spPr>
          <a:xfrm>
            <a:off x="8021520" y="6505560"/>
            <a:ext cx="1055880" cy="26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D5DE-3395-460A-AB3F-0E4EC0626668}" type="slidenum">
              <a:rPr b="1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0"/>
          <p:cNvSpPr/>
          <p:nvPr/>
        </p:nvSpPr>
        <p:spPr>
          <a:xfrm>
            <a:off x="6273720" y="755640"/>
            <a:ext cx="2438640" cy="304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1"/>
          <p:cNvSpPr/>
          <p:nvPr/>
        </p:nvSpPr>
        <p:spPr>
          <a:xfrm>
            <a:off x="635040" y="907920"/>
            <a:ext cx="8077320" cy="0"/>
          </a:xfrm>
          <a:prstGeom prst="line">
            <a:avLst/>
          </a:prstGeom>
          <a:ln w="442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2" descr="6"/>
          <p:cNvPicPr/>
          <p:nvPr/>
        </p:nvPicPr>
        <p:blipFill>
          <a:blip r:embed="rId3"/>
          <a:stretch/>
        </p:blipFill>
        <p:spPr>
          <a:xfrm>
            <a:off x="127080" y="3119400"/>
            <a:ext cx="1380960" cy="1951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6"/>
          <p:cNvSpPr/>
          <p:nvPr/>
        </p:nvSpPr>
        <p:spPr>
          <a:xfrm>
            <a:off x="1697040" y="1351080"/>
            <a:ext cx="7418520" cy="49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ecorrendo a obrigação alimentar de prática de ato ilícito, ela constitui uma forma de reparação do dano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quanto à finalidade dos alimentos, podem ser provisionais ou provisórios, objetivando prover a mantença do alimentando e seus dependentes durante o curso do processo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(art. 1.706)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quanto ao tempo, podem ser futuros ou pretéritos, sendo que nosso ordenamento não reconhece alimentos anteriores à citação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6"/>
          <p:cNvSpPr/>
          <p:nvPr/>
        </p:nvSpPr>
        <p:spPr>
          <a:xfrm>
            <a:off x="1986120" y="1452600"/>
            <a:ext cx="6887880" cy="45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alimento pode ser sob a forma de pensão periódica ou concessão de hospedagem e sustento do alimentando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ito pessoal e intransferível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rrenunciável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ão há direito de repetição dos alimentos pagos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s obrigações alimentícias não se compensam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6"/>
          <p:cNvSpPr/>
          <p:nvPr/>
        </p:nvSpPr>
        <p:spPr>
          <a:xfrm>
            <a:off x="2333520" y="1512720"/>
            <a:ext cx="5685120" cy="36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mpenhoráveis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ão transacionáveis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mprescritíveis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variáveis conforme a circunstância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eriódicos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visívei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6"/>
          <p:cNvSpPr/>
          <p:nvPr/>
        </p:nvSpPr>
        <p:spPr>
          <a:xfrm>
            <a:off x="2071800" y="1481040"/>
            <a:ext cx="6656400" cy="30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16.4. Sujeitos da obrigação alimentíci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erivado do parentesco, o direito à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restação é recíproco entre pais e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filhos, extensivo a todos o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scendentes, recaindo a obrigação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os mais próximos em grau, uns em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falta de outros (art. 1.696)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6"/>
          <p:cNvSpPr/>
          <p:nvPr/>
        </p:nvSpPr>
        <p:spPr>
          <a:xfrm>
            <a:off x="2101680" y="1425600"/>
            <a:ext cx="662796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obrigação é divisível, podendo cada um concorrer com parte do valor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a falta dos ascendentes, caberá a obrigação aos descendentes, guardada a ordem de sucessão (art. 1.697)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o mesmo processo, outros alimentantes podem ser chamados a integrar a lide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(art. 1.698)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6"/>
          <p:cNvSpPr/>
          <p:nvPr/>
        </p:nvSpPr>
        <p:spPr>
          <a:xfrm>
            <a:off x="1973160" y="1754280"/>
            <a:ext cx="6640560" cy="26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16.4.1. </a:t>
            </a: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Alimentos aos filhos menore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nforme o art. 1.703, os cônjuge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parados deverão contribuir na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roporção de seus recursos para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manutenção dos filhos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6"/>
          <p:cNvSpPr/>
          <p:nvPr/>
        </p:nvSpPr>
        <p:spPr>
          <a:xfrm>
            <a:off x="2144880" y="1781280"/>
            <a:ext cx="6249960" cy="26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art. 1.705 refere-se à possibilidade de o filho havido fora do casamento acionar o genitor para obter alimentos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as situações do art. 1.705 o juiz pode requerer segredo de justiça a pedido da parte (art. 155, II, CPC)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6"/>
          <p:cNvSpPr/>
          <p:nvPr/>
        </p:nvSpPr>
        <p:spPr>
          <a:xfrm>
            <a:off x="1986120" y="1450800"/>
            <a:ext cx="691668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16.4.2. </a:t>
            </a: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Alimentos aos filhos maiores, pais e irmão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direito a alimentos dos filho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aiores decorre da relação de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arentesco e não do poder familiar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art. 1.694 dispõe que o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imentos devem atender, inclusive,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às necessidades de educação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6"/>
          <p:cNvSpPr/>
          <p:nvPr/>
        </p:nvSpPr>
        <p:spPr>
          <a:xfrm>
            <a:off x="2263680" y="2031840"/>
            <a:ext cx="5815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s irmãos, unilaterais ou bilaterais, podem acionar-se reciprocamente para pedir alimentos, não existindo ascendentes ou descendentes em condições de alimentar (art. 1.697)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6"/>
          <p:cNvSpPr/>
          <p:nvPr/>
        </p:nvSpPr>
        <p:spPr>
          <a:xfrm>
            <a:off x="2060640" y="1452600"/>
            <a:ext cx="6597720" cy="45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16.4.3. </a:t>
            </a: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Alimentos decorrentes do casament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s cônjuges devem-se mútua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ssistência, na qual se incluem o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imentos (art. 1.566)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doutrina e a jurisprudência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brasileira emprestam à pensão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ncedida na separação judicial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u no divórcio natureza alimentar;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6"/>
          <p:cNvSpPr/>
          <p:nvPr/>
        </p:nvSpPr>
        <p:spPr>
          <a:xfrm>
            <a:off x="1987560" y="1224000"/>
            <a:ext cx="6975360" cy="51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igualdade de direitos entre os cônjuges, trazida pela Constituição de 1988, permite que o homem venha a pedir alimentos à mulher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s alimentos côngruos ou civis previstos no art. 1.704,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caput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s alimentos necessários ou naturais, trazidos pela disciplina do art. 1.704, parágrafo único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art. 1.702 traduz a regra geral dos alimentos na separação judicial litigiosa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6"/>
          <p:cNvSpPr/>
          <p:nvPr/>
        </p:nvSpPr>
        <p:spPr>
          <a:xfrm>
            <a:off x="1898640" y="1539720"/>
            <a:ext cx="7005600" cy="45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direito a alimentos cessa ao cônjuge alimentando se ele se unir em casamento, união estável ou concubinato (art. 1.708)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alimentando que se entrega à delinqüência ou à prostituição, por exemplo, pode perder o direito à pensão alimentícia (art. 1.708, parágrafo único)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o casamento e na união estável devem ser provados a necessidade e demais requisitos da obrigação alimentar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6"/>
          <p:cNvSpPr/>
          <p:nvPr/>
        </p:nvSpPr>
        <p:spPr>
          <a:xfrm>
            <a:off x="2130480" y="1440000"/>
            <a:ext cx="677376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16.4.4. </a:t>
            </a: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Alimentos na união estável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Constituição de 1988 protege a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nião sem casamento como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ntidade familiar (art. 226,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§ 3</a:t>
            </a:r>
            <a:r>
              <a:rPr b="0" lang="pt-BR" sz="26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conforme o art. 1.724, há causa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que admitem a exclusão e extinção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da obrigação alimentar entre o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companheiros;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6"/>
          <p:cNvSpPr/>
          <p:nvPr/>
        </p:nvSpPr>
        <p:spPr>
          <a:xfrm>
            <a:off x="2185920" y="1380960"/>
            <a:ext cx="645480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a mesma jurisprudência aplicável ao casamento se amolda à união estável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como toda situação de alimentos, também entre companheiros deve existir necessidade de ser beneficiário de alimentos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da mesma forma que no casamento, pode haver renúncia aos alimentos na união estável.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6"/>
          <p:cNvSpPr/>
          <p:nvPr/>
        </p:nvSpPr>
        <p:spPr>
          <a:xfrm>
            <a:off x="1969920" y="1424160"/>
            <a:ext cx="680256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16.5. Transmissão da obrigação alimentar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obrigação de prestar alimento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ecorrente do casamento e da união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tável transmite-se aos herdeiros do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evedor, nos limites das forças da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herança, desde que o credor da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ensão alimentícia não seja herdeiro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o falecido (art. 1.700, com a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edação dada pelo Projeto 6.960)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6"/>
          <p:cNvSpPr/>
          <p:nvPr/>
        </p:nvSpPr>
        <p:spPr>
          <a:xfrm>
            <a:off x="1957320" y="1209600"/>
            <a:ext cx="7034400" cy="51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16.6. Conteúdo e condições da prestação alimentíci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necessidade do alimentando e a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ssibilidades do alimentante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(art. 1.694)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prestação alimentícia deve ser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tualizada segundo índice oficial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egularmente estabelecido (art. 1.710)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s reajustes podem ter como base a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ajorações que sofrem os provento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o alimentante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6"/>
          <p:cNvSpPr/>
          <p:nvPr/>
        </p:nvSpPr>
        <p:spPr>
          <a:xfrm>
            <a:off x="1592280" y="1366920"/>
            <a:ext cx="7508880" cy="47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16.7. Ação de alimentos. Lei n</a:t>
            </a:r>
            <a:r>
              <a:rPr b="1" lang="pt-BR" sz="26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 5.478/68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ito procedimental sumário especial ao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asos em que não há necessidade de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rovar a legitimação ativa do alimentando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rito ordinário deve ocorrer para os caso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m que a prova da paternidade é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umulada com o pedido de alimentos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lei permite a concessão liminar de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imentos provisórios, valendo-se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do poder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geral de cautela do juiz para esse fim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6"/>
          <p:cNvSpPr/>
          <p:nvPr/>
        </p:nvSpPr>
        <p:spPr>
          <a:xfrm>
            <a:off x="2157480" y="1481040"/>
            <a:ext cx="611964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16.7.1. </a:t>
            </a: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Execução de alimentos. Prisão do devedor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prisão civil na Constituição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(art. 5</a:t>
            </a:r>
            <a:r>
              <a:rPr b="0" lang="pt-BR" sz="26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, LXVII)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74600" indent="-1074600">
              <a:tabLst>
                <a:tab algn="l" pos="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a prisão é um meio coercitivo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para o pagamento, mas não o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substitui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6"/>
          <p:cNvSpPr/>
          <p:nvPr/>
        </p:nvSpPr>
        <p:spPr>
          <a:xfrm>
            <a:off x="1884240" y="1476360"/>
            <a:ext cx="7151760" cy="45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o CPC cuida da execução da prestação alimentícia nos arts. 732 a 735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na execução da sentença da decisão de obrigação alimentícia, o juiz mandará citar o devedor para efetuar o pagamento em três dias, ou justificar o não-pagamento, sob pena de ser decretada sua prisão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os termos do art. 733 do CPC, a cobrança das prestações alimentares será dos últimos três ou no máximo de seis mese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4"/>
          <p:cNvSpPr/>
          <p:nvPr/>
        </p:nvSpPr>
        <p:spPr>
          <a:xfrm>
            <a:off x="4930920" y="260280"/>
            <a:ext cx="934920" cy="647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ireito 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Famíli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2914560" y="1197000"/>
            <a:ext cx="935280" cy="647640"/>
          </a:xfrm>
          <a:prstGeom prst="ellipse">
            <a:avLst/>
          </a:prstGeom>
          <a:solidFill>
            <a:srgbClr val="dddddd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Alimento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1546200" y="620640"/>
            <a:ext cx="934920" cy="647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Exoneraçã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9"/>
          <p:cNvSpPr/>
          <p:nvPr/>
        </p:nvSpPr>
        <p:spPr>
          <a:xfrm>
            <a:off x="1617840" y="2852640"/>
            <a:ext cx="934920" cy="647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Revisã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3"/>
          <p:cNvSpPr/>
          <p:nvPr/>
        </p:nvSpPr>
        <p:spPr>
          <a:xfrm>
            <a:off x="969840" y="2133720"/>
            <a:ext cx="935280" cy="647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7"/>
          <p:cNvSpPr/>
          <p:nvPr/>
        </p:nvSpPr>
        <p:spPr>
          <a:xfrm>
            <a:off x="898560" y="1341360"/>
            <a:ext cx="934920" cy="647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Fixaçã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3"/>
          <p:cNvSpPr/>
          <p:nvPr/>
        </p:nvSpPr>
        <p:spPr>
          <a:xfrm flipV="1">
            <a:off x="3778200" y="907560"/>
            <a:ext cx="1368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>
            <a:off x="2482920" y="98100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6"/>
          <p:cNvSpPr/>
          <p:nvPr/>
        </p:nvSpPr>
        <p:spPr>
          <a:xfrm>
            <a:off x="1835280" y="1628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7"/>
          <p:cNvSpPr/>
          <p:nvPr/>
        </p:nvSpPr>
        <p:spPr>
          <a:xfrm flipV="1">
            <a:off x="1906560" y="1773000"/>
            <a:ext cx="1224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8"/>
          <p:cNvSpPr/>
          <p:nvPr/>
        </p:nvSpPr>
        <p:spPr>
          <a:xfrm flipV="1">
            <a:off x="2409840" y="1844280"/>
            <a:ext cx="8650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9"/>
          <p:cNvSpPr/>
          <p:nvPr/>
        </p:nvSpPr>
        <p:spPr>
          <a:xfrm>
            <a:off x="468360" y="404640"/>
            <a:ext cx="41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1"/>
          <p:cNvSpPr/>
          <p:nvPr/>
        </p:nvSpPr>
        <p:spPr>
          <a:xfrm>
            <a:off x="468360" y="404640"/>
            <a:ext cx="0" cy="345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4"/>
          <p:cNvSpPr/>
          <p:nvPr/>
        </p:nvSpPr>
        <p:spPr>
          <a:xfrm>
            <a:off x="468360" y="3860640"/>
            <a:ext cx="41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5"/>
          <p:cNvSpPr/>
          <p:nvPr/>
        </p:nvSpPr>
        <p:spPr>
          <a:xfrm>
            <a:off x="4572000" y="404640"/>
            <a:ext cx="0" cy="345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5"/>
          <p:cNvSpPr/>
          <p:nvPr/>
        </p:nvSpPr>
        <p:spPr>
          <a:xfrm>
            <a:off x="5651640" y="1125360"/>
            <a:ext cx="2305080" cy="50508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ompreensão 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987640" y="2852640"/>
            <a:ext cx="1871640" cy="8654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5076720" y="2852640"/>
            <a:ext cx="1871640" cy="8654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093080" y="2852640"/>
            <a:ext cx="1871640" cy="8654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72"/>
          <p:cNvSpPr/>
          <p:nvPr/>
        </p:nvSpPr>
        <p:spPr>
          <a:xfrm>
            <a:off x="3780000" y="2133720"/>
            <a:ext cx="18716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3494520" y="3068640"/>
            <a:ext cx="9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atos 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ocess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5219640" y="2852640"/>
            <a:ext cx="155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Leis, normas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outrin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6"/>
          <p:cNvSpPr/>
          <p:nvPr/>
        </p:nvSpPr>
        <p:spPr>
          <a:xfrm>
            <a:off x="7608960" y="314172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Valo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8"/>
          <p:cNvSpPr/>
          <p:nvPr/>
        </p:nvSpPr>
        <p:spPr>
          <a:xfrm>
            <a:off x="3733920" y="1700280"/>
            <a:ext cx="17838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"/>
              </a:rPr>
              <a:t>Ação de Aliment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0"/>
          <p:cNvSpPr/>
          <p:nvPr/>
        </p:nvSpPr>
        <p:spPr>
          <a:xfrm>
            <a:off x="4067280" y="263700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2"/>
          <p:cNvSpPr/>
          <p:nvPr/>
        </p:nvSpPr>
        <p:spPr>
          <a:xfrm>
            <a:off x="6804000" y="1628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3"/>
          <p:cNvSpPr/>
          <p:nvPr/>
        </p:nvSpPr>
        <p:spPr>
          <a:xfrm>
            <a:off x="4067280" y="2637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4"/>
          <p:cNvSpPr/>
          <p:nvPr/>
        </p:nvSpPr>
        <p:spPr>
          <a:xfrm>
            <a:off x="5940360" y="2637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5"/>
          <p:cNvSpPr/>
          <p:nvPr/>
        </p:nvSpPr>
        <p:spPr>
          <a:xfrm>
            <a:off x="8388360" y="2637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86"/>
          <p:cNvSpPr/>
          <p:nvPr/>
        </p:nvSpPr>
        <p:spPr>
          <a:xfrm>
            <a:off x="826920" y="4149720"/>
            <a:ext cx="1513080" cy="647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t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7"/>
          <p:cNvSpPr/>
          <p:nvPr/>
        </p:nvSpPr>
        <p:spPr>
          <a:xfrm>
            <a:off x="1619280" y="4869000"/>
            <a:ext cx="1512720" cy="647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Tipo 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ocess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88"/>
          <p:cNvSpPr/>
          <p:nvPr/>
        </p:nvSpPr>
        <p:spPr>
          <a:xfrm>
            <a:off x="2987640" y="4365720"/>
            <a:ext cx="1513080" cy="647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Natureza 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brigaçã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89"/>
          <p:cNvSpPr/>
          <p:nvPr/>
        </p:nvSpPr>
        <p:spPr>
          <a:xfrm>
            <a:off x="4211640" y="4869000"/>
            <a:ext cx="1512720" cy="647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Naturez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a Açã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90"/>
          <p:cNvSpPr/>
          <p:nvPr/>
        </p:nvSpPr>
        <p:spPr>
          <a:xfrm>
            <a:off x="5867280" y="4724280"/>
            <a:ext cx="1513080" cy="648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outr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91"/>
          <p:cNvSpPr/>
          <p:nvPr/>
        </p:nvSpPr>
        <p:spPr>
          <a:xfrm>
            <a:off x="4716360" y="4076640"/>
            <a:ext cx="1513080" cy="647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Legislaçã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92"/>
          <p:cNvSpPr/>
          <p:nvPr/>
        </p:nvSpPr>
        <p:spPr>
          <a:xfrm>
            <a:off x="7451640" y="4724280"/>
            <a:ext cx="1513080" cy="648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93"/>
          <p:cNvSpPr/>
          <p:nvPr/>
        </p:nvSpPr>
        <p:spPr>
          <a:xfrm>
            <a:off x="6588000" y="3933720"/>
            <a:ext cx="1513080" cy="647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Jurisprudênc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98"/>
          <p:cNvSpPr/>
          <p:nvPr/>
        </p:nvSpPr>
        <p:spPr>
          <a:xfrm flipH="1">
            <a:off x="2268360" y="3716280"/>
            <a:ext cx="165600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99"/>
          <p:cNvSpPr/>
          <p:nvPr/>
        </p:nvSpPr>
        <p:spPr>
          <a:xfrm flipH="1">
            <a:off x="2555640" y="3716280"/>
            <a:ext cx="13683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0"/>
          <p:cNvSpPr/>
          <p:nvPr/>
        </p:nvSpPr>
        <p:spPr>
          <a:xfrm flipH="1">
            <a:off x="3708360" y="3716280"/>
            <a:ext cx="21600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1"/>
          <p:cNvSpPr/>
          <p:nvPr/>
        </p:nvSpPr>
        <p:spPr>
          <a:xfrm>
            <a:off x="3924360" y="3716280"/>
            <a:ext cx="10792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7"/>
          <p:cNvSpPr/>
          <p:nvPr/>
        </p:nvSpPr>
        <p:spPr>
          <a:xfrm flipH="1">
            <a:off x="5580000" y="371628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8"/>
          <p:cNvSpPr/>
          <p:nvPr/>
        </p:nvSpPr>
        <p:spPr>
          <a:xfrm>
            <a:off x="6084720" y="3716280"/>
            <a:ext cx="5749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1"/>
          <p:cNvSpPr/>
          <p:nvPr/>
        </p:nvSpPr>
        <p:spPr>
          <a:xfrm flipH="1">
            <a:off x="7308720" y="3716280"/>
            <a:ext cx="6480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12"/>
          <p:cNvSpPr/>
          <p:nvPr/>
        </p:nvSpPr>
        <p:spPr>
          <a:xfrm>
            <a:off x="7956720" y="371628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5"/>
          <p:cNvSpPr/>
          <p:nvPr/>
        </p:nvSpPr>
        <p:spPr>
          <a:xfrm>
            <a:off x="6138360" y="260280"/>
            <a:ext cx="266796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Ontologia Aliment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6"/>
          <p:cNvSpPr/>
          <p:nvPr/>
        </p:nvSpPr>
        <p:spPr>
          <a:xfrm>
            <a:off x="2117880" y="1409760"/>
            <a:ext cx="667044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16.1. Introdução. Conceito. Origen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compreensão jurídica de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imentos é ampla, abrange o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imentos propriamente e a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atisfação de outras necessidade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senciais da vida em sociedade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ão há precisão histórica para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efinir quando a noção alimentícia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assou a ser conhecida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6"/>
          <p:cNvSpPr/>
          <p:nvPr/>
        </p:nvSpPr>
        <p:spPr>
          <a:xfrm>
            <a:off x="2133720" y="1679400"/>
            <a:ext cx="6408720" cy="26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a época de Justiniano já era conhecida uma obrigação recíproca entre ascendentes e descendentes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interesse público no instituto, cabendo ao Estado suprir o papel designado em primeiro lugar aos parente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6"/>
          <p:cNvSpPr/>
          <p:nvPr/>
        </p:nvSpPr>
        <p:spPr>
          <a:xfrm>
            <a:off x="1913040" y="1407960"/>
            <a:ext cx="701820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16.2. Pressupostos da obrigação alimentar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proporção das necessidades do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eclamante e dos recursos da pessoa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brigada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as situações definidas como sendo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e culpa do alimentando, os alimento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rão apenas os necessários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(art. 1.694,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§ 2</a:t>
            </a:r>
            <a:r>
              <a:rPr b="0" lang="pt-BR" sz="26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6"/>
          <p:cNvSpPr/>
          <p:nvPr/>
        </p:nvSpPr>
        <p:spPr>
          <a:xfrm>
            <a:off x="2205000" y="1727280"/>
            <a:ext cx="6103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a obrigação alimentar pode ser extinta quando se altera a situação econômica das partes, admitindo-se sempre a ação revisional de alimentos ou de exoneração (art. 1.699)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6"/>
          <p:cNvSpPr/>
          <p:nvPr/>
        </p:nvSpPr>
        <p:spPr>
          <a:xfrm>
            <a:off x="2117880" y="1407960"/>
            <a:ext cx="65419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16.3. Modalidades. Característica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art. 1.694 estatui a obrigação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legal de alimentos, derivada de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ito de família, do casamento e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o companheirismo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s alimentos podem decorrer de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vontade, instituídos em contrato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gratuito ou oneroso e por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estamento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00:15:50Z</dcterms:created>
  <dc:creator>Lívia Van Well</dc:creator>
  <dc:description/>
  <dc:language>en-US</dc:language>
  <cp:lastModifiedBy>Virgilio Meireles</cp:lastModifiedBy>
  <dcterms:modified xsi:type="dcterms:W3CDTF">2010-05-10T21:59:29Z</dcterms:modified>
  <cp:revision>466</cp:revision>
  <dc:subject/>
  <dc:title>Direito Civil</dc:title>
</cp:coreProperties>
</file>