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D94-F9B1-4C9B-A7E6-D0EFF0CD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7F3-6E77-4FD0-9FD6-806C11EB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EDB-A0C0-4F0B-8D2B-3C0B11CF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A55-0D07-4FC5-9DE1-7A318B0A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2ED-350C-4B8D-BC92-5E2F26A0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420-DDC9-4FC1-9E19-91CCFE60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A24-4FA5-462A-926C-FF94FC18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F94-5FB3-4E3B-A55D-72D72519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A37-1310-4CCC-8714-DF8D8613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11C7-0DD4-4243-98A6-1AA0EFC2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40D-A7F9-4755-B41B-2CA619AC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027-61D0-4873-9060-2F1DD0F2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8555-6D3A-404F-B637-5965172E69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image" Target="../media/image6.jpeg"/><Relationship Id="rId4" Type="http://schemas.openxmlformats.org/officeDocument/2006/relationships/slide" Target="slide6.xml"/><Relationship Id="rId5" Type="http://schemas.openxmlformats.org/officeDocument/2006/relationships/image" Target="../media/image6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hyperlink" Target="file:///../../&#1601;&#1607;&#1585;&#1587;%20&#1575;&#1604;&#1578;&#1585;&#1575;&#1606;&#1610;&#1605;.pps" TargetMode="External"/><Relationship Id="rId9" Type="http://schemas.openxmlformats.org/officeDocument/2006/relationships/image" Target="../media/image7.jpeg"/><Relationship Id="rId10" Type="http://schemas.openxmlformats.org/officeDocument/2006/relationships/slide" Target="slide2.xm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80000" y="1125360"/>
            <a:ext cx="504000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قــلـبى بيهتـــــ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بيك يــــا خلاص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بيعلن قدام الدني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أنـــــك مجــــــد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رافــــــــع رأس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مجمــل الكـــــو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فى عينــــــــــــ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620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قلبي بيهت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528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360036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922560" y="1268280"/>
            <a:ext cx="48974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دايمـــا مــــادد لـى يمينــــــ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بتشددنى ومــــــا بتـــرخيـــن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حافظنى فى حـــدقــة عينـــــ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فى قوتى وفى ضعفى حامين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80000" y="1125360"/>
            <a:ext cx="504000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قــلـبى بيهتـــــ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بيك يــــا خلاص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بيعلن قدام الدني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أنـــــك مجــــــد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رافــــــــع رأس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مجمــل الكـــــو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فى عينــــــــــــ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620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قلبي بيهت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528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24360" y="1125360"/>
            <a:ext cx="4895640" cy="496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لما الشكوى تزيد جــوايـ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ن ضعفى ومن خطايـايـ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قاك مليكى محامى معايـ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فى الحال تهرب كل شكاي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67164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780000" y="1125360"/>
            <a:ext cx="504000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قــلـبى بيهتـــــ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بيك يــــا خلاص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بيعلن قدام الدني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أنـــــك مجــــــد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رافــــــــع رأس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مجمــل الكـــــو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فى عينــــــــــــ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620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قلبي بيهت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528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96072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211640" y="1341360"/>
            <a:ext cx="460836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ين يقدر يفصلنى عن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أنت شارتنى بـدم ثمي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عظامى مترقمة عنـد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ين يقـدر يفصلنى ميـ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780000" y="1125360"/>
            <a:ext cx="5040000" cy="504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قــلـبى بيهتـــــ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بيك يــــا خلاص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بيعلن قدام الدني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أنـــــك مجــــــد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رافــــــــع رأس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مجمــل الكـــــو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فى عينــــــــــــ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6207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قلبي بيهت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5287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rId2" action="ppaction://hlinksldjump"/>
          </p:cNvPr>
          <p:cNvSpPr/>
          <p:nvPr/>
        </p:nvSpPr>
        <p:spPr>
          <a:xfrm>
            <a:off x="5364000" y="1413000"/>
            <a:ext cx="374508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لما الشكوي تزي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5364000" y="2433600"/>
            <a:ext cx="374508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مين يقدر يفصل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قلبي بيهتف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Majalla UI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0" action="ppaction://hlinksldjump"/>
          </p:cNvPr>
          <p:cNvSpPr/>
          <p:nvPr/>
        </p:nvSpPr>
        <p:spPr>
          <a:xfrm>
            <a:off x="5364000" y="417600"/>
            <a:ext cx="374508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دايماً مادد ل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2:10:32Z</dcterms:created>
  <dc:creator>naglaa</dc:creator>
  <dc:description/>
  <dc:language>en-US</dc:language>
  <cp:lastModifiedBy>Sp2</cp:lastModifiedBy>
  <dcterms:modified xsi:type="dcterms:W3CDTF">2008-12-20T22:12:38Z</dcterms:modified>
  <cp:revision>61</cp:revision>
  <dc:subject/>
  <dc:title>الشريحة 1</dc:title>
</cp:coreProperties>
</file>