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DCF-7D2D-4613-AB4F-FDE4CBB1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743-E294-4C70-8059-6BEA580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952-CB03-42D2-B5C0-D0B91747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449-46C3-4FEF-AA3E-98ED948A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3E0-525B-4DE3-AACE-BADEF27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5D4-8637-4776-ACFC-EEF8642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B71-DB80-4B18-990B-49A787C9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9E8-F1D2-4D1D-87E3-CA4669A1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CA2-5FF2-48F2-842C-4E650FD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8D6-94CB-41C5-BF2A-6984288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8B6-2DB6-4EC6-BE9C-EAED8B1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661-CC0F-4A6B-86EA-CB9F090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B17-896F-499B-B3AD-3D17810BC3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slide" Target="slide6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7.jpeg"/><Relationship Id="rId10" Type="http://schemas.openxmlformats.org/officeDocument/2006/relationships/slide" Target="slide2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3600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22560" y="1268280"/>
            <a:ext cx="4897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دايمـــا مــــادد لـى يمينـــــ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تشددنى ومــــــا بتـــرخيـــن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حافظنى فى حـــدقــة عينــــ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فى قوتى وفى ضعفى حامين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24360" y="1125360"/>
            <a:ext cx="4895640" cy="49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ما الشكوى تزيد جــوايـ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ن ضعفى ومن خطايـايـ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قاك مليكى محامى معايـ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الحال تهرب كل شكا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7164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96072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11640" y="1341360"/>
            <a:ext cx="4608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ين يقدر يفصلنى عن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أنت شارتنى بـدم ثمي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عظامى مترقمة عنـد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ين يقـدر يفصلنى ميـ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5364000" y="1413000"/>
            <a:ext cx="374508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لما الشكوي تز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5364000" y="2433600"/>
            <a:ext cx="374508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مين يقدر يفصل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قلبي بيهتف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5364000" y="417600"/>
            <a:ext cx="374508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دايماً مادد 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2:10:32Z</dcterms:created>
  <dc:creator>naglaa</dc:creator>
  <dc:description/>
  <dc:language>en-US</dc:language>
  <cp:lastModifiedBy>Sp2</cp:lastModifiedBy>
  <dcterms:modified xsi:type="dcterms:W3CDTF">2008-12-20T22:12:38Z</dcterms:modified>
  <cp:revision>61</cp:revision>
  <dc:subject/>
  <dc:title>الشريحة 1</dc:title>
</cp:coreProperties>
</file>