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87C-674C-41B1-B8CB-8F348CAF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572-A338-4DBF-ABC2-9CEDB46E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AE0-C1EC-4116-8E3A-3073BB89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5DC-BCA0-4709-B08C-932A89EC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C88E-EBD0-4111-891E-E7F0530E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2A4F-1629-4572-96BD-AFB8849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2BE6-4DB2-47C0-8B9F-C9E605CE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FC48-8776-4D98-91F9-E4912E51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80F6-FB83-496B-9663-B19D4930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A05A-30F2-4CA2-9450-EA11E56E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7AD5-A5A6-49DD-851C-7B6B4DB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C0B-147A-46A9-AEA7-E8E8FDA6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D0AE-04F7-428B-A021-0A9A2755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464E-EA91-421C-B619-19B35EA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C053-59B5-47C1-9B00-B1FC01E4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AC98-F2C2-497B-9B14-E752BA55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B909-FBFF-431A-BE40-42A57311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97E-7DE3-44A5-9D26-A8EEB416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1E7-7C56-4F99-B6FF-7D45613F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26D-D9D8-4859-8E38-4BE3631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86A-F6A6-4AB9-8798-747634DD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941-CD65-4793-BFF1-58D3DAD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DDD-7813-4076-B7A4-4F8717E2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6B3-65F8-40FC-8044-08A2CE0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8E93-F5F5-4CEF-9899-5DC15DEF022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A63C-A54E-489C-935F-B4B38F8FFCC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219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Times New Roman"/>
              </a:rPr>
              <a:t>Indien men de wereld vergelijkt met een dorp van 100 inwoners, rekening houdende met alle bestaande volkeren, dan zou dit dorp bestaan uit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852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57 Aziaten - 21 Europeanen - 14 Amerikanen - 8 Afrikan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2800" y="34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52 vrouwen - 48 mann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4080" y="407664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70 niet-blanken - 30 blank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760" y="472428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70 niet-christenen - 30 christen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520" y="53737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89 hetero's - 11 homo'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- 6 personen zouden 59% van de totale wereldrijkdom bezitt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800" y="2276640"/>
            <a:ext cx="70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6 personen zouden de VS-nationaliteit hebb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840" y="270828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80 zouden dakloos zij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3080" y="32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70 zouden analfabeet zij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3680" y="364500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50 zouden afhankelijk zijn van iemand ander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07664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1 zou sterv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1200" y="450864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2 zouden geboren word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0920" y="494172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1 zou een PC hebb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53737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- 1 zou een diploma hebb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10526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Wanneer men de wereld op deze manier bekijkt wordt het duidelijk dat begrip, aanvaarding en studies noodzakelijk zij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00" y="2349360"/>
            <a:ext cx="83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deze morgen bent wakker geworden en je bent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niet ziek, dan ben je gelukkiger dan 1 miljoen mensen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ie in de komende dagen zullen sterve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6880" y="3716280"/>
            <a:ext cx="77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nooit oorlog, eenzaamheid, honger of het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lijden van de gewonden hebt meegemaakt, dan ben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je gelukkiger dan 500 miljoen mensen in de wereld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3600" y="501336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naar de kerk kan gaan zonder je bedreigd te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voelen, zonder gearresteerd te worden of zonder dat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je gedood wordt, dan ben je gelukkiger dan 3 miljard  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mensen in de werel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1773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Indien je eten in de koelkast hebt liggen, je gekleed bent, je een dak en een bed hebt, dan ben je rijk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2000" y="537372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e 8% rijkste mensen van de wereld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3860640"/>
            <a:ext cx="73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een bankrekening hebt, een beetje geld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 je portefeuille of een beetje kleingeld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 een doosje, dan hoor je bij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61360" y="278136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an 75% van de inwoners van de werel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17733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Indien je dit kan lezen, dan ben je dubbel gezegend, want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7000" y="287820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1. Iemand heeft aan jou gedach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3800" y="3645000"/>
            <a:ext cx="57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2. Je hoort niet bij de 2 miljard mensen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ie niet kunnen lez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61440" y="465300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3. En ... je hebt een PC!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Ooit heeft iemand gezegd 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werk -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alsof je geen geld nodig had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ans -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alsof niemand naar je aan het kijken is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zing - 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alsof niemand naar je aan het luisteren i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heb lief - alsof niemand je ooit gekwetst heeft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leef - 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alsof het Paradijs hier, op aarde, wa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  <a:ea typeface="Arial"/>
              </a:rPr>
              <a:t>Het is de internationale week van de vriendschap. Stuur deze mail naar al je vrienden en andere personen die je belangrijk vindt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160" y="256536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Indien je dit niet doorstuurt,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dan zal er absoluut NIETS gebeure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77160" y="501336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249"/>
                </a:solidFill>
                <a:latin typeface="Comic Sans MS"/>
              </a:rPr>
              <a:t>glimlach ontlokken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8960" y="4005360"/>
            <a:ext cx="51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Maar, indien je dit wel doorstuurt, </a:t>
            </a:r>
            <a:br>
              <a:rPr sz="2400"/>
            </a:br>
            <a:r>
              <a:rPr b="0" lang="nl-BE" sz="2400" spc="-1" strike="noStrike">
                <a:solidFill>
                  <a:srgbClr val="5b5249"/>
                </a:solidFill>
                <a:latin typeface="Comic Sans MS"/>
              </a:rPr>
              <a:t>zal je misschien iemand e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9:20:02Z</dcterms:created>
  <dc:creator>nancy</dc:creator>
  <dc:description/>
  <dc:language>en-US</dc:language>
  <cp:lastModifiedBy>Smets</cp:lastModifiedBy>
  <dcterms:modified xsi:type="dcterms:W3CDTF">2008-08-24T07:16:21Z</dcterms:modified>
  <cp:revision>14</cp:revision>
  <dc:subject/>
  <dc:title>PowerPoint Presentation</dc:title>
</cp:coreProperties>
</file>