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3F1-502F-40F2-98CE-1230CB7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9BF-770C-4CCD-B2C5-7D29833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F1A-A8BB-4CAA-8E93-E53C2127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2C3-6AEB-4F94-9CCA-8731441F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82CE-E2F0-47C6-9331-516CD0E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D90-D4BE-4828-862A-DD78F04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2921-A9CB-4A51-A705-27E720C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ED63-4B19-4E10-A435-7BB2186A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3976-4F9D-4379-BE94-DBBFA62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D663-24E9-4CB0-88F7-528C536B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C32F-BB16-44DD-A297-A240BB0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2E6-521D-4F9E-AB7C-31A2C3F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371C-ED8F-46A7-9F2B-1083013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FC8B-5DCF-451D-A19C-8E12290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1811-430B-43A8-B217-48886C6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5038-666E-4A48-894A-93CB87C7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B6C7-2540-4B50-A3B2-1E300BC1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CB0-9E13-4540-9B29-63DAD5D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737-4657-4F7A-AB5D-AD84EBB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768-416D-487C-8B6B-93CB466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A96-7356-475E-8365-910E753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0D5-AF94-4CB3-AF46-EFB518C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AA5-783B-41BA-952B-ECA8B16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B89-7533-4E25-820C-1873091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49ED-EC62-416D-A2E2-0F31058D239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20AB-BF7E-426E-BECF-C979F45232F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Times New Roman"/>
              </a:rPr>
              <a:t>Indien men de wereld vergelijkt met een dorp van 100 inwoners, rekening houdende met alle bestaande volkeren, dan zou dit dorp bestaan uit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852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7 Aziaten - 21 Europeanen - 14 Amerikanen - 8 Afrikan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800" y="34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2 vrouwen - 48 mann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4080" y="407664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niet-blanken - 30 blank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760" y="472428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niet-christenen - 30 christen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520" y="53737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89 hetero's - 11 homo'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- 6 personen zouden 59% van de totale wereldrijkdom bezitt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800" y="2276640"/>
            <a:ext cx="70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6 personen zouden de VS-nationaliteit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840" y="27082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80 zouden dakloos zij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3080" y="32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zouden analfabeet zij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3680" y="364500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0 zouden afhankelijk zijn van iemand ander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0766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sterv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200" y="450864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2 zouden geboren word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0920" y="49417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een PC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5373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een diploma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10526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Wanneer men de wereld op deze manier bekijkt wordt het duidelijk dat begrip, aanvaarding en studies noodzakelijk zij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00" y="2349360"/>
            <a:ext cx="83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deze morgen bent wakker geworden en je ben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niet ziek, dan ben je gelukkiger dan 1 miljoen mens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ie in de komende dagen zullen sterve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880" y="371628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nooit oorlog, eenzaamheid, honger of he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lijden van de gewonden hebt meegemaakt, dan b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je gelukkiger dan 500 miljoen mensen in de werel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600" y="501336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naar de kerk kan gaan zonder je bedreigd te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voelen, zonder gearresteerd te worden of zonder da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je gedood wordt, dan ben je gelukkiger dan 3 miljard  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mensen in de werel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773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Indien je eten in de koelkast hebt liggen, je gekleed bent, je een dak en een bed hebt, dan ben je rij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2000" y="537372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e 8% rijkste mensen van de werel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3860640"/>
            <a:ext cx="73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een bankrekening hebt, een beetje geld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 je portefeuille of een beetje kleingeld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 een doosje, dan hoor je bij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1360" y="278136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 75% van de inwoners van de were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7733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Indien je dit kan lezen, dan ben je dubbel gezegend, want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7000" y="287820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1. Iemand heeft aan jou gedach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3800" y="3645000"/>
            <a:ext cx="57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2. Je hoort niet bij de 2 miljard mens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ie niet kunnen lez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1440" y="46530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3. En ... je hebt een PC!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Ooit heeft iemand gezegd 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werk -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je geen geld nodig had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s -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niemand naar je aan het kijken is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zing - 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niemand naar je aan het luisteren i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heb lief - alsof niemand je ooit gekwetst heeft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leef - 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het Paradijs hier, op aarde, w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Het is de internationale week van de vriendschap. Stuur deze mail naar al je vrienden en andere personen die je belangrijk vindt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160" y="256536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dit niet doorstuurt,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 zal er absoluut NIETS gebeure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77160" y="501336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249"/>
                </a:solidFill>
                <a:latin typeface="Comic Sans MS"/>
              </a:rPr>
              <a:t>glimlach ontlokken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8960" y="4005360"/>
            <a:ext cx="51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Maar, indien je dit wel doorstuurt,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zal je misschien iemand e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9:20:02Z</dcterms:created>
  <dc:creator>nancy</dc:creator>
  <dc:description/>
  <dc:language>en-US</dc:language>
  <cp:lastModifiedBy>Smets</cp:lastModifiedBy>
  <dcterms:modified xsi:type="dcterms:W3CDTF">2008-08-24T07:16:21Z</dcterms:modified>
  <cp:revision>14</cp:revision>
  <dc:subject/>
  <dc:title>PowerPoint Presentation</dc:title>
</cp:coreProperties>
</file>